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151-E859-4530-A9C7-A0EFE936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1EE-4F41-4B5E-9048-963DC156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7B5-C66A-49C8-8466-2520BE29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228-4B9A-43AD-9928-2F5BAFD5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F63-1BAE-43CB-AB90-9E7FBA24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647-BDD4-491B-9A1A-1961F4A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0B5-AA1E-4BF7-8B7E-070D602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DE4-DBDD-4FBF-9446-91CF932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208-BA22-49E9-B97F-78A883DD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716-D6F8-4C19-B989-6CFEDA7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8D2-0E4C-4AE2-8053-C4ED8B6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27A-7BF9-4F93-A5BD-90C5603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5BC-9A79-463D-B50F-292D965A2F1F}" type="datetime">
              <a:rPr b="1" lang="de-DE" sz="1200" spc="-1" strike="noStrike">
                <a:solidFill>
                  <a:srgbClr val="000099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86000" y="65152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Bildungsstandards und Fortbild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97AF-8B07-495D-AED5-77A7DB34BF68}" type="slidenum">
              <a:rPr b="1" lang="de-DE" sz="12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24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816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152280"/>
          <a:ext cx="226692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280"/>
                    <a:ext cx="22669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286000" y="22860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Institut zur Qualitätsentwicklung im Bildungswesen (IQ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Verdana"/>
              </a:rPr>
              <a:t>Wissenschaftliche Einrichtung der Länder der Bundesrepublik Deutschland</a:t>
            </a: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967520" y="0"/>
            <a:ext cx="94788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349360"/>
            <a:ext cx="8763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in der Bundesrepublik und ihre Bedeutung für die Schul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und Unterrichts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rof. Dr. Olaf Kö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stitut zur Qualitätsentwicklung im Bildungswesen (IQB)</a:t>
            </a:r>
            <a:r>
              <a:rPr b="1" lang="de-DE" sz="2000" spc="-1" strike="noStrike">
                <a:solidFill>
                  <a:srgbClr val="000099"/>
                </a:solidFill>
                <a:latin typeface="Lucida Console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A86-0ADE-4FF4-83B5-D16E7F6EC0F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1FB03-D4EF-45C4-9777-B9DD04FF0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10065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rbeitslosigkeitsrisiko in ausgewählten Ländern nach Leseverständ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2019240"/>
          <a:ext cx="76201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19240"/>
                    <a:ext cx="76201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479-5AA3-4667-B68B-27B1C265B8B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2F373-CD20-46EF-9274-68C36B9752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Struktur des Kerncurriculums: </a:t>
            </a:r>
            <a:br>
              <a:rPr sz="28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odi der Welterfahrung und Basiskompet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68360" y="2019240"/>
            <a:ext cx="8085240" cy="1686240"/>
            <a:chOff x="468360" y="2019240"/>
            <a:chExt cx="8085240" cy="1686240"/>
          </a:xfrm>
        </p:grpSpPr>
        <p:sp>
          <p:nvSpPr>
            <p:cNvPr id="72" name=""/>
            <p:cNvSpPr/>
            <p:nvPr/>
          </p:nvSpPr>
          <p:spPr>
            <a:xfrm>
              <a:off x="2706840" y="2036880"/>
              <a:ext cx="5802120" cy="326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32280" y="210348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Times New Roman"/>
                </a:rPr>
                <a:t>Basale Spr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80960" y="2103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27400" y="2103480"/>
              <a:ext cx="421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und Selbstregulationskompetenzen (Kulturwerkzeug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78480" y="2103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6600" y="2036880"/>
              <a:ext cx="30240" cy="325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08960" y="2036880"/>
              <a:ext cx="30240" cy="325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360" y="2019240"/>
              <a:ext cx="1440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360" y="201924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2760" y="201924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2760" y="2035080"/>
              <a:ext cx="2179440" cy="1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2200" y="2035080"/>
              <a:ext cx="1440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2200" y="201924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76600" y="2019240"/>
              <a:ext cx="58626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6600" y="2035080"/>
              <a:ext cx="5862600" cy="1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39200" y="2019240"/>
              <a:ext cx="1440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39200" y="201924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360" y="2036880"/>
              <a:ext cx="14400" cy="325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2200" y="2036880"/>
              <a:ext cx="14400" cy="325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39200" y="2036880"/>
              <a:ext cx="14400" cy="325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880" y="2036880"/>
              <a:ext cx="2008080" cy="392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3840" y="2232000"/>
              <a:ext cx="19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Modi der Welterfahru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3880" y="2428920"/>
              <a:ext cx="200808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4920" y="2430360"/>
              <a:ext cx="106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(Kanonisch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3880" y="2625840"/>
              <a:ext cx="200808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3840" y="2629080"/>
              <a:ext cx="162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Orientierungswiss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4880" y="262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31960" y="2036880"/>
              <a:ext cx="30240" cy="78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3880" y="2824200"/>
              <a:ext cx="2038320" cy="11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06840" y="237960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07560" y="2382840"/>
              <a:ext cx="130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Beherrschung de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6840" y="256536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6840" y="2568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Verkehrsspra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7660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8628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76600" y="2751120"/>
              <a:ext cx="133992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0800" y="237960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62240" y="238284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Mathematis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76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0800" y="2565360"/>
              <a:ext cx="12794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2600" y="2568600"/>
              <a:ext cx="1171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rungskompeten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0524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056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0560" y="2751120"/>
              <a:ext cx="133992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5120" y="2379600"/>
              <a:ext cx="108576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6560" y="238284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Fremdsprachl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5120" y="2565360"/>
              <a:ext cx="108576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6200" y="256860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Kompeten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0208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488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0088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84880" y="2751120"/>
              <a:ext cx="114624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75400" y="2379600"/>
              <a:ext cx="7952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74680" y="238284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532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01480" y="238284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Kom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9936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5400" y="2565360"/>
              <a:ext cx="79524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5400" y="25686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ten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62680" y="2568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6960" y="2379600"/>
              <a:ext cx="284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70640" y="237960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46960" y="2751120"/>
              <a:ext cx="85392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46960" y="2379600"/>
              <a:ext cx="106200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48040" y="238284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Selbstregul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99440" y="2382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46960" y="2565360"/>
              <a:ext cx="106200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47680" y="25686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tion des W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91520" y="256860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46960" y="2751120"/>
              <a:ext cx="106200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240" y="275436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sens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75360" y="275436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wer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89720" y="275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16720" y="2379600"/>
              <a:ext cx="30240" cy="55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08960" y="2379600"/>
              <a:ext cx="30240" cy="55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23623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2200" y="23623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6600" y="23623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76600" y="23781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16520" y="2378160"/>
              <a:ext cx="140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16520" y="2362320"/>
              <a:ext cx="140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0560" y="23623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0560" y="23781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0480" y="2378160"/>
              <a:ext cx="144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70480" y="236232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4880" y="236232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4880" y="237816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31120" y="2378160"/>
              <a:ext cx="15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31120" y="236232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46960" y="236232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46960" y="237816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00880" y="2378160"/>
              <a:ext cx="15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0880" y="236232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6720" y="236232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16720" y="237816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9200" y="23623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220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16520" y="2379600"/>
              <a:ext cx="1404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7048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31120" y="2379600"/>
              <a:ext cx="1584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0880" y="2379600"/>
              <a:ext cx="1584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39200" y="2379600"/>
              <a:ext cx="14400" cy="55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3880" y="295272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40" y="29559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Kogniti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3320" y="29559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2955960"/>
              <a:ext cx="105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instrumentel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3880" y="3138480"/>
              <a:ext cx="200808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0320" y="3141720"/>
              <a:ext cx="160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Modellierung der We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460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1960" y="2952720"/>
              <a:ext cx="30240" cy="370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6840" y="295272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648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660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28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76600" y="31496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60800" y="295272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6080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056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4024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0560" y="31496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15120" y="2952720"/>
              <a:ext cx="108576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476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8488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088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84880" y="3149640"/>
              <a:ext cx="1146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75400" y="2952720"/>
              <a:ext cx="795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7540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46960" y="2952720"/>
              <a:ext cx="28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7064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46960" y="3149640"/>
              <a:ext cx="853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46960" y="2952720"/>
              <a:ext cx="106200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6600" y="295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1672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08960" y="295272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6720" y="3149640"/>
              <a:ext cx="11224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36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760" y="293544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2760" y="2951280"/>
              <a:ext cx="21794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6220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76600" y="293544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76600" y="295128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16520" y="2935440"/>
              <a:ext cx="140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0560" y="293544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0560" y="295128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048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84880" y="293544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84880" y="295128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31120" y="293544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46960" y="293544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46960" y="295128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0880" y="293544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16720" y="293544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16720" y="295128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39200" y="293544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36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220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6520" y="2952720"/>
              <a:ext cx="140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7048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31120" y="295272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00880" y="295272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9200" y="295272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3880" y="332280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800" y="3325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5320" y="3325680"/>
              <a:ext cx="73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Mathemat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23600" y="3325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1960" y="332280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3880" y="3495600"/>
              <a:ext cx="2038320" cy="25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06840" y="33228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0648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660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8628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0800" y="33228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6080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056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4024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5120" y="3322800"/>
              <a:ext cx="108576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476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488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0088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75400" y="3322800"/>
              <a:ext cx="795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7540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46960" y="3322800"/>
              <a:ext cx="28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064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46960" y="3322800"/>
              <a:ext cx="10620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46600" y="332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1672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08960" y="33228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220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16520" y="3322800"/>
              <a:ext cx="140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7048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120" y="332280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00880" y="332280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9200" y="332280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3880" y="352116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7800" y="3522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6040" y="3522600"/>
              <a:ext cx="126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aturwissenschaf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8360" y="3521160"/>
            <a:ext cx="8085240" cy="1851120"/>
            <a:chOff x="468360" y="3521160"/>
            <a:chExt cx="8085240" cy="1851120"/>
          </a:xfrm>
        </p:grpSpPr>
        <p:sp>
          <p:nvSpPr>
            <p:cNvPr id="273" name=""/>
            <p:cNvSpPr/>
            <p:nvPr/>
          </p:nvSpPr>
          <p:spPr>
            <a:xfrm>
              <a:off x="2155320" y="3522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1960" y="352116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3880" y="3693960"/>
              <a:ext cx="2038320" cy="2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6840" y="352116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648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7660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628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0800" y="352116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6080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3056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4024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5120" y="3521160"/>
              <a:ext cx="108576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476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8488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0088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75400" y="3521160"/>
              <a:ext cx="795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7540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46960" y="3521160"/>
              <a:ext cx="28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7064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46960" y="3521160"/>
              <a:ext cx="10620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46600" y="3522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672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08960" y="352116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836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220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16520" y="3521160"/>
              <a:ext cx="140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7048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31120" y="352116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00880" y="3521160"/>
              <a:ext cx="1584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9200" y="3521160"/>
              <a:ext cx="14400" cy="19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3880" y="3736800"/>
              <a:ext cx="200808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80" y="373860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Aesthetis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59080" y="373860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12720" y="3738600"/>
              <a:ext cx="76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expressiv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3880" y="392112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1760" y="392436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Begegnung und Gestalt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38360" y="392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1960" y="3736800"/>
              <a:ext cx="30240" cy="370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06840" y="373680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648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7660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8628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76600" y="393372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0800" y="3736800"/>
              <a:ext cx="1279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6080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3056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024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30560" y="393372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5120" y="3736800"/>
              <a:ext cx="108576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476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488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0088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4880" y="3933720"/>
              <a:ext cx="1146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75400" y="3736800"/>
              <a:ext cx="795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7540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46960" y="3736800"/>
              <a:ext cx="284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7064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46960" y="3933720"/>
              <a:ext cx="853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46960" y="3736800"/>
              <a:ext cx="106200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46600" y="37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1672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08960" y="3736800"/>
              <a:ext cx="30240" cy="19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16720" y="3933720"/>
              <a:ext cx="11224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836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2760" y="371952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2760" y="3735360"/>
              <a:ext cx="21794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6220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6600" y="37195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76600" y="37353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16520" y="3719520"/>
              <a:ext cx="140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30560" y="371952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0560" y="373536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7048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84880" y="371952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84880" y="373536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31120" y="371952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46960" y="371952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46960" y="373536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0880" y="3719520"/>
              <a:ext cx="1584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16720" y="371952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16720" y="373536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9200" y="3719520"/>
              <a:ext cx="14400" cy="1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836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6220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16520" y="3736800"/>
              <a:ext cx="140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7048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31120" y="373680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0880" y="3736800"/>
              <a:ext cx="1584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539200" y="3736800"/>
              <a:ext cx="14400" cy="370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3880" y="410688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780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7120" y="4110120"/>
              <a:ext cx="106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Sprache/Literat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5372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3196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6840" y="41068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0648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660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8628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60800" y="41068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6044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056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24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15120" y="410688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476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8488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0088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75400" y="410688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7504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46960" y="410688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7064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46960" y="410688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46600" y="411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1672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08960" y="41068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836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6220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16520" y="410688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7048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31120" y="41068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400880" y="41068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39200" y="41068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3880" y="428004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780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96040" y="428292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Musik/Malerei/Bilden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880" y="445284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7800" y="44560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3160" y="445608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Ku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5320" y="44560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31960" y="4280040"/>
              <a:ext cx="30240" cy="34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06840" y="42800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0648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7660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8628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76600" y="44528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0800" y="42800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6044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056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4024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0560" y="4452840"/>
              <a:ext cx="1339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15120" y="4280040"/>
              <a:ext cx="108576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1476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8488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088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84880" y="4452840"/>
              <a:ext cx="1146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75400" y="4280040"/>
              <a:ext cx="795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7504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6960" y="4280040"/>
              <a:ext cx="28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064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46960" y="4452840"/>
              <a:ext cx="85392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46960" y="4280040"/>
              <a:ext cx="106200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46600" y="42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672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08960" y="42800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16720" y="4452840"/>
              <a:ext cx="11224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836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220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16520" y="4280040"/>
              <a:ext cx="1404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048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31120" y="4280040"/>
              <a:ext cx="1584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00880" y="4280040"/>
              <a:ext cx="1584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39200" y="4280040"/>
              <a:ext cx="14400" cy="345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3880" y="462600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780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93880" y="4629240"/>
              <a:ext cx="132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Physische Ex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0932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3196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06840" y="462600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648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660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8628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0800" y="462600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044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3056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4024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5120" y="462600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476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8488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0088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75400" y="462600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7504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46960" y="462600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64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6960" y="462600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46600" y="4629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1672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08960" y="462600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36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6220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16520" y="462600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048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31120" y="462600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00880" y="462600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39200" y="462600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880" y="4815000"/>
              <a:ext cx="2008080" cy="18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9240" y="481824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Normati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30200" y="4818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85280" y="481824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evaluativ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3880" y="500220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1040" y="5003640"/>
              <a:ext cx="174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Auseinandersetzung mi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3880" y="5187960"/>
              <a:ext cx="2008080" cy="18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68360" y="4799160"/>
            <a:ext cx="8085240" cy="1668240"/>
            <a:chOff x="468360" y="4799160"/>
            <a:chExt cx="8085240" cy="1668240"/>
          </a:xfrm>
        </p:grpSpPr>
        <p:sp>
          <p:nvSpPr>
            <p:cNvPr id="474" name=""/>
            <p:cNvSpPr/>
            <p:nvPr/>
          </p:nvSpPr>
          <p:spPr>
            <a:xfrm>
              <a:off x="671400" y="518940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Wirtschaft und Gesellschaf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00280" y="5189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31960" y="4815000"/>
              <a:ext cx="30240" cy="5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06840" y="48150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0648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7660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8628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76600" y="5013360"/>
              <a:ext cx="133992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60800" y="4815000"/>
              <a:ext cx="1279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6080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3056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4024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30560" y="5013360"/>
              <a:ext cx="133992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15120" y="4815000"/>
              <a:ext cx="108576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476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8488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0088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84880" y="5013360"/>
              <a:ext cx="114624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75400" y="4815000"/>
              <a:ext cx="795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7540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46960" y="4815000"/>
              <a:ext cx="28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7064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46960" y="5013360"/>
              <a:ext cx="85392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46960" y="4815000"/>
              <a:ext cx="10620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6600" y="4818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672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08960" y="4815000"/>
              <a:ext cx="302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16720" y="5013360"/>
              <a:ext cx="112248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36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760" y="4799160"/>
              <a:ext cx="21794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760" y="4815000"/>
              <a:ext cx="21794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6220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600" y="479916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76600" y="481500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16520" y="4799160"/>
              <a:ext cx="140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30560" y="4799160"/>
              <a:ext cx="1339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0560" y="4815000"/>
              <a:ext cx="1339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7048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84880" y="4799160"/>
              <a:ext cx="11462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4880" y="4815000"/>
              <a:ext cx="114624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1120" y="479916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46960" y="4799160"/>
              <a:ext cx="85392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46960" y="4815000"/>
              <a:ext cx="85392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00880" y="4799160"/>
              <a:ext cx="1584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16720" y="4799160"/>
              <a:ext cx="112248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16720" y="4815000"/>
              <a:ext cx="1122480" cy="1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539200" y="4799160"/>
              <a:ext cx="14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836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6220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16520" y="4815000"/>
              <a:ext cx="1404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7048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31120" y="4815000"/>
              <a:ext cx="1584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00880" y="4815000"/>
              <a:ext cx="1584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39200" y="4815000"/>
              <a:ext cx="14400" cy="557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3880" y="537228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780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95680" y="5375160"/>
              <a:ext cx="67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Geschich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636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3196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06840" y="537228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0648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7660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8628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60800" y="537228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6044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3056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4024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15120" y="5372280"/>
              <a:ext cx="108576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1476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8488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0088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75400" y="5372280"/>
              <a:ext cx="795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504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6960" y="5372280"/>
              <a:ext cx="28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7064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46960" y="5372280"/>
              <a:ext cx="106200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46600" y="537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1672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508960" y="537228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836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6220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6520" y="5372280"/>
              <a:ext cx="140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048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31120" y="537228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00880" y="537228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539200" y="537228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3880" y="554508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80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4240" y="5548320"/>
              <a:ext cx="64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Ökonom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3000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3196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06840" y="55450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0648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7660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8628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0800" y="554508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6044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3056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4024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15120" y="554508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476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8488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088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75400" y="554508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7504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46960" y="554508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7064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46960" y="554508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46600" y="5548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1672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508960" y="554508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836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220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16520" y="554508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7048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1120" y="55450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00880" y="554508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9200" y="554508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3880" y="5718240"/>
              <a:ext cx="200808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780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5320" y="5721480"/>
              <a:ext cx="120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Politik/Gesellsch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9196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3196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06840" y="57182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0648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7660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8628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0800" y="5718240"/>
              <a:ext cx="1279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06044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056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4024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5120" y="5718240"/>
              <a:ext cx="108576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476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8488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088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75400" y="5718240"/>
              <a:ext cx="795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7504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6960" y="5718240"/>
              <a:ext cx="284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7064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46960" y="5718240"/>
              <a:ext cx="106200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46600" y="572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672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508960" y="5718240"/>
              <a:ext cx="30240" cy="172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836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6220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16520" y="5718240"/>
              <a:ext cx="140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7048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31120" y="571824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00880" y="5718240"/>
              <a:ext cx="1584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539200" y="5718240"/>
              <a:ext cx="14400" cy="17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3880" y="5891040"/>
              <a:ext cx="200808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780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94600" y="58942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Rec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4596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3196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06840" y="589104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0648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7660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8628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60800" y="5891040"/>
              <a:ext cx="1279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6044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3056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4024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5120" y="5891040"/>
              <a:ext cx="108576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1476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8488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0088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75400" y="5891040"/>
              <a:ext cx="795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7504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6960" y="5891040"/>
              <a:ext cx="284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7064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46960" y="5891040"/>
              <a:ext cx="106200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46600" y="589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672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508960" y="5891040"/>
              <a:ext cx="30240" cy="17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836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6220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16520" y="5891040"/>
              <a:ext cx="140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7048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31120" y="589104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00880" y="5891040"/>
              <a:ext cx="1584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539200" y="5891040"/>
              <a:ext cx="14400" cy="17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3880" y="6080040"/>
              <a:ext cx="2008080" cy="18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1400" y="6083280"/>
              <a:ext cx="1665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Propleme konstitutive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3880" y="6267600"/>
              <a:ext cx="2008080" cy="18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0320" y="62690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Times New Roman"/>
                </a:rPr>
                <a:t>Rationalitä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98320" y="626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31960" y="6080040"/>
              <a:ext cx="302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6840" y="6080040"/>
              <a:ext cx="12794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06480" y="6083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7660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8628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6600" y="6280200"/>
              <a:ext cx="1339920" cy="171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60800" y="6080040"/>
              <a:ext cx="12794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60800" y="6083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3056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40240" y="6080040"/>
              <a:ext cx="3024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30560" y="6280200"/>
              <a:ext cx="1339920" cy="171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15120" y="6080040"/>
              <a:ext cx="1085760" cy="20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14760" y="6083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538488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0088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84880" y="6280200"/>
            <a:ext cx="1146240" cy="1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75400" y="6080040"/>
            <a:ext cx="795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75400" y="6083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46960" y="6080040"/>
            <a:ext cx="284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7064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46960" y="6280200"/>
            <a:ext cx="853920" cy="1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46960" y="6080040"/>
            <a:ext cx="106200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46600" y="6083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1672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508960" y="6080040"/>
            <a:ext cx="30240" cy="20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16720" y="6280200"/>
            <a:ext cx="1122480" cy="1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2760" y="6064200"/>
            <a:ext cx="21794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2760" y="6080040"/>
            <a:ext cx="217944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220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76600" y="6064200"/>
            <a:ext cx="133992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6080040"/>
            <a:ext cx="13399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16520" y="606420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30560" y="6064200"/>
            <a:ext cx="133992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30560" y="6080040"/>
            <a:ext cx="13399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7048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84880" y="6064200"/>
            <a:ext cx="11462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84880" y="6080040"/>
            <a:ext cx="114624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31120" y="606420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46960" y="6064200"/>
            <a:ext cx="85392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46960" y="6080040"/>
            <a:ext cx="8539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00880" y="606420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416720" y="6064200"/>
            <a:ext cx="112248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416720" y="6080040"/>
            <a:ext cx="112248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539200" y="60642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6220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16520" y="6080040"/>
            <a:ext cx="1404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7048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31120" y="6080040"/>
            <a:ext cx="1584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00880" y="6080040"/>
            <a:ext cx="1584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539200" y="6080040"/>
            <a:ext cx="14400" cy="371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3880" y="6451560"/>
            <a:ext cx="200808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780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3880" y="645336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1732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3196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6840" y="6451560"/>
            <a:ext cx="12794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0648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7660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8628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060800" y="6451560"/>
            <a:ext cx="12794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6044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03056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4024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15120" y="6451560"/>
            <a:ext cx="108576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1476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8488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0088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5400" y="6451560"/>
            <a:ext cx="7952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7504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46960" y="6451560"/>
            <a:ext cx="28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7064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46960" y="6451560"/>
            <a:ext cx="106200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446600" y="645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41672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08960" y="64515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836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6220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16520" y="6451560"/>
            <a:ext cx="1404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7048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31120" y="6451560"/>
            <a:ext cx="1584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00880" y="6451560"/>
            <a:ext cx="1584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539200" y="6451560"/>
            <a:ext cx="14400" cy="17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3880" y="6626160"/>
            <a:ext cx="200808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780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93520" y="66279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hilosop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1100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3196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06840" y="6626160"/>
            <a:ext cx="1279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0648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7660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8628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60800" y="6626160"/>
            <a:ext cx="1279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6044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056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4024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15120" y="6626160"/>
            <a:ext cx="108576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476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8488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0088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75400" y="6626160"/>
            <a:ext cx="795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7504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546960" y="6626160"/>
            <a:ext cx="284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7064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46960" y="6626160"/>
            <a:ext cx="106200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6600" y="6627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1672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508960" y="6626160"/>
            <a:ext cx="30240" cy="17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6280" y="6797520"/>
            <a:ext cx="219240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36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36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2760" y="6799320"/>
            <a:ext cx="21794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68680" y="6797520"/>
            <a:ext cx="135396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6220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220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76600" y="6799320"/>
            <a:ext cx="133992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22640" y="6797520"/>
            <a:ext cx="135576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016520" y="6626160"/>
            <a:ext cx="1404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16520" y="6799320"/>
            <a:ext cx="140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0560" y="6799320"/>
            <a:ext cx="133992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78400" y="6797520"/>
            <a:ext cx="116064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7048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7048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84880" y="6799320"/>
            <a:ext cx="11462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539040" y="6797520"/>
            <a:ext cx="86976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31120" y="6626160"/>
            <a:ext cx="1584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31120" y="6799320"/>
            <a:ext cx="158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546960" y="6799320"/>
            <a:ext cx="85392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08800" y="6797520"/>
            <a:ext cx="1138320" cy="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400880" y="6626160"/>
            <a:ext cx="1584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00880" y="6799320"/>
            <a:ext cx="1584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16720" y="6799320"/>
            <a:ext cx="112248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539200" y="6626160"/>
            <a:ext cx="144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53920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539200" y="6799320"/>
            <a:ext cx="144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7800" y="6813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CAD-6F8F-489D-A628-06603F14A2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89B04-8DE8-4EFF-80C4-2927958A7A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57200" y="990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Von Fachinhalten zu fachlichen Kompetenzen Nationale Bildungs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19810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greifen die Grundprinzipien des jeweiligen Unterrichtsfaches a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schreiben die fachbezogenen Kompetenzen einschließlich zugrunde liegender Wissensbestände, die Schülerinnen und Schüler bis zu einem bestimmten Zeitpunkt ihres Bildungsganges erreicht haben so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zielen auf systematisches und vernetztes Lernen und folgen so dem Prinzip des kumulativen Kompetenzerwer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schreiben erwartete Leistungen im Rahmen von Anforderungsbere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ziehen sich auf den Kernbereich des jeweiligen Faches und geben den Schulen Gestaltungsräume für ihre pädagogische Arb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weisen ein mittleres Anforderungsniveau 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369-438D-4525-B9B3-5E315502473D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3B8B5-0565-4CBF-AC1E-EE82977528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09480" y="1233360"/>
            <a:ext cx="80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16002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ienen der Schul- und Unterrichts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erpflichten die Schulen einerseits zur Rechenschaftslegung über ihre 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rmöglichen andererseits aber auch zugleich mehr Eigenverantwortung der Schu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können zur Verbesserung der Leistungsfähigkeit der Schulen beit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fordern allerdings auch alle an Schule Beteiligten dazu auf, die Einhaltung der Standards über individuelle Förderung zu ermögl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0DD-83A0-4928-A108-1C9552F5CD6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9CD46-2783-4BEC-B768-C97F06AD10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371600" y="2057400"/>
            <a:ext cx="6400800" cy="411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076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" y="2422440"/>
            <a:ext cx="853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9480" y="1066680"/>
            <a:ext cx="802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Nationale Bildungsstandards fü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Mathematik: Allgemeine Kompetenz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52680" y="3505320"/>
            <a:ext cx="25146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37560" y="3800520"/>
            <a:ext cx="25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seinandersetzung 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thematischen In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10240" y="220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obl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ö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440" y="260352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dell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40560" y="4584600"/>
            <a:ext cx="155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r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erwe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95800" y="5025960"/>
            <a:ext cx="266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</a:rPr>
              <a:t>mit symbolischen, for-malen und technischen Elementen der Mathe-matik umg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28280" y="4584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ommuniz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014200" y="2666880"/>
            <a:ext cx="14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athema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rgument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445-2C9E-4C91-847B-840DFABAF0A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E589A-6AE1-414B-B7F2-965E25315D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533520" y="1066680"/>
            <a:ext cx="80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für Mathematik: Allgemeine Kompetenz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3060720"/>
            <a:ext cx="8382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orgegebene und selbst formulierte Probleme bearbeit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geeignete heuristische Hilfsmittel, Strategien und Prinzipien zum Problemlösen auswählen und anwend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Plausibilität der Ergebnisse überprüfen sowie das Finden von Lösungsideen und die Lösungswege reflekt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90200" y="243828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(K 2) Probleme mathematisch lö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69B-DC22-4A96-85DD-278C9BD550F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CF4B9-60D2-4891-B05C-5BDA1041E6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57200" y="10666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 Mathematik: Leitid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7200" y="3565440"/>
            <a:ext cx="8381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aum und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unktionaler 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aten und Zu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2362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e Leitidee vereinigt Inhalte verschiedener mathematischer Sachgebiete und durchzieht ein mathematisches Curriculum spiralförmig.</a:t>
            </a:r>
            <a:r>
              <a:rPr b="0" i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478-F9AD-48AF-9520-71678CDCA48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DD21E-CF32-488F-890C-E72E43262A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609480" y="1066680"/>
            <a:ext cx="80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Was ist neu an Bildungs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" y="1828800"/>
            <a:ext cx="86104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lare, verbindliche Anforderungen innerhalb eines schulformübergreifenden Rahmenkonz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reiraum für schulinterne Lehr-/Lern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kussierung auf zentrale, langfristig aufgebaute Lernergeb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Statt Lernzielkatalog: Kompetenz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= systematisches, fachdidaktisch verankertes Konzept von Kompetenzstu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perationalisierung durch Aufgaben un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Qualitätssicherung durch Über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45D-BB1B-4B7A-88AE-4A0645843B30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340A6-16E7-4CAF-8926-98B79693AD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33520" y="11430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nkretisierung, Normierung und Überprüfung der Bildungsstandards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2590920"/>
            <a:ext cx="84582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aufgaben des IQB (KMK,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e Bildungsstandards inhaltlich weiterzuentwickeln, methodisch zu präzisieren und ihre Erreichung durch deutsche Schülerinnen und Schüler zu überprü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rstellen großer Aufgabensamm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ntwicklung von Kompetenzmodell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urchführung empirischer Studien zur Standardnormierung und Über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reitstellung von Aufgaben für Schulen zum Zwecke der internen 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AB5-14C3-47E7-84E6-8FC8B962F4E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9C71E-6E77-4E78-A79F-4BFCF81AAF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57200" y="169056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n Län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" y="2390760"/>
            <a:ext cx="84582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rdination der Aufgaben des IQB mit den Initiativen der Länder zur Qualitäts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ustausch von 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Klärung von Fragen, inwieweit die Überprüfung nationaler Bildungsstandards in die Länderprogramme integriert werden ka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B95-9B4D-4E41-8515-3A45DFD25F5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2E042-95F2-49DB-994B-A2FCBD33A6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415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70160"/>
            <a:ext cx="8458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er Stein des Anstoßes: TIMSS und 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rundbildung und berufliche Karr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Struktur des Kerncurriculums: Modi der Weltbegegnung und Basis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National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Konkretisierung, Normierung und Überprüfung durch das IQ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Chancen für die Schul- und Unterrichts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Zusammenfass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4F6-E70C-4554-975D-587BC80AF49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7AD8A-1FCE-4D06-BF4E-2AAE1E835C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457200" y="1309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Weitere Kooper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" y="2033640"/>
            <a:ext cx="84582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m Deutschen PISA-Konsortium zur Überprüfung und Weiterentwicklung der Bildungs-standards im Bereich Mathematik für den mittleren Abschlu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r DESI-Gruppe zur Überprüfung und Weiterentwicklung der Bildungsstandards im Bereich Deutsch und erste Fremdsprache für den mittleren 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ooperation mit der IGLU-Gruppe zur Überprüfung und Weiterentwicklung der Bildungsstandards im Bereich Deutsch und Mathematik in der Grund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879-C4C8-4141-AB19-8D619939CBD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1E17D-F082-4B6C-8E5C-9D1DE5F71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45720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Entwicklung technologiebasierter Test- und Evaluationssy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2209680"/>
            <a:ext cx="845820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Ausgangspunkt: Immense Kosten der flächendeckenden Evaluation mit Papier-und-Bleistift-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Langfristiges Ziel: Umstellung auf computerbasierte Testungen und Rückmeld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richtung einer C3/W2-Professur für pädagogische Diagnostik mit dem Schwerpunkt technologiebasiertes Assessment und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Verdana"/>
              </a:rPr>
              <a:t>Entwicklung intelligenter Aufgaben, insbesondere zur Erfassung sprachproduktiver Kompeten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Verdana"/>
              </a:rPr>
              <a:t>Netzbasiertes Testen und netzbasierte Rück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9C1-64CA-4254-92F0-4C91B2FBD28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AB224-5306-46BE-B2FE-74A01369DA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80880" y="126360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Bildungsstandards und Qualitätsentwick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2117880"/>
            <a:ext cx="83818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dürfen nicht die pädagogische Verantwortung für Lehren und Fördern, Fordern und Bewerten aufh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sind nur dann nützlich, wenn sie professionelles Arbeiten in der Schule voranbr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iele von Bildungsstandards sind die Unterrichts-, Personal- und Organisationsentwicklung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iag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änderung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2E9-D19C-43F2-9416-35BA9E54612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D81B9-DAB5-4690-9BFB-E781C0B50C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57200" y="1339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für die Schul- und Unterrichts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0880" y="2665440"/>
            <a:ext cx="84582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Lehrplanentwicklung: Standards und Kerncurri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Verbesserung des Unterrichts und diagnostischer Lehrer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Ergänzende Informationen zur Schullaufbahnberatung der El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61B-FBB6-4138-9377-E46C2AF63B12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0A7A2-B703-49C9-9E8D-6E8591D8AD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5720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für die Lehrplanentwicklung: Standards und Kerncurric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880" y="2346480"/>
            <a:ext cx="8458200" cy="38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sind output-orientiert und beschreiben, über welche Kompetenzen Schüler zu bestimmten Zeitpunkten verfügen so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curricula sind input-orientiert, d.h. sie bestimmen die Auswahl der Inhalte und Themen und die Gestaltung von Lehr-/Lernproz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en Schnittbereich von Kerncurricula und Standards bilden die Leitideen und Kompetenzmod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unehmende Umgestaltung von Lehrplänen zu Kerncurri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curricula geben Hinweise, wie die Standards im Unterricht zu erreichen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753-A16F-4377-A441-0080E4103436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E5151-43C9-4A9F-9EB3-5C61AD66E6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5720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Standards und Kerncurricula als Orientierungshil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2346480"/>
            <a:ext cx="8458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ildungsstandards und Kerncurricula bieten den Referenzrahmen, der schulische Arbeit anregen, unterstützen, orientieren und normier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899-F350-4BBC-B1AD-1B64A58848F0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9B728-BB89-4874-9B42-4FB8CEE69F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57200" y="1386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2514600"/>
            <a:ext cx="84582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der Einzelschule mit einheitlichen, bundeslandübergreifenden Standards (</a:t>
            </a:r>
            <a:r>
              <a:rPr b="1" i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nchmarking</a:t>
            </a: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rücksichtigung von Einzugsgebiet und Klassen-zusammensetzung; Vergleich mit ähnlichen Klassen und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teilung der Schülerinnen und Schüler in Fächern und Teilgebieten auf Kompetenz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mit Parallelklassen; Identifikation von Stärken und Schw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e im zeitlichen Verlauf (Trendanal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B91-6B0A-4B22-98EB-FFD8C54DFA70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FD1F4-9A80-41B3-B951-727A6E6FE6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7200" y="1386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erbesserung des Unterrichts und diagnostischer 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880" y="2514600"/>
            <a:ext cx="845820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nregungen zur Kooperation und fachdidaktischen Disk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Pädagogische Impulse für den Unterricht, z. B. Diskussion der Standards, Beurteilungspraxis, Unterrichtsgestalt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hdidaktische Impulse; Suche nach Gründen für abweichende Fehlermuster; Etablierung von Förder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660-DF15-4132-9D41-390D728CEFEA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7C0EC-AD47-47D5-AEC2-840C68AE0F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457200" y="1386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Ergänzende Informationen zur Schullaufbahnbera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2514600"/>
            <a:ext cx="845820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bjektive, klassen- und schulübergreifende Zusatzinformation des Leistungsst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rgänzt die Übergangsempfehlung, kann bei der Beratung der Eltern hel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ber: als zentrale Entscheidungsgrundlage ungeeignet, nur ergänzender Ch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ED4-3BEE-4921-92E0-07DCDE4FCCAE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983B8-5F29-4829-9154-F0E711F78A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457200" y="3138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ielen Dank für 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306-016C-4496-8A13-8DC37465A452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A30BB-4C5E-43CB-A370-7D8B83295B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049480"/>
            <a:ext cx="845820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mathematisch-naturwissenschaftlichen Leistungen in Deutschland liegen unter den durchschnittlichen Leistungen der meisten Nachbarstaat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Insbesondere bei der Anwendung mathematisch-naturwissenschaftlicher Kenntnisse auf alltagsnahe Probleme sind deutliche Defizite erkenn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 erheblicher Prozentsatz der Schüler erreicht nicht das für einen erfolgreichen Übergang in die berufliche Erstausbildung notwendige Niveau mathematisch-naturwissenschaftlicher Grundbildung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twa 30 Prozent der Schülerinnen und Schüler am Ende der Sekundarstufe II verbleiben auf einem einfachen Niveau des mathematisch-naturwissenschaftlichen Denkens und verfehlen damit ein niedrig definiertes Sockelnive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0280" y="1309680"/>
            <a:ext cx="65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er erste Stein des Anstoßes: TI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53E-42BC-4A2B-951E-A3725018FAA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E9FAE-F857-4B41-989C-33B57E9927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457200" y="130968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usstat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" y="1886040"/>
            <a:ext cx="845820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ollständige Finanzierung durch die Lä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60 % Personal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ca. 10 Wissenschaftlerstellen, davon 4 abgeordnete Lehrkräf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3-4 nicht-wissenschaftliche 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plus Doktoranden und stud. Hilfskraf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Politische Koordination mit den Ländern durch das Sekretariat der KM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40 % Programm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ufträge für externe Institutionen und Expertengru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Einkaufen von Test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Unterstützung bei der Entwicklung technologiebasierter Testsyst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Empirische Untersuchungen zur Standardnorm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353-0AA8-4BAA-9104-C04C3488A37A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427B9-21C2-443F-8703-BC8CFE370D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457200" y="1582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ufbau internationaler Kooper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2421000"/>
            <a:ext cx="84582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ducational Testing Service in Princeton, N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 Assessment of Eucational Progress (NA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Koordinierung mit den österreichischen Aktivitä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56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bindung der neuseeländischen Aktivitäten zum technologiebasierten Testen (John Hatti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E89-9B30-4C00-8D70-361893F30834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2B404-B56E-45F8-899B-D30481D9BA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492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Standardsicherung als Aspekt der Qualitätsentwicklung im Bildungswes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nach F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762120" y="2698920"/>
          <a:ext cx="7391160" cy="40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98920"/>
                    <a:ext cx="7391160" cy="40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8B2-84D9-46A3-A213-605911B72ADB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DBF7-3EE0-41D4-A9CB-9EB57E2865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6240" y="1938240"/>
            <a:ext cx="84582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Leseleistungen deutscher Schülerinnen und Schüler liegen unter dem Mittelwert der OECD-Mitgliedsstaat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Abstand zwischen leistungsschwachen und -starken Schülern ist in keinem Land so groß wie in Deutschl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Anteil sehr leseschwacher 15jähriger liegt bei über 20 Proz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eutsche Schülerinnen und Schüler sind in der internationalen Spitzengruppe unterrepräsentie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Arbeiterkinder haben deutlich geringere Chancen das Gymnasium zu besuchen als Akademikerkin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In Deutschland ist die Leistungsdiskrepanz zwischen zugewanderten und einheimischen 15jährigen größer als in den anderen OECD-Län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3960" y="1198440"/>
            <a:ext cx="74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er zweite Stein des Anstoßes: PISA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AFC-0A97-40F9-A765-9F64131CCEC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E3985-CC59-43C9-A37A-C2925BECFC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28520" y="1263600"/>
            <a:ext cx="66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Was erwarten wir vom erfolgre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Lerner (OECD-Framework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480" y="2317680"/>
            <a:ext cx="80330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Lesekompeten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Mathematische Grund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Naturwissenschaftliche Grund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ächerübergreifende Kompet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067280"/>
            <a:ext cx="8261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rundphilosophie der OE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Diese Basiskompetenzen sind notwendig zur befriedigenden Lebensführung in persönlicher und wirtschaftlicher Hinsicht und für eine aktive Teilnahme am gesellschaftlichen Le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Hinreichende Kompetenzen in diesen vier Domänen tragen zur gelingenden Lebensbewältigung im jungen Erwachsenenalter bei und bilden die Basis für kontinuierliches Weiterlernen über die Lebensspan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1A7-3304-437D-BF68-795CF2ACA90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766BA-F67D-4B61-8FC5-DE0D67EF9B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0024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276200"/>
            <a:ext cx="7772400" cy="4515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13716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Die Bedeutung von Basis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für berufliche Karr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Befunde aus der Intern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Adult Literacy Study (IA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976-A59D-4595-824B-29E1EC8892D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81310-2E9F-4292-B5E5-7C39EB4A0E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413080"/>
            <a:ext cx="7848720" cy="4489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0666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ahrscheinlichkeit der Zugehörigkeit zu einer Beschäf-tigungskategorie im Produktionsbereich in Abhängigkeit von der Lesekompetenz zwischen 1994 und 1998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188-2C24-43F1-A8BB-FF9C63680B2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93C93-4FF0-4824-B85F-4A36669E1A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93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ugehörigkeit zu den oberen 60% der Gehaltsgruppen nach Kompetenzstufen im Leseverständnis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 der mathematischen Grundbild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043000"/>
          <a:ext cx="769644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43000"/>
                    <a:ext cx="7696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57466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rläuterungen</a:t>
            </a:r>
            <a:r>
              <a:rPr b="1" lang="de-DE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: Prose: Leseverständnis (Prosa-Texte), Document (Sachtexte, kontinuierlich und diskontinuierlich; Quantitative: mathematische Grundbildung; Datengrundlage </a:t>
            </a:r>
            <a:r>
              <a:rPr b="1" lang="de-DE" sz="1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International Adult Literacy Survey</a:t>
            </a:r>
            <a:r>
              <a:rPr b="1" lang="de-DE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 (vgl. Statistics Canada, 200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F53-4CF9-427D-BB36-29D5B0451B3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CE243-0870-46FA-9CBB-2FA35695BB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961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ahrscheinlichkeit einer hochqualifizierten Tätigkeit im Dienstleistungsbereich (Transport und Kommunikation) in Abhängigkeit vom Bildungsabschluss und von der Lesekompet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9880" y="2438280"/>
          <a:ext cx="8610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38280"/>
                    <a:ext cx="8610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72D-DFC5-49EB-B110-F678B0B685B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8A013-A2F2-4CDD-97A9-B3DD11CC20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9:24:59Z</dcterms:created>
  <dc:creator>ofkoelle</dc:creator>
  <dc:description/>
  <dc:language>en-US</dc:language>
  <cp:lastModifiedBy>steffensu</cp:lastModifiedBy>
  <cp:lastPrinted>2004-12-06T11:27:56Z</cp:lastPrinted>
  <dcterms:modified xsi:type="dcterms:W3CDTF">2004-12-22T07:25:35Z</dcterms:modified>
  <cp:revision>59</cp:revision>
  <dc:subject/>
  <dc:title>PowerPoint-Präsentation</dc:title>
</cp:coreProperties>
</file>