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525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525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525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525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525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525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525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1280" y="260280"/>
            <a:ext cx="52560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525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525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525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525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236000" y="192240"/>
            <a:ext cx="1368360" cy="10983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250920" y="1341360"/>
            <a:ext cx="8643960" cy="52722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11280" y="1052640"/>
            <a:ext cx="5543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31840" y="6626160"/>
            <a:ext cx="868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tät Hamburg: Kompetenzen und Einstellungen von Schülerinnen und Schülern – Jahrgangsstufe 4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KESS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63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zialindex für Hamburger Grundschul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141300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Sozialindex misst soziale Eingangsvoraussetzungen der Schülerinnen und Schüler an Hamburger Grundschu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242244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Sozialindex berücksichtigt differenziert die ökonomischen, kulturellen, sozialen und ethnischen Hintergründe der Schülerschaft an Hamburger Grundschu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3735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Sozialindex berücksichtigt darüber hinaus die sozialen Umfelder der Hamburger Grundschulen in ihren jeweiligen Stadttei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476100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Sozialindex setzt sich aus 30 Merkmalen (Variablen) zusam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553572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Sozialindex erklärt rund 70 Prozent der Leseleistung auf Schuleb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836640"/>
            <a:ext cx="633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Überb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63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zialindex für Hamburger Grundschul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574560" y="2082960"/>
            <a:ext cx="242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ziale Belastung der Schule im Stadtte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4520" y="3035160"/>
            <a:ext cx="242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Ökonomisches Kapital der Schülerfamil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4520" y="3822840"/>
            <a:ext cx="242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ulturelles Kapital der Schülerfamil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4520" y="4791240"/>
            <a:ext cx="24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nische Homogen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4520" y="5748480"/>
            <a:ext cx="246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ulbezogenes soziales Kapital im Elternha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700280"/>
            <a:ext cx="29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istisches Landesa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2708280"/>
            <a:ext cx="29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lternfragebogen KESS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5337000"/>
            <a:ext cx="29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chülerfragebogen KESS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05360" y="1916280"/>
            <a:ext cx="23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eil Sozialwohnungen 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05360" y="2176560"/>
            <a:ext cx="23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hlbeteilig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05360" y="2962440"/>
            <a:ext cx="266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ushaltsbruttoeinkom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05360" y="3219480"/>
            <a:ext cx="266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rufs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149720"/>
            <a:ext cx="266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suche von Theater, Museum, Kunstausstell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05360" y="4708440"/>
            <a:ext cx="266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kunftsland der El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05360" y="5033880"/>
            <a:ext cx="26622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ache zwischen El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d Kind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05360" y="5527800"/>
            <a:ext cx="266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ves Lernkli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3080" y="2286000"/>
            <a:ext cx="80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3080" y="3235320"/>
            <a:ext cx="80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043080" y="3903840"/>
            <a:ext cx="808200" cy="10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3080" y="4984920"/>
            <a:ext cx="80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00680" y="2435400"/>
            <a:ext cx="282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beitslosenquote 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05360" y="5734080"/>
            <a:ext cx="266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rn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05360" y="6080040"/>
            <a:ext cx="266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uerung außerfamiliärer Beziehung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19400" y="134136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ispiel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30920" y="1341360"/>
            <a:ext cx="223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rrelation mit der Lese-leistung auf Schulebe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43640" y="2133720"/>
            <a:ext cx="8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6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43640" y="3068640"/>
            <a:ext cx="8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8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43640" y="3716280"/>
            <a:ext cx="8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8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43640" y="4292640"/>
            <a:ext cx="8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43640" y="4941720"/>
            <a:ext cx="8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7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43640" y="5589720"/>
            <a:ext cx="8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6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21200" y="3629160"/>
            <a:ext cx="266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ücher zu Ha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19400" y="3860640"/>
            <a:ext cx="266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ldungsabschluss der El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3080" y="4149720"/>
            <a:ext cx="80820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043080" y="5792760"/>
            <a:ext cx="808200" cy="10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3080" y="6039000"/>
            <a:ext cx="808200" cy="12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43640" y="6184800"/>
            <a:ext cx="8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5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72160" y="2286000"/>
            <a:ext cx="80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72160" y="3220920"/>
            <a:ext cx="80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72160" y="5094360"/>
            <a:ext cx="80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72160" y="3868560"/>
            <a:ext cx="80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72160" y="4444920"/>
            <a:ext cx="80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72160" y="5742000"/>
            <a:ext cx="80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72160" y="6337440"/>
            <a:ext cx="80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34136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kunft und Dimens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836640"/>
            <a:ext cx="633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strukte, Variablen und Zusammenhä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63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zialindex für Hamburger Grundschul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574560" y="2082960"/>
            <a:ext cx="242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ziale Belastung der Schule im Stadtte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4520" y="3035160"/>
            <a:ext cx="242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Ökonomisches Kapital der Schülerfamil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4520" y="3822840"/>
            <a:ext cx="242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ulturelles Kapital der Schülerfamil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4520" y="4791240"/>
            <a:ext cx="24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nische Homogen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4520" y="5748480"/>
            <a:ext cx="246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ulbezogenes soziales Kapital im Elternha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1700280"/>
            <a:ext cx="29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istisches Landesa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708280"/>
            <a:ext cx="29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lternfragebogen KESS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5337000"/>
            <a:ext cx="29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chülerfragebogen KESS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3080" y="2286000"/>
            <a:ext cx="80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3080" y="3235320"/>
            <a:ext cx="80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3080" y="4005360"/>
            <a:ext cx="80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3080" y="4984920"/>
            <a:ext cx="80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0920" y="1341360"/>
            <a:ext cx="223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rrelation mit der Lese-leistung auf Schulebe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08720" y="3860640"/>
            <a:ext cx="8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8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59280" y="602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134136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kunft und Dimens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1341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zial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84720" y="1700280"/>
            <a:ext cx="1727280" cy="453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84880" y="4005360"/>
            <a:ext cx="80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1640" y="1773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,11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11640" y="211608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1,89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11640" y="55166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,51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5877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,52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1640" y="38606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3280" y="2441520"/>
            <a:ext cx="360360" cy="13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3280" y="4149720"/>
            <a:ext cx="360360" cy="13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1341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02200" y="1773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02200" y="211608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02200" y="55166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03640" y="58611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35640" y="2421000"/>
            <a:ext cx="360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51436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2924280"/>
            <a:ext cx="360360" cy="22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836640"/>
            <a:ext cx="633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fbau des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63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zialindex für Hamburger Grundschul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1413000"/>
            <a:ext cx="842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 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Schule liegt in einem sozial eher benachteiligten Stadtte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93880" indent="-8938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Kinder können zur Sicherung des Schulerfolges kaum oder gar nicht auf familiäre Ressourcen zurückgrei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3141720"/>
            <a:ext cx="842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 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Schule liegt in einem sozial eher unauffälligen Stadtte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93880" indent="-8938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Kinder können zur Sicherung des Schulerfolges auf Teile familiärer Ressourcen zurückgrei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5013360"/>
            <a:ext cx="842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 3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Schule liegt in einem sozial eher privilegierten Stadtte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93880" indent="-8938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Kinder können zur Sicherung des Schulerfolges auf ganze Komplexe familiärer Ressourcen zurückgrei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60360" y="254808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Anteil der Schulen in Prozent: 32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60360" y="42768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Anteil der Schulen in Prozent: 39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61484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Anteil der Schulen in Prozent: 27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2548080"/>
            <a:ext cx="30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Mittlerer Belastungsindex: - 1,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4203720"/>
            <a:ext cx="30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Mittlerer Belastungsindex: 0,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60768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Mittlerer Belastungsindex: 1,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836640"/>
            <a:ext cx="633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sierung von Schu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63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zialindex für Hamburger Grundschul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574560" y="2082960"/>
            <a:ext cx="242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ziale Belastung der Schule im Stadtte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4520" y="3035160"/>
            <a:ext cx="242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Ökonomisches Kapital der Schülerfamil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4520" y="3822840"/>
            <a:ext cx="242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ulturelles Kapital der Schülerfamil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4520" y="4791240"/>
            <a:ext cx="24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nische Homogen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4520" y="5748480"/>
            <a:ext cx="246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ulbezogenes soziales Kapital im Elternha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700280"/>
            <a:ext cx="29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istisches Landesa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2708280"/>
            <a:ext cx="29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lternfragebogen KESS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5337000"/>
            <a:ext cx="29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chülerfragebogen KESS 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3080" y="2286000"/>
            <a:ext cx="80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3080" y="3235320"/>
            <a:ext cx="80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3080" y="4005360"/>
            <a:ext cx="80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3080" y="4984920"/>
            <a:ext cx="80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30920" y="1341360"/>
            <a:ext cx="223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rrelation mit der Lese-leistung auf Schulebe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8720" y="3860640"/>
            <a:ext cx="8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8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59280" y="602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34136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kunft und Dimens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932360" y="1341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zial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84720" y="1700280"/>
            <a:ext cx="1727280" cy="453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84880" y="4005360"/>
            <a:ext cx="80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61080" y="1773360"/>
            <a:ext cx="122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,11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61080" y="2116080"/>
            <a:ext cx="122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1,89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59280" y="55166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,51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61080" y="5877000"/>
            <a:ext cx="122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,52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61080" y="3860640"/>
            <a:ext cx="122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92720" y="2421000"/>
            <a:ext cx="360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92720" y="5013360"/>
            <a:ext cx="360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67280" y="1773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67280" y="211608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67280" y="55166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68720" y="58611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35733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92720" y="4221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00720" y="2421000"/>
            <a:ext cx="360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00720" y="5013360"/>
            <a:ext cx="360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00720" y="3573360"/>
            <a:ext cx="360360" cy="8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68720" y="292428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68720" y="32688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67280" y="4797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67280" y="44928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59280" y="292428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0,41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32688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0,70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59280" y="44928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7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61080" y="4797360"/>
            <a:ext cx="122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37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27640" y="134136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836640"/>
            <a:ext cx="633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ultypen und Sozial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525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zialindex für Hamburger Grundschul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79280" y="1779480"/>
            <a:ext cx="8425080" cy="46738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50920" y="836640"/>
            <a:ext cx="633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ultypen und Lesekompetenz (95 %-Intervall der Gruppenmittelwer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525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zialindex für Hamburger Grundschul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26920" y="2494080"/>
            <a:ext cx="7444080" cy="28065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50920" y="836640"/>
            <a:ext cx="633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differenzierung nach Schultypen und Sozial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525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zialindex für Hamburger Grundschul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836640"/>
            <a:ext cx="633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sdifferenzierung und Lesekompetenz (95 %-Intervall der Gruppenmittelwer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79280" y="1746360"/>
            <a:ext cx="835344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08:45:03Z</dcterms:created>
  <dc:creator>studiglu</dc:creator>
  <dc:description/>
  <dc:language>en-US</dc:language>
  <cp:lastModifiedBy>Dr. Jan Poerschke</cp:lastModifiedBy>
  <cp:lastPrinted>2003-10-22T22:32:09Z</cp:lastPrinted>
  <dcterms:modified xsi:type="dcterms:W3CDTF">2004-12-13T16:16:08Z</dcterms:modified>
  <cp:revision>415</cp:revision>
  <dc:subject/>
  <dc:title>Folie 1</dc:title>
</cp:coreProperties>
</file>