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3FE8-FA38-41FD-AC9A-71A46C7D0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1280" y="216000"/>
            <a:ext cx="5256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4714-69DC-4680-B941-7210209A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1280" y="216000"/>
            <a:ext cx="5256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22C2-4E3E-472C-8E8A-0B42862DF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1280" y="216000"/>
            <a:ext cx="5256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99E3-1398-4FC7-985E-3FAE2E102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1280" y="216000"/>
            <a:ext cx="5256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6435-0C5F-4304-909E-74AFAE05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1280" y="216000"/>
            <a:ext cx="5256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87B7-36D7-4F92-B153-AE5080FF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1280" y="216000"/>
            <a:ext cx="5256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B5CD-8DC7-477A-A1D3-0D072008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1280" y="216000"/>
            <a:ext cx="5256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9DBE-55D8-4EAC-8E1F-23FC7648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1280" y="260280"/>
            <a:ext cx="525600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2059-6AB4-4D82-9489-6B80238D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1280" y="216000"/>
            <a:ext cx="5256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4BB4-42D0-4E77-A64F-30131EE4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1280" y="216000"/>
            <a:ext cx="5256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D489-F0F4-4611-882F-292AE738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1280" y="216000"/>
            <a:ext cx="5256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AD26-8818-4AA6-8728-14489096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ddf"/>
            </a:gs>
            <a:gs pos="50000">
              <a:srgbClr val="ffffef"/>
            </a:gs>
            <a:gs pos="100000">
              <a:srgbClr val="ffed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52560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25560">
            <a:solidFill>
              <a:srgbClr val="fe960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61D4-0875-40C6-B7B2-B896E1403F0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ddf"/>
            </a:gs>
            <a:gs pos="100000">
              <a:srgbClr val="ffffe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520" y="5084640"/>
            <a:ext cx="777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5700"/>
                </a:solidFill>
                <a:latin typeface="Comic Sans MS"/>
              </a:rPr>
              <a:t>KOMPETENZEN UND EINSTELLUNGEN</a:t>
            </a:r>
            <a:br>
              <a:rPr sz="2000"/>
            </a:br>
            <a:r>
              <a:rPr b="1" lang="en-US" sz="2000" spc="-1" strike="noStrike">
                <a:solidFill>
                  <a:srgbClr val="cc5700"/>
                </a:solidFill>
                <a:latin typeface="Comic Sans MS"/>
              </a:rPr>
              <a:t>VON SCHÜLERINNEN UND SCHÜL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06560" y="777960"/>
            <a:ext cx="5041800" cy="405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ddf"/>
            </a:gs>
            <a:gs pos="50000">
              <a:srgbClr val="ffffef"/>
            </a:gs>
            <a:gs pos="100000">
              <a:srgbClr val="ffed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6200" y="260280"/>
            <a:ext cx="6626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lage und Durchführung von K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136000" cy="4608720"/>
          </a:xfrm>
          <a:prstGeom prst="rect">
            <a:avLst/>
          </a:prstGeom>
          <a:noFill/>
          <a:ln w="25560">
            <a:solidFill>
              <a:srgbClr val="fe960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winn von Erkenntnissen ü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rnstände am Ende der Grundschulzeit in den Fäch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hemat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chunterricht (Naturwissenschaf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utsch (Lesen, Rechtschreiben, Texte verfass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glisch (Hörversteh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dingungs- und Kontextfaktoren schulischer Leistung anhand v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ülermerkma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ternmerkma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terrichtsmerkma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ulischen Rahmenbeding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38920" y="6454800"/>
            <a:ext cx="2413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erent: Wilfried B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4560" y="906480"/>
            <a:ext cx="6301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Ziel der Untersuch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423200" y="189000"/>
            <a:ext cx="16128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ddf"/>
            </a:gs>
            <a:gs pos="50000">
              <a:srgbClr val="ffffef"/>
            </a:gs>
            <a:gs pos="100000">
              <a:srgbClr val="ffed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6200" y="260280"/>
            <a:ext cx="6626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lage und Durchführung von K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136000" cy="4608720"/>
          </a:xfrm>
          <a:prstGeom prst="rect">
            <a:avLst/>
          </a:prstGeom>
          <a:noFill/>
          <a:ln w="25560">
            <a:solidFill>
              <a:srgbClr val="fe960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istungstests mit und Befragung v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. 14.000 Schülerinnen und Schülern in den vierten Klassen aller Hamburger Grundschulen (ausgenommen Förderschul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ragung v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tern der getesteten Schülerinnen und Schü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hlehrkräften der getesteten Schülerinnen und Schüler (Deutsch, Sachkunde und Mathemati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ulleitungen der Hamburger Grundschu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38920" y="6454800"/>
            <a:ext cx="2413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erent: Wilfried B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74560" y="906480"/>
            <a:ext cx="6301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ufbau und Umf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423200" y="189000"/>
            <a:ext cx="16128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ddf"/>
            </a:gs>
            <a:gs pos="50000">
              <a:srgbClr val="ffffef"/>
            </a:gs>
            <a:gs pos="100000">
              <a:srgbClr val="ffed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6200" y="260280"/>
            <a:ext cx="6626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lage und Durchführung von K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136000" cy="4608720"/>
          </a:xfrm>
          <a:prstGeom prst="rect">
            <a:avLst/>
          </a:prstGeom>
          <a:noFill/>
          <a:ln w="25560">
            <a:solidFill>
              <a:srgbClr val="fe960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 200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nerheb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 - Oktober 200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naufberei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 November 200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wertung der 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il 200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gebnisrückmeldungen an die Einzelschu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mer 200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öffentlichung des Abschlussberich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38920" y="6454800"/>
            <a:ext cx="2413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erent: Wilfried B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4560" y="906480"/>
            <a:ext cx="6301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Zeit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423200" y="189000"/>
            <a:ext cx="16128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ddf"/>
            </a:gs>
            <a:gs pos="50000">
              <a:srgbClr val="ffffef"/>
            </a:gs>
            <a:gs pos="100000">
              <a:srgbClr val="ffed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6200" y="260280"/>
            <a:ext cx="6626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lage und Durchführung von K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"/>
          <p:cNvSpPr/>
          <p:nvPr/>
        </p:nvSpPr>
        <p:spPr>
          <a:xfrm>
            <a:off x="6838920" y="6454800"/>
            <a:ext cx="2413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erent: Wilfried B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4560" y="906480"/>
            <a:ext cx="6301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ingesetzte Instru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423200" y="189000"/>
            <a:ext cx="16128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8153280" cy="4695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995640" y="537372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3 Rotation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95640" y="486900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3 Rotation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95640" y="566100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3 Rotation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95640" y="321300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3 Rotation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95640" y="50990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3 Rotation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95640" y="43070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3 Rotation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ddf"/>
            </a:gs>
            <a:gs pos="50000">
              <a:srgbClr val="ffffef"/>
            </a:gs>
            <a:gs pos="100000">
              <a:srgbClr val="ffed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6200" y="260280"/>
            <a:ext cx="6626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lage und Durchführung von K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"/>
          <p:cNvSpPr/>
          <p:nvPr/>
        </p:nvSpPr>
        <p:spPr>
          <a:xfrm>
            <a:off x="6838920" y="6454800"/>
            <a:ext cx="2413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erent: Wilfried B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4560" y="906480"/>
            <a:ext cx="6301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kalen im Schüler- und Elternfragebogen (Auswah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423200" y="189000"/>
            <a:ext cx="16128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25560">
            <a:solidFill>
              <a:srgbClr val="fe960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ülerfrageb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stellungen zu und Erleben von Schule und Unterricht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rach- und Lesegewohnheit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lebtes Erziehungsverhalten der Elter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rnmotivation, prosoziale Motivatio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eizeitverhalt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ntakte mit Gleichaltrig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lternfrageb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rach- und Lesegewohnheit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ultureller Hintergrun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sbildung und Berufsausübu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ziehungsverhalt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ddf"/>
            </a:gs>
            <a:gs pos="50000">
              <a:srgbClr val="ffffef"/>
            </a:gs>
            <a:gs pos="100000">
              <a:srgbClr val="ffed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6200" y="260280"/>
            <a:ext cx="6626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lage und Durchführung von K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"/>
          <p:cNvSpPr/>
          <p:nvPr/>
        </p:nvSpPr>
        <p:spPr>
          <a:xfrm>
            <a:off x="6838920" y="6454800"/>
            <a:ext cx="2413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erent: Wilfried B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4560" y="906480"/>
            <a:ext cx="68169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kalen im Lehrer- und Schulleiterfragebogen (Auswah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423200" y="189000"/>
            <a:ext cx="16128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25560">
            <a:solidFill>
              <a:srgbClr val="fe960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hrerfrageb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tivitäten im Unterrich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usaufgab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operation in der Schu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astung im Lehrerber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nstellungen zu Sprache, Mathematik, Naturwissenschaft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ulleiterfrageb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stattung der Schu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operation mit dem Kolleg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ulentwicklu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setzung amtlicher Vorga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ulstand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ddf"/>
            </a:gs>
            <a:gs pos="50000">
              <a:srgbClr val="ffffef"/>
            </a:gs>
            <a:gs pos="100000">
              <a:srgbClr val="ffed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6200" y="260280"/>
            <a:ext cx="6626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lage und Durchführung von K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6838920" y="6454800"/>
            <a:ext cx="2413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erent: Wilfried B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4560" y="906480"/>
            <a:ext cx="6301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rhebungsdesign der Hintergrundmerkm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423200" y="189000"/>
            <a:ext cx="16128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68360" y="1708200"/>
            <a:ext cx="81360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ddf"/>
            </a:gs>
            <a:gs pos="50000">
              <a:srgbClr val="ffffef"/>
            </a:gs>
            <a:gs pos="100000">
              <a:srgbClr val="ffed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6200" y="260280"/>
            <a:ext cx="6626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lage und Durchführung von K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136000" cy="4608720"/>
          </a:xfrm>
          <a:prstGeom prst="rect">
            <a:avLst/>
          </a:prstGeom>
          <a:noFill/>
          <a:ln w="25560">
            <a:solidFill>
              <a:srgbClr val="fe960c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ist geplant, KESS als Längsschnittstudie fortzuführen. Daher sollen weitere Erhebungen in den Klassenstufen 6, 8 und 10 fol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e Anbindung der Berliner Studie ‚ELEMENT‘ soll die Möglichkeit des Metropolenvergleichs bie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ch den Einsatz von Aufgaben aus anderen Untersuchungen bietet sich die Möglichkeit des Vergleichs und der Anbindung an die Studi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tionale Grundschul-Lese-Untersuchung‘ (IGL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kte der Lernausgangslage und Lernentwicklung - Jahrgangsstufe 5‘ (LAU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kt Lesen und Schreiben für alle‘ (PLU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38920" y="6454800"/>
            <a:ext cx="2413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erent: Wilfried B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4560" y="906480"/>
            <a:ext cx="6301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usbl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423200" y="189000"/>
            <a:ext cx="16128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6T08:45:03Z</dcterms:created>
  <dc:creator>studiglu</dc:creator>
  <dc:description/>
  <dc:language>en-US</dc:language>
  <cp:lastModifiedBy>Dr. Jan Poerschke</cp:lastModifiedBy>
  <cp:lastPrinted>2003-10-22T22:32:09Z</cp:lastPrinted>
  <dcterms:modified xsi:type="dcterms:W3CDTF">2004-12-13T16:19:57Z</dcterms:modified>
  <cp:revision>195</cp:revision>
  <dc:subject/>
  <dc:title>Folie 1</dc:title>
</cp:coreProperties>
</file>