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648450" cy="98488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750D97-5307-45E9-8F52-EBFB974130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4000" y="1371600"/>
            <a:ext cx="7926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348000" y="3573360"/>
            <a:ext cx="5262480" cy="94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48000" y="4608360"/>
            <a:ext cx="5262480" cy="94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46FB77-1EB4-4572-B2FE-23567E2819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4000" y="1371600"/>
            <a:ext cx="7926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348000" y="3573360"/>
            <a:ext cx="2567880" cy="94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044760" y="3573360"/>
            <a:ext cx="2567880" cy="94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348000" y="4608360"/>
            <a:ext cx="2567880" cy="94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044760" y="4608360"/>
            <a:ext cx="2567880" cy="94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A90892-4EFA-4868-87C6-23DFBB4B60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000" y="1371600"/>
            <a:ext cx="7926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348000" y="3573360"/>
            <a:ext cx="1694160" cy="94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27120" y="3573360"/>
            <a:ext cx="1694160" cy="94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906600" y="3573360"/>
            <a:ext cx="1694160" cy="94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3348000" y="4608360"/>
            <a:ext cx="1694160" cy="94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5127120" y="4608360"/>
            <a:ext cx="1694160" cy="94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906600" y="4608360"/>
            <a:ext cx="1694160" cy="94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D825B3-351E-486B-99FE-37F5521D87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4000" y="1371600"/>
            <a:ext cx="7926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3348000" y="3573360"/>
            <a:ext cx="526248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4000" y="1371600"/>
            <a:ext cx="7926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348000" y="3573360"/>
            <a:ext cx="5262480" cy="19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4000" y="1371600"/>
            <a:ext cx="7926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348000" y="3573360"/>
            <a:ext cx="2567880" cy="19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044760" y="3573360"/>
            <a:ext cx="2567880" cy="19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4000" y="1371600"/>
            <a:ext cx="7926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684000" y="1371600"/>
            <a:ext cx="7926120" cy="81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4000" y="1371600"/>
            <a:ext cx="7926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348000" y="3573360"/>
            <a:ext cx="2567880" cy="94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044760" y="3573360"/>
            <a:ext cx="2567880" cy="19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348000" y="4608360"/>
            <a:ext cx="2567880" cy="94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4000" y="1371600"/>
            <a:ext cx="7926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3348000" y="3573360"/>
            <a:ext cx="526248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794083-E95E-4546-AA1A-3A911B3C68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4000" y="1371600"/>
            <a:ext cx="7926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348000" y="3573360"/>
            <a:ext cx="2567880" cy="19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44760" y="3573360"/>
            <a:ext cx="2567880" cy="94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44760" y="4608360"/>
            <a:ext cx="2567880" cy="94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4000" y="1371600"/>
            <a:ext cx="7926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348000" y="3573360"/>
            <a:ext cx="2567880" cy="94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6044760" y="3573360"/>
            <a:ext cx="2567880" cy="94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348000" y="4608360"/>
            <a:ext cx="5262480" cy="94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4000" y="1371600"/>
            <a:ext cx="7926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348000" y="3573360"/>
            <a:ext cx="5262480" cy="94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48000" y="4608360"/>
            <a:ext cx="5262480" cy="94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4000" y="1371600"/>
            <a:ext cx="7926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348000" y="3573360"/>
            <a:ext cx="2567880" cy="94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044760" y="3573360"/>
            <a:ext cx="2567880" cy="94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348000" y="4608360"/>
            <a:ext cx="2567880" cy="94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044760" y="4608360"/>
            <a:ext cx="2567880" cy="94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4000" y="1371600"/>
            <a:ext cx="7926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348000" y="3573360"/>
            <a:ext cx="1694160" cy="94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127120" y="3573360"/>
            <a:ext cx="1694160" cy="94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906600" y="3573360"/>
            <a:ext cx="1694160" cy="94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348000" y="4608360"/>
            <a:ext cx="1694160" cy="94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5127120" y="4608360"/>
            <a:ext cx="1694160" cy="94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906600" y="4608360"/>
            <a:ext cx="1694160" cy="94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4000" y="1371600"/>
            <a:ext cx="7926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348000" y="3573360"/>
            <a:ext cx="5262480" cy="19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85B64C-79A7-4087-82EA-7C23F5E519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4000" y="1371600"/>
            <a:ext cx="7926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348000" y="3573360"/>
            <a:ext cx="2567880" cy="19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044760" y="3573360"/>
            <a:ext cx="2567880" cy="19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4B6D40-7BCD-41D7-93A4-230FA349A4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4000" y="1371600"/>
            <a:ext cx="7926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4486B4-2840-41BF-B03C-B1589E82BB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4000" y="1371600"/>
            <a:ext cx="7926120" cy="81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4971A1-2926-49BF-BC17-71400DF949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4000" y="1371600"/>
            <a:ext cx="7926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348000" y="3573360"/>
            <a:ext cx="2567880" cy="94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044760" y="3573360"/>
            <a:ext cx="2567880" cy="19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348000" y="4608360"/>
            <a:ext cx="2567880" cy="94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89CB25-561B-49AE-A5BD-C0A40210E3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4000" y="1371600"/>
            <a:ext cx="7926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348000" y="3573360"/>
            <a:ext cx="2567880" cy="19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044760" y="3573360"/>
            <a:ext cx="2567880" cy="94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44760" y="4608360"/>
            <a:ext cx="2567880" cy="94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9388B2-6A27-4C94-87AC-EE15F294A6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4000" y="1371600"/>
            <a:ext cx="7926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348000" y="3573360"/>
            <a:ext cx="2567880" cy="94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044760" y="3573360"/>
            <a:ext cx="2567880" cy="94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348000" y="4608360"/>
            <a:ext cx="5262480" cy="94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98BACA-812E-46BA-93A9-88151BD17F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07640" y="981000"/>
            <a:ext cx="676764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904760" y="2060640"/>
            <a:ext cx="677052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49"/>
              </a:spcBef>
              <a:buClr>
                <a:srgbClr val="f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336699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649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336699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649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336699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6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336699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649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336699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649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883280" y="6381360"/>
            <a:ext cx="115236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09E77-85FC-4207-B889-F47C75C2C173}" type="slidenum">
              <a:rPr b="1" lang="en-US" sz="1400" spc="-1" strike="noStrike">
                <a:solidFill>
                  <a:srgbClr val="33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-9360" y="476280"/>
            <a:ext cx="333360" cy="360360"/>
          </a:xfrm>
          <a:prstGeom prst="rect">
            <a:avLst/>
          </a:prstGeom>
          <a:solidFill>
            <a:srgbClr val="f00000"/>
          </a:solidFill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9360" y="1197000"/>
            <a:ext cx="333360" cy="360360"/>
          </a:xfrm>
          <a:prstGeom prst="rect">
            <a:avLst/>
          </a:prstGeom>
          <a:solidFill>
            <a:srgbClr val="f00000"/>
          </a:solidFill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-9360" y="1916280"/>
            <a:ext cx="333360" cy="360360"/>
          </a:xfrm>
          <a:prstGeom prst="rect">
            <a:avLst/>
          </a:prstGeom>
          <a:solidFill>
            <a:srgbClr val="f00000"/>
          </a:solidFill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-9360" y="2637000"/>
            <a:ext cx="333360" cy="360360"/>
          </a:xfrm>
          <a:prstGeom prst="rect">
            <a:avLst/>
          </a:prstGeom>
          <a:solidFill>
            <a:srgbClr val="f00000"/>
          </a:solidFill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-9360" y="3355920"/>
            <a:ext cx="333360" cy="360360"/>
          </a:xfrm>
          <a:prstGeom prst="rect">
            <a:avLst/>
          </a:prstGeom>
          <a:solidFill>
            <a:srgbClr val="f00000"/>
          </a:solidFill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684000" y="6381720"/>
            <a:ext cx="662436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" name="" descr=""/>
          <p:cNvPicPr/>
          <p:nvPr/>
        </p:nvPicPr>
        <p:blipFill>
          <a:blip r:embed="rId2"/>
          <a:stretch/>
        </p:blipFill>
        <p:spPr>
          <a:xfrm>
            <a:off x="7488360" y="111240"/>
            <a:ext cx="1476360" cy="653760"/>
          </a:xfrm>
          <a:prstGeom prst="rect">
            <a:avLst/>
          </a:prstGeom>
          <a:ln w="0">
            <a:noFill/>
          </a:ln>
        </p:spPr>
      </p:pic>
      <p:sp>
        <p:nvSpPr>
          <p:cNvPr id="10" name=""/>
          <p:cNvSpPr/>
          <p:nvPr/>
        </p:nvSpPr>
        <p:spPr>
          <a:xfrm>
            <a:off x="539640" y="401760"/>
            <a:ext cx="525636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99"/>
                </a:solidFill>
                <a:latin typeface="Arial"/>
              </a:rPr>
              <a:t>Hessisches Kultusministerium</a:t>
            </a:r>
            <a:endParaRPr b="0" lang="en-US" sz="1400" spc="-1" strike="noStrike">
              <a:solidFill>
                <a:srgbClr val="336666"/>
              </a:solidFill>
              <a:latin typeface="Arial"/>
            </a:endParaRPr>
          </a:p>
          <a:p>
            <a:pPr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titut für Qualitätsentwicklung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324000" y="3357720"/>
            <a:ext cx="8820000" cy="35002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24000" y="3357720"/>
            <a:ext cx="2952720" cy="3527280"/>
          </a:xfrm>
          <a:custGeom>
            <a:avLst/>
            <a:gdLst/>
            <a:ahLst/>
            <a:rect l="l" t="t" r="r" b="b"/>
            <a:pathLst>
              <a:path w="1860" h="2222">
                <a:moveTo>
                  <a:pt x="0" y="0"/>
                </a:moveTo>
                <a:lnTo>
                  <a:pt x="1860" y="0"/>
                </a:lnTo>
                <a:lnTo>
                  <a:pt x="862" y="2222"/>
                </a:lnTo>
                <a:lnTo>
                  <a:pt x="0" y="2222"/>
                </a:lnTo>
                <a:lnTo>
                  <a:pt x="0" y="0"/>
                </a:lnTo>
                <a:close/>
              </a:path>
            </a:pathLst>
          </a:custGeom>
          <a:solidFill>
            <a:srgbClr val="a2aacd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4000" y="1371600"/>
            <a:ext cx="7926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6699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8008920" y="260280"/>
            <a:ext cx="666720" cy="8571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-9360" y="476280"/>
            <a:ext cx="333360" cy="360360"/>
          </a:xfrm>
          <a:prstGeom prst="rect">
            <a:avLst/>
          </a:prstGeom>
          <a:solidFill>
            <a:srgbClr val="f00000"/>
          </a:solidFill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-9360" y="1197000"/>
            <a:ext cx="333360" cy="360360"/>
          </a:xfrm>
          <a:prstGeom prst="rect">
            <a:avLst/>
          </a:prstGeom>
          <a:solidFill>
            <a:srgbClr val="f00000"/>
          </a:solidFill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-9360" y="1916280"/>
            <a:ext cx="333360" cy="360360"/>
          </a:xfrm>
          <a:prstGeom prst="rect">
            <a:avLst/>
          </a:prstGeom>
          <a:solidFill>
            <a:srgbClr val="f00000"/>
          </a:solidFill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-9360" y="2637000"/>
            <a:ext cx="333360" cy="360360"/>
          </a:xfrm>
          <a:prstGeom prst="rect">
            <a:avLst/>
          </a:prstGeom>
          <a:solidFill>
            <a:srgbClr val="f00000"/>
          </a:solidFill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-9360" y="3355920"/>
            <a:ext cx="333360" cy="360360"/>
          </a:xfrm>
          <a:prstGeom prst="rect">
            <a:avLst/>
          </a:prstGeom>
          <a:solidFill>
            <a:srgbClr val="f00000"/>
          </a:solidFill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ftr" idx="3"/>
          </p:nvPr>
        </p:nvSpPr>
        <p:spPr>
          <a:xfrm>
            <a:off x="684000" y="6381720"/>
            <a:ext cx="662436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447840" y="3382920"/>
            <a:ext cx="1892160" cy="8380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539640" y="401760"/>
            <a:ext cx="525636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99"/>
                </a:solidFill>
                <a:latin typeface="Arial"/>
              </a:rPr>
              <a:t>Hessisches Kultusministerium</a:t>
            </a:r>
            <a:endParaRPr b="0" lang="en-US" sz="1400" spc="-1" strike="noStrike">
              <a:solidFill>
                <a:srgbClr val="336666"/>
              </a:solidFill>
              <a:latin typeface="Arial"/>
            </a:endParaRPr>
          </a:p>
          <a:p>
            <a:pPr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titut für Qualitätsentwicklung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336699"/>
              </a:solidFill>
              <a:latin typeface="Arial"/>
            </a:endParaRPr>
          </a:p>
          <a:p>
            <a:pPr lvl="1" marL="457200" indent="0"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lvl="2" marL="914400" algn="ctr">
              <a:lnSpc>
                <a:spcPct val="12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3" marL="1371600" algn="ctr">
              <a:lnSpc>
                <a:spcPct val="120000"/>
              </a:lnSpc>
              <a:spcBef>
                <a:spcPts val="451"/>
              </a:spcBef>
              <a:buClr>
                <a:srgbClr val="33666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lvl="4" marL="1828800" algn="ctr">
              <a:lnSpc>
                <a:spcPct val="120000"/>
              </a:lnSpc>
              <a:spcBef>
                <a:spcPts val="400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4000" y="1371600"/>
            <a:ext cx="7926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400" spc="-1" strike="noStrike">
                <a:solidFill>
                  <a:srgbClr val="336699"/>
                </a:solidFill>
                <a:latin typeface="Arial"/>
              </a:rPr>
              <a:t>Das Institut für Qualitäts-</a:t>
            </a:r>
            <a:br>
              <a:rPr sz="3400"/>
            </a:br>
            <a:r>
              <a:rPr b="1" lang="de-DE" sz="3400" spc="-1" strike="noStrike">
                <a:solidFill>
                  <a:srgbClr val="336699"/>
                </a:solidFill>
                <a:latin typeface="Arial"/>
              </a:rPr>
              <a:t>entwicklung (IQ) in Hessen</a:t>
            </a:r>
            <a:endParaRPr b="1" lang="en-US" sz="3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3348000" y="3573360"/>
            <a:ext cx="526248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Aufgaben, Organisation und Ziele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908000" y="1052640"/>
            <a:ext cx="72360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Arbeitseinheit 5: </a:t>
            </a:r>
            <a:br>
              <a:rPr sz="2400"/>
            </a:b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Modellvorhaben und Entwicklungsprojekte zur </a:t>
            </a:r>
            <a:br>
              <a:rPr sz="1800"/>
            </a:b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Schul- und Unterrichtsentwicklung</a:t>
            </a: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904760" y="2133720"/>
            <a:ext cx="677052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Planung, Durchführung und Auswertung von Modellvorhaben und Entwicklungsprojekten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Unterstützung des Qualitätsmanagements externer Schulentwicklungsvorhaben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Unterstützung beim Transfer in landesweite Maßnahmen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Beratung des Hessischen Kultusministeriums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324000" y="1195560"/>
            <a:ext cx="1368360" cy="2520360"/>
            <a:chOff x="324000" y="1195560"/>
            <a:chExt cx="1368360" cy="2520360"/>
          </a:xfrm>
        </p:grpSpPr>
        <p:sp>
          <p:nvSpPr>
            <p:cNvPr id="202" name=""/>
            <p:cNvSpPr/>
            <p:nvPr/>
          </p:nvSpPr>
          <p:spPr>
            <a:xfrm>
              <a:off x="324000" y="1195560"/>
              <a:ext cx="1368360" cy="360000"/>
            </a:xfrm>
            <a:prstGeom prst="rect">
              <a:avLst/>
            </a:prstGeom>
            <a:gradFill rotWithShape="0">
              <a:gsLst>
                <a:gs pos="0">
                  <a:srgbClr val="336699">
                    <a:alpha val="47058"/>
                  </a:srgbClr>
                </a:gs>
                <a:gs pos="50000">
                  <a:srgbClr val="ffffff">
                    <a:alpha val="42352"/>
                  </a:srgbClr>
                </a:gs>
                <a:gs pos="100000">
                  <a:srgbClr val="336699">
                    <a:alpha val="47058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24000" y="1196640"/>
              <a:ext cx="1368360" cy="35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54000" tIns="10800" bIns="10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6699"/>
                  </a:solidFill>
                  <a:latin typeface="Arial"/>
                </a:rPr>
                <a:t>Aufgaben</a:t>
              </a:r>
              <a:endParaRPr b="0" lang="en-US" sz="1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24000" y="1915920"/>
              <a:ext cx="1368360" cy="360000"/>
            </a:xfrm>
            <a:prstGeom prst="rect">
              <a:avLst/>
            </a:prstGeom>
            <a:gradFill rotWithShape="0">
              <a:gsLst>
                <a:gs pos="0">
                  <a:srgbClr val="336699">
                    <a:alpha val="47058"/>
                  </a:srgbClr>
                </a:gs>
                <a:gs pos="50000">
                  <a:srgbClr val="ffffff">
                    <a:alpha val="42352"/>
                  </a:srgbClr>
                </a:gs>
                <a:gs pos="100000">
                  <a:srgbClr val="336699">
                    <a:alpha val="47058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24000" y="2635200"/>
              <a:ext cx="1368360" cy="360000"/>
            </a:xfrm>
            <a:prstGeom prst="rect">
              <a:avLst/>
            </a:prstGeom>
            <a:gradFill rotWithShape="0">
              <a:gsLst>
                <a:gs pos="0">
                  <a:srgbClr val="336699">
                    <a:alpha val="47058"/>
                  </a:srgbClr>
                </a:gs>
                <a:gs pos="50000">
                  <a:srgbClr val="ffffff">
                    <a:alpha val="42352"/>
                  </a:srgbClr>
                </a:gs>
                <a:gs pos="100000">
                  <a:srgbClr val="336699">
                    <a:alpha val="47058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24000" y="3355920"/>
              <a:ext cx="1368360" cy="360000"/>
            </a:xfrm>
            <a:prstGeom prst="rect">
              <a:avLst/>
            </a:prstGeom>
            <a:gradFill rotWithShape="0">
              <a:gsLst>
                <a:gs pos="0">
                  <a:srgbClr val="336699">
                    <a:alpha val="47058"/>
                  </a:srgbClr>
                </a:gs>
                <a:gs pos="50000">
                  <a:srgbClr val="ffffff">
                    <a:alpha val="42352"/>
                  </a:srgbClr>
                </a:gs>
                <a:gs pos="100000">
                  <a:srgbClr val="336699">
                    <a:alpha val="47058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24000" y="1915920"/>
              <a:ext cx="1368360" cy="36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54000" tIns="0" bIns="10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6699"/>
                  </a:solidFill>
                  <a:latin typeface="Arial"/>
                </a:rPr>
                <a:t>Organigramm</a:t>
              </a:r>
              <a:endParaRPr b="0" lang="en-US" sz="1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95280" y="2635200"/>
              <a:ext cx="1297080" cy="36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54000" tIns="0" bIns="10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d20000"/>
                  </a:solidFill>
                  <a:latin typeface="Arial"/>
                </a:rPr>
                <a:t>Arbeitseinheiten</a:t>
              </a:r>
              <a:endParaRPr b="0" lang="en-US" sz="1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24000" y="3355920"/>
              <a:ext cx="1296720" cy="36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54000" tIns="10800" bIns="10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6699"/>
                  </a:solidFill>
                  <a:latin typeface="Arial"/>
                </a:rPr>
                <a:t>Servicebereiche</a:t>
              </a:r>
              <a:endParaRPr b="0" lang="en-US" sz="1200" spc="-1" strike="noStrike">
                <a:solidFill>
                  <a:srgbClr val="336666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504EDF-76BB-469C-AD09-DB9B19ADBAC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907640" y="1052640"/>
            <a:ext cx="676764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6699"/>
                </a:solidFill>
                <a:latin typeface="Arial"/>
              </a:rPr>
              <a:t>Arbeitseinheit 6: </a:t>
            </a:r>
            <a:br>
              <a:rPr sz="2800"/>
            </a:br>
            <a:r>
              <a:rPr b="1" lang="de-DE" sz="1800" spc="-1" strike="noStrike">
                <a:solidFill>
                  <a:srgbClr val="336699"/>
                </a:solidFill>
                <a:latin typeface="Arial"/>
              </a:rPr>
              <a:t>Untersuchungen zur Wirksamkeit von Qualifizierungs-</a:t>
            </a:r>
            <a:br>
              <a:rPr sz="1800"/>
            </a:br>
            <a:r>
              <a:rPr b="1" lang="de-DE" sz="1800" spc="-1" strike="noStrike">
                <a:solidFill>
                  <a:srgbClr val="336699"/>
                </a:solidFill>
                <a:latin typeface="Arial"/>
              </a:rPr>
              <a:t>maßnahmen</a:t>
            </a: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908000" y="2204640"/>
            <a:ext cx="677088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Qualitätssicherung von akkreditierten Maßnahmen 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Evaluation von landesweiten Personal- und Schulentwicklungsmaßnahmen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Beratung des Hessischen Kultusministeriums und der Staatlichen Schulämter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324000" y="1195560"/>
            <a:ext cx="1368360" cy="2520360"/>
            <a:chOff x="324000" y="1195560"/>
            <a:chExt cx="1368360" cy="2520360"/>
          </a:xfrm>
        </p:grpSpPr>
        <p:sp>
          <p:nvSpPr>
            <p:cNvPr id="213" name=""/>
            <p:cNvSpPr/>
            <p:nvPr/>
          </p:nvSpPr>
          <p:spPr>
            <a:xfrm>
              <a:off x="324000" y="1195560"/>
              <a:ext cx="1368360" cy="360000"/>
            </a:xfrm>
            <a:prstGeom prst="rect">
              <a:avLst/>
            </a:prstGeom>
            <a:gradFill rotWithShape="0">
              <a:gsLst>
                <a:gs pos="0">
                  <a:srgbClr val="336699">
                    <a:alpha val="47058"/>
                  </a:srgbClr>
                </a:gs>
                <a:gs pos="50000">
                  <a:srgbClr val="ffffff">
                    <a:alpha val="42352"/>
                  </a:srgbClr>
                </a:gs>
                <a:gs pos="100000">
                  <a:srgbClr val="336699">
                    <a:alpha val="47058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24000" y="1196640"/>
              <a:ext cx="1368360" cy="35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54000" tIns="10800" bIns="10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6699"/>
                  </a:solidFill>
                  <a:latin typeface="Arial"/>
                </a:rPr>
                <a:t>Aufgaben</a:t>
              </a:r>
              <a:endParaRPr b="0" lang="en-US" sz="1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24000" y="1915920"/>
              <a:ext cx="1368360" cy="360000"/>
            </a:xfrm>
            <a:prstGeom prst="rect">
              <a:avLst/>
            </a:prstGeom>
            <a:gradFill rotWithShape="0">
              <a:gsLst>
                <a:gs pos="0">
                  <a:srgbClr val="336699">
                    <a:alpha val="47058"/>
                  </a:srgbClr>
                </a:gs>
                <a:gs pos="50000">
                  <a:srgbClr val="ffffff">
                    <a:alpha val="42352"/>
                  </a:srgbClr>
                </a:gs>
                <a:gs pos="100000">
                  <a:srgbClr val="336699">
                    <a:alpha val="47058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24000" y="2635200"/>
              <a:ext cx="1368360" cy="360000"/>
            </a:xfrm>
            <a:prstGeom prst="rect">
              <a:avLst/>
            </a:prstGeom>
            <a:gradFill rotWithShape="0">
              <a:gsLst>
                <a:gs pos="0">
                  <a:srgbClr val="336699">
                    <a:alpha val="47058"/>
                  </a:srgbClr>
                </a:gs>
                <a:gs pos="50000">
                  <a:srgbClr val="ffffff">
                    <a:alpha val="42352"/>
                  </a:srgbClr>
                </a:gs>
                <a:gs pos="100000">
                  <a:srgbClr val="336699">
                    <a:alpha val="47058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24000" y="3355920"/>
              <a:ext cx="1368360" cy="360000"/>
            </a:xfrm>
            <a:prstGeom prst="rect">
              <a:avLst/>
            </a:prstGeom>
            <a:gradFill rotWithShape="0">
              <a:gsLst>
                <a:gs pos="0">
                  <a:srgbClr val="336699">
                    <a:alpha val="47058"/>
                  </a:srgbClr>
                </a:gs>
                <a:gs pos="50000">
                  <a:srgbClr val="ffffff">
                    <a:alpha val="42352"/>
                  </a:srgbClr>
                </a:gs>
                <a:gs pos="100000">
                  <a:srgbClr val="336699">
                    <a:alpha val="47058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24000" y="1915920"/>
              <a:ext cx="1368360" cy="36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54000" tIns="0" bIns="10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6699"/>
                  </a:solidFill>
                  <a:latin typeface="Arial"/>
                </a:rPr>
                <a:t>Organigramm</a:t>
              </a:r>
              <a:endParaRPr b="0" lang="en-US" sz="1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95280" y="2635200"/>
              <a:ext cx="1297080" cy="36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54000" tIns="0" bIns="10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d20000"/>
                  </a:solidFill>
                  <a:latin typeface="Arial"/>
                </a:rPr>
                <a:t>Arbeitseinheiten</a:t>
              </a:r>
              <a:endParaRPr b="0" lang="en-US" sz="1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24000" y="3355920"/>
              <a:ext cx="1296720" cy="36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54000" tIns="10800" bIns="10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6699"/>
                  </a:solidFill>
                  <a:latin typeface="Arial"/>
                </a:rPr>
                <a:t>Servicebereiche</a:t>
              </a:r>
              <a:endParaRPr b="0" lang="en-US" sz="1200" spc="-1" strike="noStrike">
                <a:solidFill>
                  <a:srgbClr val="336666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11B6E5-0B2A-4143-8682-656960745C3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907640" y="981000"/>
            <a:ext cx="676764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Servicebereiche</a:t>
            </a:r>
            <a:br>
              <a:rPr sz="2800"/>
            </a:b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Fachdidaktik und Statistische Auswertung und Evaluation</a:t>
            </a: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904760" y="2060640"/>
            <a:ext cx="677052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6699"/>
                </a:solidFill>
                <a:latin typeface="Arial"/>
              </a:rPr>
              <a:t>Die Servicebereiche bieten innerbetriebliche Dienstleistungen für Querschnittsaufgaben – z.B. wird fachdidaktische Expertise sowohl bei der Arbeit an Vergleichs-, Orientierungs- und Abschlussarbeiten  benötigt als auch bei der Akkreditierung. 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6699"/>
                </a:solidFill>
                <a:latin typeface="Arial"/>
              </a:rPr>
              <a:t>Gleichermaßen sind beide Abteilungen bei der Erarbeitung von Bildungsberichten und Wirkstudien auf bildungsstatistisches Know-How angewiesen.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324000" y="1195560"/>
            <a:ext cx="1368360" cy="2520360"/>
            <a:chOff x="324000" y="1195560"/>
            <a:chExt cx="1368360" cy="2520360"/>
          </a:xfrm>
        </p:grpSpPr>
        <p:sp>
          <p:nvSpPr>
            <p:cNvPr id="224" name=""/>
            <p:cNvSpPr/>
            <p:nvPr/>
          </p:nvSpPr>
          <p:spPr>
            <a:xfrm>
              <a:off x="324000" y="1195560"/>
              <a:ext cx="1368360" cy="360000"/>
            </a:xfrm>
            <a:prstGeom prst="rect">
              <a:avLst/>
            </a:prstGeom>
            <a:gradFill rotWithShape="0">
              <a:gsLst>
                <a:gs pos="0">
                  <a:srgbClr val="336699">
                    <a:alpha val="47058"/>
                  </a:srgbClr>
                </a:gs>
                <a:gs pos="50000">
                  <a:srgbClr val="ffffff">
                    <a:alpha val="42352"/>
                  </a:srgbClr>
                </a:gs>
                <a:gs pos="100000">
                  <a:srgbClr val="336699">
                    <a:alpha val="47058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24000" y="1196640"/>
              <a:ext cx="1368360" cy="35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54000" tIns="10800" bIns="10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6699"/>
                  </a:solidFill>
                  <a:latin typeface="Arial"/>
                </a:rPr>
                <a:t>Aufgaben</a:t>
              </a:r>
              <a:endParaRPr b="0" lang="en-US" sz="1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24000" y="1915920"/>
              <a:ext cx="1368360" cy="360000"/>
            </a:xfrm>
            <a:prstGeom prst="rect">
              <a:avLst/>
            </a:prstGeom>
            <a:gradFill rotWithShape="0">
              <a:gsLst>
                <a:gs pos="0">
                  <a:srgbClr val="336699">
                    <a:alpha val="47058"/>
                  </a:srgbClr>
                </a:gs>
                <a:gs pos="50000">
                  <a:srgbClr val="ffffff">
                    <a:alpha val="42352"/>
                  </a:srgbClr>
                </a:gs>
                <a:gs pos="100000">
                  <a:srgbClr val="336699">
                    <a:alpha val="47058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24000" y="2635200"/>
              <a:ext cx="1368360" cy="360000"/>
            </a:xfrm>
            <a:prstGeom prst="rect">
              <a:avLst/>
            </a:prstGeom>
            <a:gradFill rotWithShape="0">
              <a:gsLst>
                <a:gs pos="0">
                  <a:srgbClr val="336699">
                    <a:alpha val="47058"/>
                  </a:srgbClr>
                </a:gs>
                <a:gs pos="50000">
                  <a:srgbClr val="ffffff">
                    <a:alpha val="42352"/>
                  </a:srgbClr>
                </a:gs>
                <a:gs pos="100000">
                  <a:srgbClr val="336699">
                    <a:alpha val="47058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24000" y="3355920"/>
              <a:ext cx="1368360" cy="360000"/>
            </a:xfrm>
            <a:prstGeom prst="rect">
              <a:avLst/>
            </a:prstGeom>
            <a:gradFill rotWithShape="0">
              <a:gsLst>
                <a:gs pos="0">
                  <a:srgbClr val="336699">
                    <a:alpha val="47058"/>
                  </a:srgbClr>
                </a:gs>
                <a:gs pos="50000">
                  <a:srgbClr val="ffffff">
                    <a:alpha val="42352"/>
                  </a:srgbClr>
                </a:gs>
                <a:gs pos="100000">
                  <a:srgbClr val="336699">
                    <a:alpha val="47058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24000" y="1915920"/>
              <a:ext cx="1368360" cy="36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54000" tIns="0" bIns="10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6699"/>
                  </a:solidFill>
                  <a:latin typeface="Arial"/>
                </a:rPr>
                <a:t>Organigramm</a:t>
              </a:r>
              <a:endParaRPr b="0" lang="en-US" sz="1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95280" y="2635200"/>
              <a:ext cx="1297080" cy="36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54000" tIns="0" bIns="10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66699"/>
                  </a:solidFill>
                  <a:latin typeface="Arial"/>
                </a:rPr>
                <a:t>Arbeitseinheiten</a:t>
              </a:r>
              <a:endParaRPr b="0" lang="en-US" sz="1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24000" y="3355920"/>
              <a:ext cx="1296720" cy="36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54000" tIns="10800" bIns="10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e02b00"/>
                  </a:solidFill>
                  <a:latin typeface="Arial"/>
                </a:rPr>
                <a:t>Servicebereiche</a:t>
              </a:r>
              <a:endParaRPr b="0" lang="en-US" sz="1200" spc="-1" strike="noStrike">
                <a:solidFill>
                  <a:srgbClr val="336666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9E009A-EF67-4BB2-AE2C-9DD379D7EE6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4000" y="1371600"/>
            <a:ext cx="7926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6699"/>
                </a:solidFill>
                <a:latin typeface="Arial"/>
              </a:rPr>
              <a:t>Vielen Dank für Ihre Aufmerksamkeit.</a:t>
            </a:r>
            <a:endParaRPr b="1" lang="en-US" sz="3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7883640" y="6381720"/>
            <a:ext cx="1152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F449D-3B59-4814-A8DB-83E301D01115}" type="slidenum">
              <a:rPr b="1" lang="en-US" sz="1400" spc="-1" strike="noStrike">
                <a:solidFill>
                  <a:srgbClr val="3366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2050920" y="1989000"/>
            <a:ext cx="3097440" cy="719280"/>
          </a:xfrm>
          <a:prstGeom prst="rect">
            <a:avLst/>
          </a:prstGeom>
          <a:gradFill rotWithShape="0">
            <a:gsLst>
              <a:gs pos="0">
                <a:srgbClr val="336699">
                  <a:alpha val="47058"/>
                </a:srgbClr>
              </a:gs>
              <a:gs pos="50000">
                <a:srgbClr val="ffffff">
                  <a:alpha val="42352"/>
                </a:srgbClr>
              </a:gs>
              <a:gs pos="100000">
                <a:srgbClr val="336699">
                  <a:alpha val="4705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Aufgaben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482920" y="2924280"/>
            <a:ext cx="3097080" cy="718920"/>
          </a:xfrm>
          <a:prstGeom prst="rect">
            <a:avLst/>
          </a:prstGeom>
          <a:gradFill rotWithShape="0">
            <a:gsLst>
              <a:gs pos="0">
                <a:srgbClr val="336699">
                  <a:alpha val="47058"/>
                </a:srgbClr>
              </a:gs>
              <a:gs pos="50000">
                <a:srgbClr val="ffffff">
                  <a:alpha val="42352"/>
                </a:srgbClr>
              </a:gs>
              <a:gs pos="100000">
                <a:srgbClr val="336699">
                  <a:alpha val="4705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Organigramm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987640" y="3860640"/>
            <a:ext cx="3097080" cy="719280"/>
          </a:xfrm>
          <a:prstGeom prst="rect">
            <a:avLst/>
          </a:prstGeom>
          <a:gradFill rotWithShape="0">
            <a:gsLst>
              <a:gs pos="0">
                <a:srgbClr val="336699">
                  <a:alpha val="47058"/>
                </a:srgbClr>
              </a:gs>
              <a:gs pos="50000">
                <a:srgbClr val="ffffff">
                  <a:alpha val="42352"/>
                </a:srgbClr>
              </a:gs>
              <a:gs pos="100000">
                <a:srgbClr val="336699">
                  <a:alpha val="4705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Arbeitseinheiten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492360" y="4797360"/>
            <a:ext cx="3097440" cy="719280"/>
          </a:xfrm>
          <a:prstGeom prst="rect">
            <a:avLst/>
          </a:prstGeom>
          <a:gradFill rotWithShape="0">
            <a:gsLst>
              <a:gs pos="0">
                <a:srgbClr val="336699">
                  <a:alpha val="47058"/>
                </a:srgbClr>
              </a:gs>
              <a:gs pos="50000">
                <a:srgbClr val="ffffff">
                  <a:alpha val="42352"/>
                </a:srgbClr>
              </a:gs>
              <a:gs pos="100000">
                <a:srgbClr val="336699">
                  <a:alpha val="4705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Servicebereiche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07640" y="981000"/>
            <a:ext cx="676764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Gliederung: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4221000"/>
            <a:ext cx="1979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594761-1E17-49BF-8098-AE4C9471E25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" name=""/>
          <p:cNvGrpSpPr/>
          <p:nvPr/>
        </p:nvGrpSpPr>
        <p:grpSpPr>
          <a:xfrm>
            <a:off x="324000" y="1195560"/>
            <a:ext cx="1368360" cy="2520360"/>
            <a:chOff x="324000" y="1195560"/>
            <a:chExt cx="1368360" cy="2520360"/>
          </a:xfrm>
        </p:grpSpPr>
        <p:sp>
          <p:nvSpPr>
            <p:cNvPr id="106" name=""/>
            <p:cNvSpPr/>
            <p:nvPr/>
          </p:nvSpPr>
          <p:spPr>
            <a:xfrm>
              <a:off x="324000" y="1195560"/>
              <a:ext cx="1368360" cy="360000"/>
            </a:xfrm>
            <a:prstGeom prst="rect">
              <a:avLst/>
            </a:prstGeom>
            <a:gradFill rotWithShape="0">
              <a:gsLst>
                <a:gs pos="0">
                  <a:srgbClr val="336699">
                    <a:alpha val="47058"/>
                  </a:srgbClr>
                </a:gs>
                <a:gs pos="50000">
                  <a:srgbClr val="ffffff">
                    <a:alpha val="42352"/>
                  </a:srgbClr>
                </a:gs>
                <a:gs pos="100000">
                  <a:srgbClr val="336699">
                    <a:alpha val="47058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24000" y="1196640"/>
              <a:ext cx="1368360" cy="35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54000" tIns="10800" bIns="10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d20000"/>
                  </a:solidFill>
                  <a:latin typeface="Arial"/>
                </a:rPr>
                <a:t>Aufgaben</a:t>
              </a:r>
              <a:endParaRPr b="0" lang="en-US" sz="1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00" y="1915920"/>
              <a:ext cx="1368360" cy="360000"/>
            </a:xfrm>
            <a:prstGeom prst="rect">
              <a:avLst/>
            </a:prstGeom>
            <a:gradFill rotWithShape="0">
              <a:gsLst>
                <a:gs pos="0">
                  <a:srgbClr val="336699">
                    <a:alpha val="47058"/>
                  </a:srgbClr>
                </a:gs>
                <a:gs pos="50000">
                  <a:srgbClr val="ffffff">
                    <a:alpha val="42352"/>
                  </a:srgbClr>
                </a:gs>
                <a:gs pos="100000">
                  <a:srgbClr val="336699">
                    <a:alpha val="47058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24000" y="2635200"/>
              <a:ext cx="1368360" cy="360000"/>
            </a:xfrm>
            <a:prstGeom prst="rect">
              <a:avLst/>
            </a:prstGeom>
            <a:gradFill rotWithShape="0">
              <a:gsLst>
                <a:gs pos="0">
                  <a:srgbClr val="336699">
                    <a:alpha val="47058"/>
                  </a:srgbClr>
                </a:gs>
                <a:gs pos="50000">
                  <a:srgbClr val="ffffff">
                    <a:alpha val="42352"/>
                  </a:srgbClr>
                </a:gs>
                <a:gs pos="100000">
                  <a:srgbClr val="336699">
                    <a:alpha val="47058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00" y="3355920"/>
              <a:ext cx="1368360" cy="360000"/>
            </a:xfrm>
            <a:prstGeom prst="rect">
              <a:avLst/>
            </a:prstGeom>
            <a:gradFill rotWithShape="0">
              <a:gsLst>
                <a:gs pos="0">
                  <a:srgbClr val="336699">
                    <a:alpha val="47058"/>
                  </a:srgbClr>
                </a:gs>
                <a:gs pos="50000">
                  <a:srgbClr val="ffffff">
                    <a:alpha val="42352"/>
                  </a:srgbClr>
                </a:gs>
                <a:gs pos="100000">
                  <a:srgbClr val="336699">
                    <a:alpha val="47058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00" y="1915920"/>
              <a:ext cx="1368360" cy="36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54000" tIns="0" bIns="10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6699"/>
                  </a:solidFill>
                  <a:latin typeface="Arial"/>
                </a:rPr>
                <a:t>Organigramm</a:t>
              </a:r>
              <a:endParaRPr b="0" lang="en-US" sz="1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95280" y="2635200"/>
              <a:ext cx="1297080" cy="36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54000" tIns="0" bIns="10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6699"/>
                  </a:solidFill>
                  <a:latin typeface="Arial"/>
                </a:rPr>
                <a:t>Arbeitseinheiten</a:t>
              </a:r>
              <a:endParaRPr b="0" lang="en-US" sz="1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24000" y="3355920"/>
              <a:ext cx="1296720" cy="36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54000" tIns="10800" bIns="10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6699"/>
                  </a:solidFill>
                  <a:latin typeface="Arial"/>
                </a:rPr>
                <a:t>Servicebereiche</a:t>
              </a:r>
              <a:endParaRPr b="0" lang="en-US" sz="1200" spc="-1" strike="noStrike">
                <a:solidFill>
                  <a:srgbClr val="336666"/>
                </a:solidFill>
                <a:latin typeface="Arial"/>
              </a:endParaRPr>
            </a:p>
          </p:txBody>
        </p:sp>
      </p:grp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1904760" y="2060640"/>
            <a:ext cx="677052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Unterstützung des Hessischen Kultusministeriums </a:t>
            </a:r>
            <a:br>
              <a:rPr sz="2000"/>
            </a:b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bei Entwicklung, Einsatz und Auswertung landesweiter Instrumente und Verfahren zur Qualitätssicherung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Erstellung von Recherchen und Analysen zum hessischen Schulwesen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Auswertung von Schulleistungsstudien sowie der Schul- und Unterrichtsforschung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externe Evaluation hessischer Schulen in Zusammenarbeit mit den Staatlichen Schulämtern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title"/>
          </p:nvPr>
        </p:nvSpPr>
        <p:spPr>
          <a:xfrm>
            <a:off x="1907640" y="981000"/>
            <a:ext cx="676764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Aufgaben des IQ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9CF666-4772-4724-B04A-C7A8123217C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907640" y="981000"/>
            <a:ext cx="676764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Aufgaben des IQ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904760" y="2060640"/>
            <a:ext cx="677052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Durchführung von Vorhaben zur Weiterentwicklung </a:t>
            </a:r>
            <a:br>
              <a:rPr sz="2000"/>
            </a:b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des Schulwesens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Akkreditierung sämtlicher Fortbildungsangebote der Träger der Lehrerbildung sowie der freien Träger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Vergabe von Leistungspunkten für Fortbildungsangebote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Untersuchungen zur Wirksamkeit von Qualifizierungsmaßnahmen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324000" y="1195560"/>
            <a:ext cx="1368360" cy="2520360"/>
            <a:chOff x="324000" y="1195560"/>
            <a:chExt cx="1368360" cy="2520360"/>
          </a:xfrm>
        </p:grpSpPr>
        <p:sp>
          <p:nvSpPr>
            <p:cNvPr id="119" name=""/>
            <p:cNvSpPr/>
            <p:nvPr/>
          </p:nvSpPr>
          <p:spPr>
            <a:xfrm>
              <a:off x="324000" y="1195560"/>
              <a:ext cx="1368360" cy="360000"/>
            </a:xfrm>
            <a:prstGeom prst="rect">
              <a:avLst/>
            </a:prstGeom>
            <a:gradFill rotWithShape="0">
              <a:gsLst>
                <a:gs pos="0">
                  <a:srgbClr val="336699">
                    <a:alpha val="47058"/>
                  </a:srgbClr>
                </a:gs>
                <a:gs pos="50000">
                  <a:srgbClr val="ffffff">
                    <a:alpha val="42352"/>
                  </a:srgbClr>
                </a:gs>
                <a:gs pos="100000">
                  <a:srgbClr val="336699">
                    <a:alpha val="47058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24000" y="1196640"/>
              <a:ext cx="1368360" cy="35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54000" tIns="10800" bIns="10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d20000"/>
                  </a:solidFill>
                  <a:latin typeface="Arial"/>
                </a:rPr>
                <a:t>Aufgaben</a:t>
              </a:r>
              <a:endParaRPr b="0" lang="en-US" sz="1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000" y="1915920"/>
              <a:ext cx="1368360" cy="360000"/>
            </a:xfrm>
            <a:prstGeom prst="rect">
              <a:avLst/>
            </a:prstGeom>
            <a:gradFill rotWithShape="0">
              <a:gsLst>
                <a:gs pos="0">
                  <a:srgbClr val="336699">
                    <a:alpha val="47058"/>
                  </a:srgbClr>
                </a:gs>
                <a:gs pos="50000">
                  <a:srgbClr val="ffffff">
                    <a:alpha val="42352"/>
                  </a:srgbClr>
                </a:gs>
                <a:gs pos="100000">
                  <a:srgbClr val="336699">
                    <a:alpha val="47058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24000" y="2635200"/>
              <a:ext cx="1368360" cy="360000"/>
            </a:xfrm>
            <a:prstGeom prst="rect">
              <a:avLst/>
            </a:prstGeom>
            <a:gradFill rotWithShape="0">
              <a:gsLst>
                <a:gs pos="0">
                  <a:srgbClr val="336699">
                    <a:alpha val="47058"/>
                  </a:srgbClr>
                </a:gs>
                <a:gs pos="50000">
                  <a:srgbClr val="ffffff">
                    <a:alpha val="42352"/>
                  </a:srgbClr>
                </a:gs>
                <a:gs pos="100000">
                  <a:srgbClr val="336699">
                    <a:alpha val="47058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24000" y="3355920"/>
              <a:ext cx="1368360" cy="360000"/>
            </a:xfrm>
            <a:prstGeom prst="rect">
              <a:avLst/>
            </a:prstGeom>
            <a:gradFill rotWithShape="0">
              <a:gsLst>
                <a:gs pos="0">
                  <a:srgbClr val="336699">
                    <a:alpha val="47058"/>
                  </a:srgbClr>
                </a:gs>
                <a:gs pos="50000">
                  <a:srgbClr val="ffffff">
                    <a:alpha val="42352"/>
                  </a:srgbClr>
                </a:gs>
                <a:gs pos="100000">
                  <a:srgbClr val="336699">
                    <a:alpha val="47058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24000" y="1915920"/>
              <a:ext cx="1368360" cy="36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54000" tIns="0" bIns="10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6699"/>
                  </a:solidFill>
                  <a:latin typeface="Arial"/>
                </a:rPr>
                <a:t>Organigramm</a:t>
              </a:r>
              <a:endParaRPr b="0" lang="en-US" sz="1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95280" y="2635200"/>
              <a:ext cx="1297080" cy="36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54000" tIns="0" bIns="10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6699"/>
                  </a:solidFill>
                  <a:latin typeface="Arial"/>
                </a:rPr>
                <a:t>Arbeitseinheiten</a:t>
              </a:r>
              <a:endParaRPr b="0" lang="en-US" sz="1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24000" y="3355920"/>
              <a:ext cx="1296720" cy="36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54000" tIns="10800" bIns="10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3366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6699"/>
                  </a:solidFill>
                  <a:latin typeface="Arial"/>
                </a:rPr>
                <a:t>Servicebereiche</a:t>
              </a:r>
              <a:endParaRPr b="0" lang="en-US" sz="1200" spc="-1" strike="noStrike">
                <a:solidFill>
                  <a:srgbClr val="3366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336666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997FB9-BF47-4BF5-BA23-DB1B8F61996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835280" y="1197000"/>
            <a:ext cx="7308720" cy="566100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3708360" y="2637000"/>
            <a:ext cx="2592360" cy="677520"/>
          </a:xfrm>
          <a:prstGeom prst="rect">
            <a:avLst/>
          </a:prstGeom>
          <a:solidFill>
            <a:srgbClr val="ffd7cd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82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2c2c86"/>
                </a:solidFill>
                <a:latin typeface="Arial"/>
              </a:rPr>
              <a:t>Abteilung I: </a:t>
            </a:r>
            <a:br>
              <a:rPr sz="1200"/>
            </a:br>
            <a:r>
              <a:rPr b="0" lang="de-DE" sz="1200" spc="-1" strike="noStrike">
                <a:solidFill>
                  <a:srgbClr val="2c2c86"/>
                </a:solidFill>
                <a:latin typeface="Arial"/>
              </a:rPr>
              <a:t>Bildungsmonitoring</a:t>
            </a:r>
            <a:br>
              <a:rPr sz="1200"/>
            </a:b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907640" y="907560"/>
            <a:ext cx="676764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Organigramm IQ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909800" y="1773360"/>
            <a:ext cx="1655640" cy="77256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0" bIns="540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INSTITUTS-LEITUNG</a:t>
            </a:r>
            <a:br>
              <a:rPr sz="900"/>
            </a:br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909800" y="2637000"/>
            <a:ext cx="1655640" cy="6775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82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rvicebereich Fachdidaktik</a:t>
            </a:r>
            <a:br>
              <a:rPr sz="1200"/>
            </a:b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909800" y="4405320"/>
            <a:ext cx="1655640" cy="6775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82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rvicebereich Sachbearbeitung</a:t>
            </a:r>
            <a:br>
              <a:rPr sz="1200"/>
            </a:b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708360" y="1773360"/>
            <a:ext cx="1655640" cy="770760"/>
          </a:xfrm>
          <a:prstGeom prst="rect">
            <a:avLst/>
          </a:prstGeom>
          <a:solidFill>
            <a:srgbClr val="e02b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540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ssistenz Institutsleitung</a:t>
            </a:r>
            <a:br>
              <a:rPr sz="1200"/>
            </a:br>
            <a:br>
              <a:rPr sz="1000"/>
            </a:b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508720" y="1773360"/>
            <a:ext cx="1655640" cy="777960"/>
          </a:xfrm>
          <a:prstGeom prst="rect">
            <a:avLst/>
          </a:prstGeom>
          <a:solidFill>
            <a:srgbClr val="e02b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61200" anchor="t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ffffff"/>
                </a:solidFill>
                <a:latin typeface="Arial"/>
              </a:rPr>
              <a:t>Haushalt, Finanzcon-trolling, Leistungs-, Angebots- und Auftragskalkulation</a:t>
            </a:r>
            <a:endParaRPr b="0" lang="en-US" sz="11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1773360"/>
            <a:ext cx="1656000" cy="770760"/>
          </a:xfrm>
          <a:prstGeom prst="rect">
            <a:avLst/>
          </a:prstGeom>
          <a:solidFill>
            <a:srgbClr val="e02b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540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Personal-management</a:t>
            </a:r>
            <a:br>
              <a:rPr sz="1200"/>
            </a:br>
            <a:br>
              <a:rPr sz="1000"/>
            </a:b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708360" y="3357720"/>
            <a:ext cx="2592360" cy="1153080"/>
          </a:xfrm>
          <a:prstGeom prst="rect">
            <a:avLst/>
          </a:prstGeom>
          <a:solidFill>
            <a:srgbClr val="ffffff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46800" anchor="t">
            <a:spAutoFit/>
          </a:bodyPr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c2c86"/>
                </a:solidFill>
                <a:latin typeface="Arial"/>
              </a:rPr>
              <a:t>Arbeitseinheit 1:</a:t>
            </a:r>
            <a:r>
              <a:rPr b="1" lang="en-US" sz="1200" spc="-1" strike="noStrike">
                <a:solidFill>
                  <a:srgbClr val="336699"/>
                </a:solidFill>
                <a:latin typeface="Arial"/>
              </a:rPr>
              <a:t> </a:t>
            </a:r>
            <a:br>
              <a:rPr sz="1200"/>
            </a:b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Landesweite Orientierungs-, </a:t>
            </a:r>
            <a:br>
              <a:rPr sz="1200"/>
            </a:b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Vergleichs- und Abschlussarbeiten, Bildungsberichte: Analysen und Expertisen zur Schulentwicklung </a:t>
            </a:r>
            <a:br>
              <a:rPr sz="1200"/>
            </a:b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in Hessen 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708360" y="4581360"/>
            <a:ext cx="25923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c2c86"/>
                </a:solidFill>
                <a:latin typeface="Arial"/>
              </a:rPr>
              <a:t>Arbeitseinheit 2:</a:t>
            </a: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 </a:t>
            </a:r>
            <a:br>
              <a:rPr sz="1200"/>
            </a:b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Externe Evaluation </a:t>
            </a:r>
            <a:br>
              <a:rPr sz="1200"/>
            </a:b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hessischer Schulen </a:t>
            </a:r>
            <a:br>
              <a:rPr sz="1200"/>
            </a:b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708360" y="5484960"/>
            <a:ext cx="2592360" cy="1299600"/>
          </a:xfrm>
          <a:prstGeom prst="rect">
            <a:avLst/>
          </a:prstGeom>
          <a:solidFill>
            <a:srgbClr val="ffffff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c2c86"/>
                </a:solidFill>
                <a:latin typeface="Arial"/>
              </a:rPr>
              <a:t>Arbeitseinheit 3:</a:t>
            </a: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 </a:t>
            </a:r>
            <a:br>
              <a:rPr sz="1200"/>
            </a:b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Auswertung nationaler Bildungsberichte und internationaler Studien, Unterstützungsleistungen bei Planung und Durchführung </a:t>
            </a:r>
            <a:br>
              <a:rPr sz="1200"/>
            </a:b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nationaler und internationaler Schulleistungsstudien 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372360" y="3357720"/>
            <a:ext cx="2592360" cy="1143720"/>
          </a:xfrm>
          <a:prstGeom prst="rect">
            <a:avLst/>
          </a:prstGeom>
          <a:solidFill>
            <a:srgbClr val="ffffff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c2c86"/>
                </a:solidFill>
                <a:latin typeface="Arial"/>
              </a:rPr>
              <a:t>Arbeitseinheit 4:</a:t>
            </a: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 </a:t>
            </a:r>
            <a:br>
              <a:rPr sz="1200"/>
            </a:b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Akkreditierung</a:t>
            </a:r>
            <a:br>
              <a:rPr sz="1200"/>
            </a:br>
            <a:br>
              <a:rPr sz="1100"/>
            </a:br>
            <a:br>
              <a:rPr sz="1000"/>
            </a:br>
            <a:br>
              <a:rPr sz="1200"/>
            </a:b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372360" y="4581360"/>
            <a:ext cx="25923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c2c86"/>
                </a:solidFill>
                <a:latin typeface="Arial"/>
              </a:rPr>
              <a:t>Arbeitseinheit 5:</a:t>
            </a: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 </a:t>
            </a:r>
            <a:br>
              <a:rPr sz="1200"/>
            </a:b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Modellvorhaben und Entwicklungsprojekte zur Schul- und Unterrichtsentwicklung 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324000" y="1195560"/>
            <a:ext cx="1368360" cy="2520360"/>
            <a:chOff x="324000" y="1195560"/>
            <a:chExt cx="1368360" cy="2520360"/>
          </a:xfrm>
        </p:grpSpPr>
        <p:sp>
          <p:nvSpPr>
            <p:cNvPr id="142" name=""/>
            <p:cNvSpPr/>
            <p:nvPr/>
          </p:nvSpPr>
          <p:spPr>
            <a:xfrm>
              <a:off x="324000" y="1195560"/>
              <a:ext cx="1368360" cy="360000"/>
            </a:xfrm>
            <a:prstGeom prst="rect">
              <a:avLst/>
            </a:prstGeom>
            <a:gradFill rotWithShape="0">
              <a:gsLst>
                <a:gs pos="0">
                  <a:srgbClr val="336699">
                    <a:alpha val="47058"/>
                  </a:srgbClr>
                </a:gs>
                <a:gs pos="50000">
                  <a:srgbClr val="ffffff">
                    <a:alpha val="42352"/>
                  </a:srgbClr>
                </a:gs>
                <a:gs pos="100000">
                  <a:srgbClr val="336699">
                    <a:alpha val="47058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24000" y="1196640"/>
              <a:ext cx="1368360" cy="35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54000" tIns="10800" bIns="10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6699"/>
                  </a:solidFill>
                  <a:latin typeface="Arial"/>
                </a:rPr>
                <a:t>Aufgaben</a:t>
              </a:r>
              <a:endParaRPr b="0" lang="en-US" sz="1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4000" y="1915920"/>
              <a:ext cx="1368360" cy="360000"/>
            </a:xfrm>
            <a:prstGeom prst="rect">
              <a:avLst/>
            </a:prstGeom>
            <a:gradFill rotWithShape="0">
              <a:gsLst>
                <a:gs pos="0">
                  <a:srgbClr val="336699">
                    <a:alpha val="47058"/>
                  </a:srgbClr>
                </a:gs>
                <a:gs pos="50000">
                  <a:srgbClr val="ffffff">
                    <a:alpha val="42352"/>
                  </a:srgbClr>
                </a:gs>
                <a:gs pos="100000">
                  <a:srgbClr val="336699">
                    <a:alpha val="47058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24000" y="2635200"/>
              <a:ext cx="1368360" cy="360000"/>
            </a:xfrm>
            <a:prstGeom prst="rect">
              <a:avLst/>
            </a:prstGeom>
            <a:gradFill rotWithShape="0">
              <a:gsLst>
                <a:gs pos="0">
                  <a:srgbClr val="336699">
                    <a:alpha val="47058"/>
                  </a:srgbClr>
                </a:gs>
                <a:gs pos="50000">
                  <a:srgbClr val="ffffff">
                    <a:alpha val="42352"/>
                  </a:srgbClr>
                </a:gs>
                <a:gs pos="100000">
                  <a:srgbClr val="336699">
                    <a:alpha val="47058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24000" y="3355920"/>
              <a:ext cx="1368360" cy="360000"/>
            </a:xfrm>
            <a:prstGeom prst="rect">
              <a:avLst/>
            </a:prstGeom>
            <a:gradFill rotWithShape="0">
              <a:gsLst>
                <a:gs pos="0">
                  <a:srgbClr val="336699">
                    <a:alpha val="47058"/>
                  </a:srgbClr>
                </a:gs>
                <a:gs pos="50000">
                  <a:srgbClr val="ffffff">
                    <a:alpha val="42352"/>
                  </a:srgbClr>
                </a:gs>
                <a:gs pos="100000">
                  <a:srgbClr val="336699">
                    <a:alpha val="47058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24000" y="1915920"/>
              <a:ext cx="1368360" cy="36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54000" tIns="0" bIns="10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d20000"/>
                  </a:solidFill>
                  <a:latin typeface="Arial"/>
                </a:rPr>
                <a:t>Organigramm</a:t>
              </a:r>
              <a:endParaRPr b="0" lang="en-US" sz="1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95280" y="2635200"/>
              <a:ext cx="1297080" cy="36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54000" tIns="0" bIns="10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6699"/>
                  </a:solidFill>
                  <a:latin typeface="Arial"/>
                </a:rPr>
                <a:t>Arbeitseinheiten</a:t>
              </a:r>
              <a:endParaRPr b="0" lang="en-US" sz="1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24000" y="3355920"/>
              <a:ext cx="1296720" cy="36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54000" tIns="10800" bIns="10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6699"/>
                  </a:solidFill>
                  <a:latin typeface="Arial"/>
                </a:rPr>
                <a:t>Servicebereiche</a:t>
              </a:r>
              <a:endParaRPr b="0" lang="en-US" sz="1200" spc="-1" strike="noStrike">
                <a:solidFill>
                  <a:srgbClr val="336666"/>
                </a:solidFill>
                <a:latin typeface="Arial"/>
              </a:endParaRPr>
            </a:p>
          </p:txBody>
        </p:sp>
      </p:grpSp>
      <p:sp>
        <p:nvSpPr>
          <p:cNvPr id="150" name=""/>
          <p:cNvSpPr/>
          <p:nvPr/>
        </p:nvSpPr>
        <p:spPr>
          <a:xfrm>
            <a:off x="7883640" y="6381720"/>
            <a:ext cx="1152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8DE8B-9183-4507-87C1-1CA52A3D3F5A}" type="slidenum">
              <a:rPr b="1" lang="en-US" sz="1400" spc="-1" strike="noStrike">
                <a:solidFill>
                  <a:srgbClr val="3366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908000" y="3430440"/>
            <a:ext cx="1656000" cy="86004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82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rvicebereich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tatistische Auswertungen und Evaluation 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72360" y="2637000"/>
            <a:ext cx="2592360" cy="677520"/>
          </a:xfrm>
          <a:prstGeom prst="rect">
            <a:avLst/>
          </a:prstGeom>
          <a:solidFill>
            <a:srgbClr val="ffd7cd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82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c2c86"/>
                </a:solidFill>
                <a:latin typeface="Arial"/>
              </a:rPr>
              <a:t>Abteilung II: </a:t>
            </a:r>
            <a:br>
              <a:rPr sz="1200"/>
            </a:br>
            <a:r>
              <a:rPr b="0" lang="en-US" sz="1200" spc="-1" strike="noStrike">
                <a:solidFill>
                  <a:srgbClr val="2c2c86"/>
                </a:solidFill>
                <a:latin typeface="Arial"/>
              </a:rPr>
              <a:t>Akkreditierung, Modellvorhaben </a:t>
            </a:r>
            <a:br>
              <a:rPr sz="1200"/>
            </a:br>
            <a:r>
              <a:rPr b="0" lang="en-US" sz="1200" spc="-1" strike="noStrike">
                <a:solidFill>
                  <a:srgbClr val="2c2c86"/>
                </a:solidFill>
                <a:latin typeface="Arial"/>
              </a:rPr>
              <a:t>und Entwicklungsprojekte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372360" y="5484960"/>
            <a:ext cx="2592360" cy="1311120"/>
          </a:xfrm>
          <a:prstGeom prst="rect">
            <a:avLst/>
          </a:prstGeom>
          <a:solidFill>
            <a:srgbClr val="ffffff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c2c86"/>
                </a:solidFill>
                <a:latin typeface="Arial"/>
              </a:rPr>
              <a:t>Arbeitseinheit 6:</a:t>
            </a: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 </a:t>
            </a:r>
            <a:br>
              <a:rPr sz="1200"/>
            </a:b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Untersuchungen </a:t>
            </a:r>
            <a:br>
              <a:rPr sz="1200"/>
            </a:b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zur Wirksamkeit von </a:t>
            </a:r>
            <a:br>
              <a:rPr sz="1200"/>
            </a:b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Qualifizierungsmaßnahmen</a:t>
            </a:r>
            <a:br>
              <a:rPr sz="1200"/>
            </a:br>
            <a:br>
              <a:rPr sz="1000"/>
            </a:br>
            <a:br>
              <a:rPr sz="1100"/>
            </a:b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8AD945-B0E7-4429-9B1F-F5EF53619FE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907640" y="1197000"/>
            <a:ext cx="676764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6699"/>
                </a:solidFill>
                <a:latin typeface="Arial"/>
              </a:rPr>
              <a:t>Arbeitseinheit 1: </a:t>
            </a:r>
            <a:br>
              <a:rPr sz="2800"/>
            </a:br>
            <a:r>
              <a:rPr b="1" lang="de-DE" sz="1800" spc="-1" strike="noStrike">
                <a:solidFill>
                  <a:srgbClr val="336699"/>
                </a:solidFill>
                <a:latin typeface="Arial"/>
              </a:rPr>
              <a:t>Landesweite Orientierungs-, Vergleichs- und Abschluss-arbeiten; Bildungsberichte: Analysen und Expertisen zur Schulentwicklung in Hessen</a:t>
            </a: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904760" y="2494080"/>
            <a:ext cx="677052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6699"/>
                </a:solidFill>
                <a:latin typeface="Arial"/>
              </a:rPr>
              <a:t>Erstellung und organisatorisch-logistische Durchführung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6699"/>
                </a:solidFill>
                <a:latin typeface="Arial"/>
              </a:rPr>
              <a:t>Auswertung der Ergebnisse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6699"/>
                </a:solidFill>
                <a:latin typeface="Arial"/>
              </a:rPr>
              <a:t>Mitwirkung an der länderübergreifenden Entwicklung der Bildungsstandards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6699"/>
                </a:solidFill>
                <a:latin typeface="Arial"/>
              </a:rPr>
              <a:t>Lehrplanarbeit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6699"/>
                </a:solidFill>
                <a:latin typeface="Arial"/>
              </a:rPr>
              <a:t>Erarbeitung von Analysen, Expertisen und Handlungs-empfehlungen zum hessischen Schulwesen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324000" y="1197000"/>
            <a:ext cx="1368360" cy="2521080"/>
            <a:chOff x="324000" y="1197000"/>
            <a:chExt cx="1368360" cy="2521080"/>
          </a:xfrm>
        </p:grpSpPr>
        <p:sp>
          <p:nvSpPr>
            <p:cNvPr id="157" name=""/>
            <p:cNvSpPr/>
            <p:nvPr/>
          </p:nvSpPr>
          <p:spPr>
            <a:xfrm>
              <a:off x="324000" y="1197000"/>
              <a:ext cx="1368360" cy="360360"/>
            </a:xfrm>
            <a:prstGeom prst="rect">
              <a:avLst/>
            </a:prstGeom>
            <a:gradFill rotWithShape="0">
              <a:gsLst>
                <a:gs pos="0">
                  <a:srgbClr val="336699">
                    <a:alpha val="47058"/>
                  </a:srgbClr>
                </a:gs>
                <a:gs pos="50000">
                  <a:srgbClr val="ffffff">
                    <a:alpha val="42352"/>
                  </a:srgbClr>
                </a:gs>
                <a:gs pos="100000">
                  <a:srgbClr val="336699">
                    <a:alpha val="47058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24000" y="1198440"/>
              <a:ext cx="136836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54000" tIns="10800" bIns="10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6699"/>
                  </a:solidFill>
                  <a:latin typeface="Arial"/>
                </a:rPr>
                <a:t>Aufgaben</a:t>
              </a:r>
              <a:endParaRPr b="0" lang="en-US" sz="1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4000" y="1917720"/>
              <a:ext cx="1368360" cy="360360"/>
            </a:xfrm>
            <a:prstGeom prst="rect">
              <a:avLst/>
            </a:prstGeom>
            <a:gradFill rotWithShape="0">
              <a:gsLst>
                <a:gs pos="0">
                  <a:srgbClr val="336699">
                    <a:alpha val="47058"/>
                  </a:srgbClr>
                </a:gs>
                <a:gs pos="50000">
                  <a:srgbClr val="ffffff">
                    <a:alpha val="42352"/>
                  </a:srgbClr>
                </a:gs>
                <a:gs pos="100000">
                  <a:srgbClr val="336699">
                    <a:alpha val="47058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24000" y="2637000"/>
              <a:ext cx="1368360" cy="360360"/>
            </a:xfrm>
            <a:prstGeom prst="rect">
              <a:avLst/>
            </a:prstGeom>
            <a:gradFill rotWithShape="0">
              <a:gsLst>
                <a:gs pos="0">
                  <a:srgbClr val="336699">
                    <a:alpha val="47058"/>
                  </a:srgbClr>
                </a:gs>
                <a:gs pos="50000">
                  <a:srgbClr val="ffffff">
                    <a:alpha val="42352"/>
                  </a:srgbClr>
                </a:gs>
                <a:gs pos="100000">
                  <a:srgbClr val="336699">
                    <a:alpha val="47058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24000" y="3357720"/>
              <a:ext cx="1368360" cy="360360"/>
            </a:xfrm>
            <a:prstGeom prst="rect">
              <a:avLst/>
            </a:prstGeom>
            <a:gradFill rotWithShape="0">
              <a:gsLst>
                <a:gs pos="0">
                  <a:srgbClr val="336699">
                    <a:alpha val="47058"/>
                  </a:srgbClr>
                </a:gs>
                <a:gs pos="50000">
                  <a:srgbClr val="ffffff">
                    <a:alpha val="42352"/>
                  </a:srgbClr>
                </a:gs>
                <a:gs pos="100000">
                  <a:srgbClr val="336699">
                    <a:alpha val="47058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24000" y="1917720"/>
              <a:ext cx="136836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54000" tIns="0" bIns="10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6699"/>
                  </a:solidFill>
                  <a:latin typeface="Arial"/>
                </a:rPr>
                <a:t>Organigramm</a:t>
              </a:r>
              <a:endParaRPr b="0" lang="en-US" sz="1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95280" y="2637000"/>
              <a:ext cx="12970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54000" tIns="0" bIns="10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d20000"/>
                  </a:solidFill>
                  <a:latin typeface="Arial"/>
                </a:rPr>
                <a:t>Arbeitseinheiten</a:t>
              </a:r>
              <a:endParaRPr b="0" lang="en-US" sz="1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24000" y="3357720"/>
              <a:ext cx="129672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54000" tIns="10800" bIns="10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6699"/>
                  </a:solidFill>
                  <a:latin typeface="Arial"/>
                </a:rPr>
                <a:t>Servicebereiche</a:t>
              </a:r>
              <a:endParaRPr b="0" lang="en-US" sz="1200" spc="-1" strike="noStrike">
                <a:solidFill>
                  <a:srgbClr val="336666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098177-71C0-45C9-BCAE-B7673F2C1A1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907640" y="981000"/>
            <a:ext cx="676764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Arbeitseinheit 2: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</a:t>
            </a:r>
            <a:br>
              <a:rPr sz="2400"/>
            </a:b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Externe Evaluation hessischer Schulen</a:t>
            </a: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324000" y="1195560"/>
            <a:ext cx="1368360" cy="2520360"/>
            <a:chOff x="324000" y="1195560"/>
            <a:chExt cx="1368360" cy="2520360"/>
          </a:xfrm>
        </p:grpSpPr>
        <p:sp>
          <p:nvSpPr>
            <p:cNvPr id="167" name=""/>
            <p:cNvSpPr/>
            <p:nvPr/>
          </p:nvSpPr>
          <p:spPr>
            <a:xfrm>
              <a:off x="324000" y="1195560"/>
              <a:ext cx="1368360" cy="360000"/>
            </a:xfrm>
            <a:prstGeom prst="rect">
              <a:avLst/>
            </a:prstGeom>
            <a:gradFill rotWithShape="0">
              <a:gsLst>
                <a:gs pos="0">
                  <a:srgbClr val="336699">
                    <a:alpha val="47058"/>
                  </a:srgbClr>
                </a:gs>
                <a:gs pos="50000">
                  <a:srgbClr val="ffffff">
                    <a:alpha val="42352"/>
                  </a:srgbClr>
                </a:gs>
                <a:gs pos="100000">
                  <a:srgbClr val="336699">
                    <a:alpha val="47058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24000" y="1196640"/>
              <a:ext cx="1368360" cy="35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54000" tIns="10800" bIns="10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6699"/>
                  </a:solidFill>
                  <a:latin typeface="Arial"/>
                </a:rPr>
                <a:t>Aufgaben</a:t>
              </a:r>
              <a:endParaRPr b="0" lang="en-US" sz="1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24000" y="1915920"/>
              <a:ext cx="1368360" cy="360000"/>
            </a:xfrm>
            <a:prstGeom prst="rect">
              <a:avLst/>
            </a:prstGeom>
            <a:gradFill rotWithShape="0">
              <a:gsLst>
                <a:gs pos="0">
                  <a:srgbClr val="336699">
                    <a:alpha val="47058"/>
                  </a:srgbClr>
                </a:gs>
                <a:gs pos="50000">
                  <a:srgbClr val="ffffff">
                    <a:alpha val="42352"/>
                  </a:srgbClr>
                </a:gs>
                <a:gs pos="100000">
                  <a:srgbClr val="336699">
                    <a:alpha val="47058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24000" y="2635200"/>
              <a:ext cx="1368360" cy="360000"/>
            </a:xfrm>
            <a:prstGeom prst="rect">
              <a:avLst/>
            </a:prstGeom>
            <a:gradFill rotWithShape="0">
              <a:gsLst>
                <a:gs pos="0">
                  <a:srgbClr val="336699">
                    <a:alpha val="47058"/>
                  </a:srgbClr>
                </a:gs>
                <a:gs pos="50000">
                  <a:srgbClr val="ffffff">
                    <a:alpha val="42352"/>
                  </a:srgbClr>
                </a:gs>
                <a:gs pos="100000">
                  <a:srgbClr val="336699">
                    <a:alpha val="47058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24000" y="3355920"/>
              <a:ext cx="1368360" cy="360000"/>
            </a:xfrm>
            <a:prstGeom prst="rect">
              <a:avLst/>
            </a:prstGeom>
            <a:gradFill rotWithShape="0">
              <a:gsLst>
                <a:gs pos="0">
                  <a:srgbClr val="336699">
                    <a:alpha val="47058"/>
                  </a:srgbClr>
                </a:gs>
                <a:gs pos="50000">
                  <a:srgbClr val="ffffff">
                    <a:alpha val="42352"/>
                  </a:srgbClr>
                </a:gs>
                <a:gs pos="100000">
                  <a:srgbClr val="336699">
                    <a:alpha val="47058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24000" y="1915920"/>
              <a:ext cx="1368360" cy="36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54000" tIns="0" bIns="10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6699"/>
                  </a:solidFill>
                  <a:latin typeface="Arial"/>
                </a:rPr>
                <a:t>Organigramm</a:t>
              </a:r>
              <a:endParaRPr b="0" lang="en-US" sz="1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95280" y="2635200"/>
              <a:ext cx="1297080" cy="36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54000" tIns="0" bIns="10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d20000"/>
                  </a:solidFill>
                  <a:latin typeface="Arial"/>
                </a:rPr>
                <a:t>Arbeitseinheiten</a:t>
              </a:r>
              <a:endParaRPr b="0" lang="en-US" sz="1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24000" y="3355920"/>
              <a:ext cx="1296720" cy="36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54000" tIns="10800" bIns="10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6699"/>
                  </a:solidFill>
                  <a:latin typeface="Arial"/>
                </a:rPr>
                <a:t>Servicebereiche</a:t>
              </a:r>
              <a:endParaRPr b="0" lang="en-US" sz="1200" spc="-1" strike="noStrike">
                <a:solidFill>
                  <a:srgbClr val="336666"/>
                </a:solidFill>
                <a:latin typeface="Arial"/>
              </a:endParaRPr>
            </a:p>
          </p:txBody>
        </p:sp>
      </p:grp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904760" y="2204640"/>
            <a:ext cx="677052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Mitwirkung bei Konzeption und Pilotphase für die externe Evaluation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flächendeckende Implementierung nach landesweit einheitlichen Vorgaben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Koordination der Schulevaluation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landesweite, regionale und schulformspezifische Auswertung der Evaluationsergebnisse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835280" y="2133720"/>
            <a:ext cx="6770520" cy="39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12A2BC-8745-48DB-8E08-E782A312A19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908000" y="1197000"/>
            <a:ext cx="69120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6699"/>
                </a:solidFill>
                <a:latin typeface="Arial"/>
              </a:rPr>
              <a:t>Arbeitseinheit 3:</a:t>
            </a:r>
            <a:r>
              <a:rPr b="1" lang="de-DE" sz="2000" spc="-1" strike="noStrike">
                <a:solidFill>
                  <a:srgbClr val="336699"/>
                </a:solidFill>
                <a:latin typeface="Arial"/>
              </a:rPr>
              <a:t> </a:t>
            </a:r>
            <a:br>
              <a:rPr sz="2000"/>
            </a:br>
            <a:r>
              <a:rPr b="1" lang="de-DE" sz="1800" spc="-1" strike="noStrike">
                <a:solidFill>
                  <a:srgbClr val="336699"/>
                </a:solidFill>
                <a:latin typeface="Arial"/>
              </a:rPr>
              <a:t>Auswertung nationaler Bildungsberichte und internationaler Studien, Unterstützungsleistungen bei Planung und Durch-führung nationaler und internationaler Schulleistungsstudien</a:t>
            </a: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324000" y="1195560"/>
            <a:ext cx="1368360" cy="2520360"/>
            <a:chOff x="324000" y="1195560"/>
            <a:chExt cx="1368360" cy="2520360"/>
          </a:xfrm>
        </p:grpSpPr>
        <p:sp>
          <p:nvSpPr>
            <p:cNvPr id="179" name=""/>
            <p:cNvSpPr/>
            <p:nvPr/>
          </p:nvSpPr>
          <p:spPr>
            <a:xfrm>
              <a:off x="324000" y="1195560"/>
              <a:ext cx="1368360" cy="360000"/>
            </a:xfrm>
            <a:prstGeom prst="rect">
              <a:avLst/>
            </a:prstGeom>
            <a:gradFill rotWithShape="0">
              <a:gsLst>
                <a:gs pos="0">
                  <a:srgbClr val="336699">
                    <a:alpha val="47058"/>
                  </a:srgbClr>
                </a:gs>
                <a:gs pos="50000">
                  <a:srgbClr val="ffffff">
                    <a:alpha val="42352"/>
                  </a:srgbClr>
                </a:gs>
                <a:gs pos="100000">
                  <a:srgbClr val="336699">
                    <a:alpha val="47058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24000" y="1196640"/>
              <a:ext cx="1368360" cy="35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54000" tIns="10800" bIns="10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6699"/>
                  </a:solidFill>
                  <a:latin typeface="Arial"/>
                </a:rPr>
                <a:t>Aufgaben</a:t>
              </a:r>
              <a:endParaRPr b="0" lang="en-US" sz="1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24000" y="1915920"/>
              <a:ext cx="1368360" cy="360000"/>
            </a:xfrm>
            <a:prstGeom prst="rect">
              <a:avLst/>
            </a:prstGeom>
            <a:gradFill rotWithShape="0">
              <a:gsLst>
                <a:gs pos="0">
                  <a:srgbClr val="336699">
                    <a:alpha val="47058"/>
                  </a:srgbClr>
                </a:gs>
                <a:gs pos="50000">
                  <a:srgbClr val="ffffff">
                    <a:alpha val="42352"/>
                  </a:srgbClr>
                </a:gs>
                <a:gs pos="100000">
                  <a:srgbClr val="336699">
                    <a:alpha val="47058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24000" y="2635200"/>
              <a:ext cx="1368360" cy="360000"/>
            </a:xfrm>
            <a:prstGeom prst="rect">
              <a:avLst/>
            </a:prstGeom>
            <a:gradFill rotWithShape="0">
              <a:gsLst>
                <a:gs pos="0">
                  <a:srgbClr val="336699">
                    <a:alpha val="47058"/>
                  </a:srgbClr>
                </a:gs>
                <a:gs pos="50000">
                  <a:srgbClr val="ffffff">
                    <a:alpha val="42352"/>
                  </a:srgbClr>
                </a:gs>
                <a:gs pos="100000">
                  <a:srgbClr val="336699">
                    <a:alpha val="47058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24000" y="3355920"/>
              <a:ext cx="1368360" cy="360000"/>
            </a:xfrm>
            <a:prstGeom prst="rect">
              <a:avLst/>
            </a:prstGeom>
            <a:gradFill rotWithShape="0">
              <a:gsLst>
                <a:gs pos="0">
                  <a:srgbClr val="336699">
                    <a:alpha val="47058"/>
                  </a:srgbClr>
                </a:gs>
                <a:gs pos="50000">
                  <a:srgbClr val="ffffff">
                    <a:alpha val="42352"/>
                  </a:srgbClr>
                </a:gs>
                <a:gs pos="100000">
                  <a:srgbClr val="336699">
                    <a:alpha val="47058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24000" y="1915920"/>
              <a:ext cx="1368360" cy="36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54000" tIns="0" bIns="10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6699"/>
                  </a:solidFill>
                  <a:latin typeface="Arial"/>
                </a:rPr>
                <a:t>Organigramm</a:t>
              </a:r>
              <a:endParaRPr b="0" lang="en-US" sz="1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95280" y="2635200"/>
              <a:ext cx="1297080" cy="36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54000" tIns="0" bIns="10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d20000"/>
                  </a:solidFill>
                  <a:latin typeface="Arial"/>
                </a:rPr>
                <a:t>Arbeitseinheiten</a:t>
              </a:r>
              <a:endParaRPr b="0" lang="en-US" sz="1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24000" y="3355920"/>
              <a:ext cx="1296720" cy="36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54000" tIns="10800" bIns="10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6699"/>
                  </a:solidFill>
                  <a:latin typeface="Arial"/>
                </a:rPr>
                <a:t>Servicebereiche</a:t>
              </a:r>
              <a:endParaRPr b="0" lang="en-US" sz="1200" spc="-1" strike="noStrike">
                <a:solidFill>
                  <a:srgbClr val="336666"/>
                </a:solidFill>
                <a:latin typeface="Arial"/>
              </a:endParaRPr>
            </a:p>
          </p:txBody>
        </p:sp>
      </p:grp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977840" y="2494080"/>
            <a:ext cx="677052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Auswertung nationaler Bildungsberichte und internationaler Studien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Sekundäranalysen und Recherchen zur Schul- und Unterrichtsforschung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Unterstützungsleistungen bei der Planung und Durchführung von Schulleistungsstudien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Beratung des Hessischen Kultusministeriums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4F7809-3A0E-446E-8E9C-DE7BB770AAA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907640" y="907560"/>
            <a:ext cx="676764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Arbeitseinheit 4:</a:t>
            </a: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 </a:t>
            </a:r>
            <a:br>
              <a:rPr sz="2400"/>
            </a:b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Akkreditierung</a:t>
            </a: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904760" y="2060640"/>
            <a:ext cx="677052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Akkreditierung freier Träger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Akkreditierung von Fortbildungsmaßnahmen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Vergabe von Leistungspunkten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Qualitätssicherung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324000" y="1197000"/>
            <a:ext cx="1368360" cy="2521080"/>
            <a:chOff x="324000" y="1197000"/>
            <a:chExt cx="1368360" cy="2521080"/>
          </a:xfrm>
        </p:grpSpPr>
        <p:sp>
          <p:nvSpPr>
            <p:cNvPr id="191" name=""/>
            <p:cNvSpPr/>
            <p:nvPr/>
          </p:nvSpPr>
          <p:spPr>
            <a:xfrm>
              <a:off x="324000" y="1197000"/>
              <a:ext cx="1368360" cy="360360"/>
            </a:xfrm>
            <a:prstGeom prst="rect">
              <a:avLst/>
            </a:prstGeom>
            <a:gradFill rotWithShape="0">
              <a:gsLst>
                <a:gs pos="0">
                  <a:srgbClr val="336699">
                    <a:alpha val="47058"/>
                  </a:srgbClr>
                </a:gs>
                <a:gs pos="50000">
                  <a:srgbClr val="ffffff">
                    <a:alpha val="42352"/>
                  </a:srgbClr>
                </a:gs>
                <a:gs pos="100000">
                  <a:srgbClr val="336699">
                    <a:alpha val="47058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24000" y="1198440"/>
              <a:ext cx="136836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54000" tIns="10800" bIns="10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6699"/>
                  </a:solidFill>
                  <a:latin typeface="Arial"/>
                </a:rPr>
                <a:t>Aufgaben</a:t>
              </a:r>
              <a:endParaRPr b="0" lang="en-US" sz="1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24000" y="1917720"/>
              <a:ext cx="1368360" cy="360360"/>
            </a:xfrm>
            <a:prstGeom prst="rect">
              <a:avLst/>
            </a:prstGeom>
            <a:gradFill rotWithShape="0">
              <a:gsLst>
                <a:gs pos="0">
                  <a:srgbClr val="336699">
                    <a:alpha val="47058"/>
                  </a:srgbClr>
                </a:gs>
                <a:gs pos="50000">
                  <a:srgbClr val="ffffff">
                    <a:alpha val="42352"/>
                  </a:srgbClr>
                </a:gs>
                <a:gs pos="100000">
                  <a:srgbClr val="336699">
                    <a:alpha val="47058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24000" y="2637000"/>
              <a:ext cx="1368360" cy="360360"/>
            </a:xfrm>
            <a:prstGeom prst="rect">
              <a:avLst/>
            </a:prstGeom>
            <a:gradFill rotWithShape="0">
              <a:gsLst>
                <a:gs pos="0">
                  <a:srgbClr val="336699">
                    <a:alpha val="47058"/>
                  </a:srgbClr>
                </a:gs>
                <a:gs pos="50000">
                  <a:srgbClr val="ffffff">
                    <a:alpha val="42352"/>
                  </a:srgbClr>
                </a:gs>
                <a:gs pos="100000">
                  <a:srgbClr val="336699">
                    <a:alpha val="47058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24000" y="3357720"/>
              <a:ext cx="1368360" cy="360360"/>
            </a:xfrm>
            <a:prstGeom prst="rect">
              <a:avLst/>
            </a:prstGeom>
            <a:gradFill rotWithShape="0">
              <a:gsLst>
                <a:gs pos="0">
                  <a:srgbClr val="336699">
                    <a:alpha val="47058"/>
                  </a:srgbClr>
                </a:gs>
                <a:gs pos="50000">
                  <a:srgbClr val="ffffff">
                    <a:alpha val="42352"/>
                  </a:srgbClr>
                </a:gs>
                <a:gs pos="100000">
                  <a:srgbClr val="336699">
                    <a:alpha val="47058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24000" y="1917720"/>
              <a:ext cx="136836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54000" tIns="0" bIns="10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6699"/>
                  </a:solidFill>
                  <a:latin typeface="Arial"/>
                </a:rPr>
                <a:t>Organigramm</a:t>
              </a:r>
              <a:endParaRPr b="0" lang="en-US" sz="1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95280" y="2637000"/>
              <a:ext cx="12970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54000" tIns="0" bIns="10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d20000"/>
                  </a:solidFill>
                  <a:latin typeface="Arial"/>
                </a:rPr>
                <a:t>Arbeitseinheiten</a:t>
              </a:r>
              <a:endParaRPr b="0" lang="en-US" sz="1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24000" y="3357720"/>
              <a:ext cx="129672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54000" tIns="10800" bIns="10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6699"/>
                  </a:solidFill>
                  <a:latin typeface="Arial"/>
                </a:rPr>
                <a:t>Servicebereiche</a:t>
              </a:r>
              <a:endParaRPr b="0" lang="en-US" sz="1200" spc="-1" strike="noStrike">
                <a:solidFill>
                  <a:srgbClr val="336666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9E5E1B-82C5-4C9A-80CC-2C5111EF663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3T09:55:58Z</dcterms:created>
  <dc:creator>Kerstin Rheingans</dc:creator>
  <dc:description/>
  <dc:language>en-US</dc:language>
  <cp:lastModifiedBy>steffensu</cp:lastModifiedBy>
  <dcterms:modified xsi:type="dcterms:W3CDTF">2004-12-14T10:12:56Z</dcterms:modified>
  <cp:revision>191</cp:revision>
  <dc:subject/>
  <dc:title>Foli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2061527414</vt:r8>
  </property>
  <property fmtid="{D5CDD505-2E9C-101B-9397-08002B2CF9AE}" pid="3" name="_AuthorEmail">
    <vt:lpwstr>a.goerisch@help.hessen.de</vt:lpwstr>
  </property>
  <property fmtid="{D5CDD505-2E9C-101B-9397-08002B2CF9AE}" pid="4" name="_AuthorEmailDisplayName">
    <vt:lpwstr>Goerisch, Axel</vt:lpwstr>
  </property>
  <property fmtid="{D5CDD505-2E9C-101B-9397-08002B2CF9AE}" pid="5" name="_EmailSubject">
    <vt:lpwstr>Papiere für Soest</vt:lpwstr>
  </property>
  <property fmtid="{D5CDD505-2E9C-101B-9397-08002B2CF9AE}" pid="6" name="_PreviousAdHocReviewCycleID">
    <vt:r8>-182017574</vt:r8>
  </property>
  <property fmtid="{D5CDD505-2E9C-101B-9397-08002B2CF9AE}" pid="7" name="_ReviewingToolsShownOnce">
    <vt:lpwstr/>
  </property>
</Properties>
</file>