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983-E40B-45B6-BB44-677BAECF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499-0726-441B-8A7D-3C7074E4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4EE-7A64-47E5-AF02-921E6869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B50A-B7E8-411A-A07A-B7AB4933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644-F9A6-4DBB-8833-AE561552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F7F-0D3E-4796-8A45-B0B610D3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19E-173E-4ABD-A5D1-F53016C9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2A1-BB26-4393-AF60-BC851AF4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D3A-5584-4080-A9EE-F3305914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200-08FB-4A16-9CCB-8A16162D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6C7B-F34E-4DF0-B46B-A5327F95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0AED-9386-408E-8258-2B40D6C9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81CD-D1D7-49B5-9093-E109A62D0EF4}" type="datetime">
              <a:rPr b="1" lang="de-DE" sz="1200" spc="-1" strike="noStrike">
                <a:solidFill>
                  <a:srgbClr val="000099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286000" y="65152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Verdana"/>
              </a:rPr>
              <a:t>&lt;footer&gt;</a:t>
            </a:r>
            <a:r>
              <a:rPr b="1" lang="de-DE" sz="1200" spc="-1" strike="noStrike">
                <a:solidFill>
                  <a:srgbClr val="000099"/>
                </a:solidFill>
                <a:latin typeface="Verdana"/>
              </a:rPr>
              <a:t>Lunchtime, Bertelsmann-Stif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028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8C99-8A6B-4B71-B756-9464E77DBC8B}" type="slidenum">
              <a:rPr b="1" lang="de-DE" sz="12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624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98160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152280"/>
          <a:ext cx="226692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280"/>
                    <a:ext cx="22669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2286000" y="228600"/>
            <a:ext cx="556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Institut zur Qualitätsentwicklung im Bildungswesen (IQ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Verdana"/>
              </a:rPr>
              <a:t>Wissenschaftliche Einrichtung der Länder in der Bundesrepublik Deutschland</a:t>
            </a:r>
            <a:r>
              <a:rPr b="0" lang="en-US" sz="12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967520" y="0"/>
            <a:ext cx="947880" cy="947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16280"/>
            <a:ext cx="89424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ie Rolle nationaler Bildungsstandards für die Qualitätssicherung und -entwicklung in deutschen Schule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Prof. Dr. Olaf Kö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Institut zur Qualitätsentwicklung im Bild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Humboldt-Universität zu Ber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B31-202E-42BB-905F-27F03726057D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7516A-2953-4B0F-AAC3-C5795FC865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0666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Nationale Bildungsstandards im Fach Mathematik, mittlerer Abschluss: Leitideen und Kompete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637000"/>
            <a:ext cx="3311280" cy="27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Verdana"/>
                <a:ea typeface="Times New Roman"/>
              </a:rPr>
              <a:t>Leitid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Z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e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Raum und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unktionaler Zusammenh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Daten und Zuf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2637000"/>
            <a:ext cx="49690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Verdana"/>
                <a:ea typeface="Times New Roman"/>
              </a:rPr>
              <a:t>Kompet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thematisches Problemlö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thematisches Modell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thematische Darstellungen verwe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thematisch kommuniz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thematisch argument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it symbolischen, formalen und technischen Elementen der Mathematik umge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ADD-59AA-400A-9FBE-BA268833CFB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D10C6-9D46-46ED-9D55-B0C66C3CE4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896000" y="1719360"/>
            <a:ext cx="4248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000099"/>
                </a:solidFill>
                <a:uFillTx/>
                <a:latin typeface="Verdana"/>
              </a:rPr>
              <a:t>benötigte Kompetenz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Verdana"/>
              </a:rPr>
              <a:t>Problemlösen </a:t>
            </a:r>
            <a:r>
              <a:rPr b="0" lang="de-DE" sz="1600" spc="-1" strike="noStrike">
                <a:solidFill>
                  <a:srgbClr val="ff0066"/>
                </a:solidFill>
                <a:latin typeface="Verdana"/>
              </a:rPr>
              <a:t>(Weg zurechtlegen, Hilfen heranzieh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Verdana"/>
              </a:rPr>
              <a:t>Modellieren </a:t>
            </a:r>
            <a:r>
              <a:rPr b="0" lang="de-DE" sz="1600" spc="-1" strike="noStrike">
                <a:solidFill>
                  <a:srgbClr val="ff0066"/>
                </a:solidFill>
                <a:latin typeface="Verdana"/>
              </a:rPr>
              <a:t>(Mathematisieren, Interpretier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Verdana"/>
              </a:rPr>
              <a:t>Darstellen </a:t>
            </a:r>
            <a:r>
              <a:rPr b="0" lang="de-DE" sz="1600" spc="-1" strike="noStrike">
                <a:solidFill>
                  <a:srgbClr val="ff0066"/>
                </a:solidFill>
                <a:latin typeface="Verdana"/>
              </a:rPr>
              <a:t>(Übersetzen Geo/Al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Verdana"/>
              </a:rPr>
              <a:t>Technisch arbeiten </a:t>
            </a:r>
            <a:r>
              <a:rPr b="0" lang="de-DE" sz="1600" spc="-1" strike="noStrike">
                <a:solidFill>
                  <a:srgbClr val="ff0066"/>
                </a:solidFill>
                <a:latin typeface="Verdana"/>
              </a:rPr>
              <a:t>(Rechnen, ggfs. Pythagor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Verdana"/>
              </a:rPr>
              <a:t>Kommunizieren </a:t>
            </a:r>
            <a:r>
              <a:rPr b="0" lang="de-DE" sz="1600" spc="-1" strike="noStrike">
                <a:solidFill>
                  <a:srgbClr val="ff0066"/>
                </a:solidFill>
                <a:latin typeface="Verdana"/>
              </a:rPr>
              <a:t>(Lesen, Darleg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93760" y="1808280"/>
            <a:ext cx="1860480" cy="225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4183200"/>
            <a:ext cx="453708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Viele Autofahrer benutzen für die Fahrt von A nach B nicht die stark befahrenen Hauptstraßen, sondern einen „Schleich-weg“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Äußere dich, ob die Abkürzung eine Zeit-ersparnis bringt, wenn man auf dem „Schleichweg“ durchschnittlich mit 30 km/h und auf den Hauptstraßen durchschnittlich mit 50 km/h fahren kan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1825560"/>
            <a:ext cx="0" cy="224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938160"/>
            <a:ext cx="882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Ein Beispiel für eine kompetenzorientierte Aufg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61F-A2E9-4BBD-BF99-CA057C0D08A6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6DB88-B6E0-4B40-9C81-7A879C4D5E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2341440" y="-5520600"/>
            <a:ext cx="73080" cy="1097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Die Katheten in einem rechtwinkligen Dreieck sind 3 cm und 5 cm lang. Berechne die Länge der Hypotenu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341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Variante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4005360"/>
            <a:ext cx="7272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Verdana"/>
              </a:rPr>
              <a:t>benötigte  Kompetenz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Verdana"/>
              </a:rPr>
              <a:t>Technisch arbeiten (Rechnen, ggfs. Pythago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Verdana"/>
              </a:rPr>
              <a:t>Kommunizieren (Lesen, Darstell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C86-638B-43A5-8D3D-A8CD0BDF63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85F4C-7291-4CF0-B48F-45D485FFCF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51280" y="1700280"/>
            <a:ext cx="5292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Nimm an, dass man auf dem Schleichw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mit durchschnittlich 30 km/h fahren kan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Wie hoch darf die Durchschnittsgeschwi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digkeit auf den Hauptstraßen höchst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sein, wenn die Abkürzung eine Zeiterspa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nis bringen soll? Erstelle für diese Höch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geschwindigkeit v in Abhängigkeit von 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eine Wertetabelle und einen Grap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Begründe ohne zu rechnen: Die in 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beschriebene Höchstgeschwindigkeit 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erreicht für ein gewisses u einen größ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möglichen W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26920" y="2131920"/>
            <a:ext cx="2937960" cy="3455280"/>
            <a:chOff x="826920" y="2131920"/>
            <a:chExt cx="2937960" cy="3455280"/>
          </a:xfrm>
        </p:grpSpPr>
        <p:grpSp>
          <p:nvGrpSpPr>
            <p:cNvPr id="80" name=""/>
            <p:cNvGrpSpPr/>
            <p:nvPr/>
          </p:nvGrpSpPr>
          <p:grpSpPr>
            <a:xfrm>
              <a:off x="826920" y="2131920"/>
              <a:ext cx="2937960" cy="3455280"/>
              <a:chOff x="826920" y="2131920"/>
              <a:chExt cx="2937960" cy="3455280"/>
            </a:xfrm>
          </p:grpSpPr>
          <p:pic>
            <p:nvPicPr>
              <p:cNvPr id="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131920"/>
                <a:ext cx="2624040" cy="345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3764880" y="2148120"/>
                <a:ext cx="0" cy="342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2554200" y="3702240"/>
              <a:ext cx="418320" cy="18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 k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15640" y="3498480"/>
              <a:ext cx="417600" cy="18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 k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826920" y="1125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Variante I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947-25DF-4944-8D59-A7F296639403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4ABA5-E17B-4D4E-8830-04D8ACED77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51280" y="1700280"/>
            <a:ext cx="49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geben ist nebenstehender Kartenausschni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341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Variante IV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2347920"/>
            <a:ext cx="3529080" cy="3097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95640" y="2708280"/>
            <a:ext cx="4537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Viele Autofahrer benutzen für die Fahrt von A nach B nicht die stark befah-renen Hauptstraßen, sondern einen „Schleichweg“ durch die Nicolaistraße und Canalettostraß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Äußere dich, ob die Abkürzung eine Zeitersparnis bringt, wenn man auf dem „Schleichweg“ durchschnittlich mit 30 km/h und auf den Hauptstraßen durchschnittlich mit 50 km/h fahren kan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B8F-0F32-4D54-BC5C-FA215DD70CCC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F4012-1570-4E83-A597-09E8301177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08840" y="907920"/>
            <a:ext cx="771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Nationale Bildungsstandards in der er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Fremdspr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913040"/>
            <a:ext cx="6931080" cy="4944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2278080"/>
            <a:ext cx="3240360" cy="1871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E5F-F0CD-4E0F-BF6B-7B2CCEDE6BB0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F156C-A79B-4117-8653-8A4E1592CF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981000"/>
            <a:ext cx="770400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Ein Beispiel für eine Englischaufg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(Reading Comprehen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00000" y="2075040"/>
          <a:ext cx="7570800" cy="48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75040"/>
                    <a:ext cx="75708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F5D-FD54-4855-B892-711EEB309064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DA26E-7D35-45CB-935A-BB542D3AEF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981000"/>
            <a:ext cx="770400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Ein Beispiel für eine Englischaufg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(Reading Comprehen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4360" y="2103480"/>
          <a:ext cx="618624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03480"/>
                    <a:ext cx="61862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E74-89B2-4093-8E9F-A6A2AC445B60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FA4A0-2BF8-4A46-B799-64165D59F7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981000"/>
            <a:ext cx="770400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Ein Beispiel für eine Englischaufg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(Wri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205000"/>
          <a:ext cx="2514600" cy="37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251460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348000" y="2193840"/>
            <a:ext cx="579600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This is a young lady on her way to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A: Look at the photo. Use your ima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B: Make notes about the young lady, her </a:t>
            </a: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job, her private life and her hobb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C: Write a story about her using your n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D: Do you envy her? Gives reasons for your </a:t>
            </a: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answ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7FA-6F6B-4290-BA5D-6CDEBC90D06E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9A764-9EA9-440C-ACEA-F8A507B2D2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10526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Stand der Standardentwicklung in der Bundesrepublik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2349360"/>
          <a:ext cx="8713800" cy="3867120"/>
        </p:xfrm>
        <a:graphic>
          <a:graphicData uri="http://schemas.openxmlformats.org/drawingml/2006/table">
            <a:tbl>
              <a:tblPr/>
              <a:tblGrid>
                <a:gridCol w="2081160"/>
                <a:gridCol w="2276640"/>
                <a:gridCol w="2176560"/>
                <a:gridCol w="21794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Grundsch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ekundarstufe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4. Jahrgangsstu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ittlerer Abschlu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Hauptschul-abschlu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eut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athemat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1. Fremdspra-che (Englisch/ Französi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aturwissen-schaf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2D8-F111-4C03-A1CD-D7BD3AE8120F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466BF-A9ED-4B95-A681-28CE069ABB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7680" y="1268280"/>
            <a:ext cx="73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Üb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128680"/>
            <a:ext cx="8458200" cy="27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Der erste Stein des Anstoßes: TIM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Der zweite Stein des Anstoßes: PISA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ßnahmen zur Qualitätssicherung nach PISA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Nationale Bildungs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Überprüfung nationaler Bildungsstandards durch das IQ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Chancen der nationalen Bildungsstandards für die Qualitätssicherung und Unterrichts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F5D-3E21-443D-B87C-8B7A6DCF33DE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BCB2D-37C5-40C6-ACFB-81DA382DA5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1052640"/>
            <a:ext cx="82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Überprüfung Nationaler Bildungsstandards: Das IQB in 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3141720"/>
            <a:ext cx="878364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Wissenschaftliche Einrichtung der Länder in der Bundesrepublik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Vollständige Finanzierung durch die Lä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n-Institut an der Humboldt-Universität zu Ber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Erste Arbeitsphase: Dezember 2004 – September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5080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Institutsleiter (Professor für empirische Bildungsforsch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5080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4 wissenschaftliche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5080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Eine EDV-Kr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5080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4 abgeordneten Lehrkräf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5080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6 Doktora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5080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4 Sekretariats- und Verwaltungsste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5080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Studentische Hilfskräf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5C1D-B739-4F3C-BFE2-26D4FBEF60C9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09B93-C640-40D0-97A6-4E0DEA6AF5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97000"/>
            <a:ext cx="70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Kernaufgaben des IQ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911240"/>
            <a:ext cx="8458200" cy="39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Nationale Bildungsstandards inhaltlich weiter entwickeln, methodisch präzisieren und ihre Erreichung durch Schülerinnen und Schüler in Deutschland überprü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20000"/>
              </a:lnSpc>
              <a:spcBef>
                <a:spcPts val="9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Erstellen großer Aufgabensamml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20000"/>
              </a:lnSpc>
              <a:spcBef>
                <a:spcPts val="9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Durchführung empirischer Studien zur Normierung und Überprüfung der Bildungs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20000"/>
              </a:lnSpc>
              <a:spcBef>
                <a:spcPts val="9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Bereitstellung von Aufgaben für die Länderprogramme der flächendeckenden Vergleichsarbei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20000"/>
              </a:lnSpc>
              <a:spcBef>
                <a:spcPts val="9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Bereitstellung von Aufgaben für Schulen zum Zwecke der internen Eval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A6AE-D9D5-426F-981A-6F3B98ED3E37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AA000-7CED-444C-87FF-0DC66DACE0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2193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Konkretisierung der Standardnormierung: Mathematik in PISA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362320"/>
            <a:ext cx="84582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6 allgemeine Kompetenzen, 5 Leitid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Ziel Produktion von insgesamt 600 Aufgaben für den Feldtest, ca. 300 für den Haupttest (60 pro Leitid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orgehen: Arbeiten in vier regionalen Arbeitsgruppen (Lehrkräfte, Experten der Länder, Fachdidaktiker) und einer beratenden Aufgabenbewertungsgrup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Pilotierung der Aufgaben im PISA-Feldtest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Normierung für jede Leitidee in PISA 2006 mit Hilfe von Kompetenzstufenmod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Ergebnisse der Normierung in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02E-8A1F-46BC-A3CC-5A456181B636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7DFAB-0585-4EEC-B020-5EC20ECAC4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9280" y="9810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Konkretisierung der Aufgabenentwicklung: 5 Sorten von Aufg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184480"/>
            <a:ext cx="84582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ufgaben, die im Internet eingesehen und herunter-geladen werden können und welche die Standards illustrieren bzw. konkretis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ufgaben, die  für die Arbeit im Unterricht eingesetzt werden kön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Testaufgaben, die das IQB für die Standardüberprüfung zurückhalten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Testaufgaben, die den Ländern für deren Programme zur Qualitätssicherung zur Verfügung gestellt werden, und mit deren Hilfe sich die Länder auf den Standards verorten können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Testaufgaben, die von Schulen für interne Evaluationszwecke verwendet werden kön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D4A-1588-42AE-910B-6333C5597A42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A1EFB-EFD3-4ED5-BAF8-D689D52940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1339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Chancen für die Qualitätssicherung und Unterrichts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665440"/>
            <a:ext cx="845820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3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estandsaufnahme und Standardsich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3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Verbesserung des Unterric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326-4487-463D-9D50-780C06CB41F8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5540F-F85F-4FD5-8B5A-96B0625853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197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Bestandsaufnahme und Standardsich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325600"/>
            <a:ext cx="845820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gleich der Einzelschule mit einheitlichen, bundeslandübergreifenden Standards (</a:t>
            </a:r>
            <a:r>
              <a:rPr b="1" i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enchmarking</a:t>
            </a: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erücksichtigung von Einzugsgebiet und Klassen-zusammensetzung; Vergleich mit ähnlichen Klassen und Schu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teilung der Schülerinnen und Schüler in Fächern und Teilgebieten auf Kompetenzst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gleich mit Parallelklassen; Identifikation von Stärken und Schwä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gleiche im zeitlichen Verlauf (Trendanaly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D95-95A6-4870-A2B7-B730D398D453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02DD7-3146-4549-828D-AF4DDC0828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386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Verbesserung des Unterric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349360"/>
            <a:ext cx="845820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ereitstellung von kommentierten Aufgaben für den Unterr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Pädagogische Impulse für die Unterrichtsgest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nregungen zur Kooperation und fachdidaktischen Disk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Etablierung von Förderprogram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E641-4D0E-4F92-B419-1512EE0332CA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24BF6-93E3-4766-B8DB-19C620C7D0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622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Vielen Dank für Ihre Aufmerksamke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A40-1466-4475-8470-9DBA8AB9EAC4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02816-DC0D-473E-A7AE-0F9BFDD4B9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2049480"/>
            <a:ext cx="8458200" cy="42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Die mathematisch-naturwissenschaftlichen Leistungen in Deutschland liegen unter den durchschnittlichen Leistungen der meisten Nachbarstaat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Insbesondere bei der Anwendung mathematisch-naturwissenschaftlicher Kenntnisse auf alltagsnahe Probleme sind deutliche Defizite erkenn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Ein erheblicher Prozentsatz der Schüler erreicht nicht das für einen erfolgreichen Übergang in die berufliche Erstausbildung notwendige Niveau mathematisch-naturwissenschaftlicher Grundbildung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Etwa 30 Prozent der Schülerinnen und Schüler am Ende der Sekundarstufe II verbleiben auf einem einfachen Niveau des mathematisch-naturwissenschaftlichen Denkens und verfehlen damit ein niedrig definiertes Sockelnivea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83440" y="1309680"/>
            <a:ext cx="65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er erste Stein des Anstoßes: TIM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591-FD8D-4A8D-9AE0-AD85C3B9DF8F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BEFA2-A0D3-439D-854D-901D0374CA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907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Repetition und Passivität anstelle von Verständnisorientierung in der gymnasialen Oberstufe im Mathematikunterricht (aus TIM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2060640"/>
          <a:ext cx="807732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60640"/>
                    <a:ext cx="807732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312-1A45-4DC7-B441-F17F19C7B93E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E07A4-4C27-4C32-8954-BAB9F9E195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08360" y="2309760"/>
            <a:ext cx="70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Der zweite Stein des Anstoß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ISA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139-CE35-4ED3-A4A8-1FC5C4CCDC78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9F3B8-58BF-499F-ACEF-EC57B4647E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1009800"/>
            <a:ext cx="8072640" cy="585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91280" y="2014560"/>
            <a:ext cx="367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Mittlere Leseleis-</a:t>
            </a:r>
            <a:br>
              <a:rPr sz="2800"/>
            </a:b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tungen in PISA E</a:t>
            </a:r>
            <a:br>
              <a:rPr sz="2800"/>
            </a:b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BE7-2A5E-43F6-AF9A-CA1F6CA8F755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247C6-A8E7-4097-A566-783979D526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2070000"/>
            <a:ext cx="837072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Definition von Handlungsfeldern/strategischen Zielen in den 16 Ländern der Bundesrepublik Deutsch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Ausbau der Initiativen in den Ländern zum Bildungsmonitoring und zur Schul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20952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Schulinspek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20952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Flächendeckende Vergleichsarbeiten in der Grundschule (z.B. VERA in sieben Bundesländer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20952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Flächendeckende Vergleichsarbeiten in der Sekundarstufe I (z. B. NRW, Bayer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Einführung zentraler Abschlussprüf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Entwicklung von Nationalen Bildungsstandards und Einrichtung eines wissenschaftlichen Instituts der Länder, das die Standards weiterentwickeln, normieren und überprüfen so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05264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Maßnahmen in Deutschland zur Qualitätssicherung nach 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6DA-FD68-4536-871D-76FA66815B54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291E6-45EB-4CD0-9BC9-2EAC3E89D2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771640" y="2448000"/>
          <a:ext cx="3032280" cy="38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48000"/>
                    <a:ext cx="303228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24000" y="9810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Von Fachinhalten zu fachlichen Kompete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Nationale Bildungs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522520"/>
            <a:ext cx="82296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beschreiben die fachbezogenen Kompetenzen, die Schülerinnen und Schüler bis zu einem bestimmten Zeitpunkt ihres Bildungsganges erreicht haben so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beziehen sich auf den Kernbereich des jeweiligen Fach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zielen auf systematisches und vernetztes Lernen und folgen so dem Prinzip des kumulativen Kompetenz-erwer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sind output-orientiert (performance standa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CB1-9B99-44CE-9000-A1EC240D9B4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7AD75-B188-46B2-98D0-BF3E0DC327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1319040"/>
            <a:ext cx="80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Was ist neu an Bildungsstand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081160"/>
            <a:ext cx="861048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nforderungen innerhalb eines schulformüber-greifenden Rahmenkonz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okussierung auf zentrale, langfristig aufgebaute Lernergebn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bindliche Kriterien für alle 16 Lä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perationalisierung durch Aufgaben und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Statt Lernzielkatalog: Kompetenzmod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Qualitätssicherung durch Überprü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2A7-71B0-459D-B1EA-0E8BC6166BDD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7C78B-B23B-4111-8FBD-CB5C01D0F8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9:24:59Z</dcterms:created>
  <dc:creator>ofkoelle</dc:creator>
  <dc:description/>
  <dc:language>en-US</dc:language>
  <cp:lastModifiedBy>IQB</cp:lastModifiedBy>
  <cp:lastPrinted>2004-12-06T11:27:56Z</cp:lastPrinted>
  <dcterms:modified xsi:type="dcterms:W3CDTF">2005-12-22T10:00:45Z</dcterms:modified>
  <cp:revision>150</cp:revision>
  <dc:subject/>
  <dc:title>PowerPoint-Präsentation</dc:title>
</cp:coreProperties>
</file>