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9.jpeg" ContentType="image/jpeg"/>
  <Override PartName="/ppt/media/image2.jpeg" ContentType="image/jpeg"/>
  <Override PartName="/ppt/media/image3.wmf" ContentType="image/x-wmf"/>
  <Override PartName="/ppt/media/image4.wmf" ContentType="image/x-wmf"/>
  <Override PartName="/ppt/media/image10.png" ContentType="image/png"/>
  <Override PartName="/ppt/media/image5.jpeg" ContentType="image/jpeg"/>
  <Override PartName="/ppt/media/image6.png" ContentType="image/png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DF7BD7-12F7-4B71-B07D-269AB00BF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C06D75-6A3B-4D2E-91E3-C0B6CE516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2489B8-6EAB-49DE-9447-AEF9D5D34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B0D220-F4CC-426E-A845-864518868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EABD84-73D8-4E10-A4BC-7549DC68E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C9428B-0683-4D1F-92CD-43944A27C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CE23E6-4ABA-490D-8E53-E86308AB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A7C186-8113-42C3-B7EA-CCD4CCD3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9B6F48-AE94-4EEC-8CA6-8A71DAE9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864D4A-7351-4C58-B321-3C94842B6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007BC0-446D-4A74-BF94-34EB03F42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16CFF5-7901-4268-B03D-8F599A55D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d0d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" name="" descr=""/>
          <p:cNvPicPr/>
          <p:nvPr/>
        </p:nvPicPr>
        <p:blipFill>
          <a:blip r:embed="rId2"/>
          <a:stretch/>
        </p:blipFill>
        <p:spPr>
          <a:xfrm>
            <a:off x="7380360" y="5970600"/>
            <a:ext cx="1584360" cy="693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d0d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3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4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5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09D1D-CA16-402C-A629-034B4EAD4D0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lang="de-DE" sz="5400" spc="-1" strike="noStrike">
                <a:solidFill>
                  <a:srgbClr val="000000"/>
                </a:solidFill>
                <a:latin typeface="Garamond"/>
              </a:rPr>
              <a:t>Projektaufgaben, Lernaufgaben und Testaufgaben für das Fach Französisch</a:t>
            </a:r>
            <a:br>
              <a:rPr sz="5400"/>
            </a:br>
            <a:br>
              <a:rPr sz="5400"/>
            </a:br>
            <a:br>
              <a:rPr sz="5400"/>
            </a:br>
            <a:endParaRPr b="1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Garamond"/>
              </a:rPr>
              <a:t>Bernd Tesch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Garamond"/>
              </a:rPr>
              <a:t>Institut zur Qualitätsentwicklung im Bildungswesen (IQB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Garamond"/>
              </a:rPr>
              <a:t>Jägerstraße 10-11  10117 Berlin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Garamond"/>
              </a:rPr>
              <a:t>E-Mail: Bernd.Tesch@IQB.hu-berlin.d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Niveaustufen der zu entwickelnden Aufgaben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52760" y="1600200"/>
            <a:ext cx="1647720" cy="2185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671480" y="3938760"/>
            <a:ext cx="1609920" cy="2187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1" name=""/>
          <p:cNvGraphicFramePr/>
          <p:nvPr/>
        </p:nvGraphicFramePr>
        <p:xfrm>
          <a:off x="4648320" y="1600200"/>
          <a:ext cx="4038480" cy="4365720"/>
        </p:xfrm>
        <a:graphic>
          <a:graphicData uri="http://schemas.openxmlformats.org/drawingml/2006/table">
            <a:tbl>
              <a:tblPr/>
              <a:tblGrid>
                <a:gridCol w="807840"/>
                <a:gridCol w="808200"/>
                <a:gridCol w="806400"/>
                <a:gridCol w="807840"/>
                <a:gridCol w="8082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kalen G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H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Un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H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Un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B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B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A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A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Die Kooperation mit CIEP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Garamond"/>
              </a:rPr>
              <a:t>Entwicklung von Items für die Testun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Garamond"/>
              </a:rPr>
              <a:t>Durchführung von Schulung zum Item-Schreiben für Aufgabenentwickler/-innen aus Deutschland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Garamond"/>
              </a:rPr>
              <a:t>Bewertung von Unterrichtsaufgabe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Garamond"/>
              </a:rPr>
              <a:t>Durchführung von Kodiererschulungen für produktive Aufgabe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5148360" y="1557360"/>
            <a:ext cx="3811320" cy="4319640"/>
            <a:chOff x="5148360" y="1557360"/>
            <a:chExt cx="3811320" cy="4319640"/>
          </a:xfrm>
        </p:grpSpPr>
        <p:pic>
          <p:nvPicPr>
            <p:cNvPr id="135" name="" descr=""/>
            <p:cNvPicPr/>
            <p:nvPr/>
          </p:nvPicPr>
          <p:blipFill>
            <a:blip r:embed="rId1"/>
            <a:stretch/>
          </p:blipFill>
          <p:spPr>
            <a:xfrm>
              <a:off x="5148360" y="1557360"/>
              <a:ext cx="3811320" cy="43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 txBox="1"/>
            <p:nvPr/>
          </p:nvSpPr>
          <p:spPr>
            <a:xfrm>
              <a:off x="5148360" y="1557360"/>
              <a:ext cx="3811320" cy="4319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6600ff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childTnLst>
                                    <p:set>
                                      <p:cBhvr>
                                        <p:cTn id="142" dur="1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Die Testchronologie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-324000" y="1628640"/>
            <a:ext cx="946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213000"/>
            <a:ext cx="4608720" cy="1706760"/>
          </a:xfrm>
          <a:prstGeom prst="blockArc">
            <a:avLst>
              <a:gd name="adj1" fmla="val 8051164"/>
              <a:gd name="adj2" fmla="val 2748836"/>
              <a:gd name="adj3" fmla="val 17509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16000" y="4282920"/>
            <a:ext cx="208764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2006 CI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Entwicklung von I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24360" y="3789360"/>
            <a:ext cx="151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08360" y="1916280"/>
            <a:ext cx="19432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2007 DPC + IQ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Pilotierung der I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588000" y="4365720"/>
            <a:ext cx="2016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2008 DPC+IQ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Haupttest und Normierung der Standa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Literaturhinweise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Garamond"/>
              </a:rPr>
              <a:t>Eckerth, Johannes (2003): Entwicklung, Einsatz und Evaluierung von Lernaufgaben – Von der Fremdsprachenforschung zur Unterrichtspraxis. Zeitschrift: GFL - German as a foreign language, 2/2003/, 1 - 28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Garamond"/>
              </a:rPr>
              <a:t>Piepho, Hans-Eberhard (2003): Von der Übungs- und Aufgabentypologie zur Szenariendidaktik – es hat sich etwas entwickelt. In: Legutke, Schocker-v. Ditfurth (Hrsg): Kommunikativer Fremdsprachenunterricht. Rückblick nach vorn. Tübingen: Narr 2003, 59-68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Garamond"/>
              </a:rPr>
              <a:t>Themenheft: Aufgabenorientiertes Lernen. Praxis Fremdsprachenunterricht, 4/2005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000000"/>
                </a:solidFill>
                <a:latin typeface="Garamond"/>
              </a:rPr>
              <a:t>Merci de votre attention</a:t>
            </a:r>
            <a:endParaRPr b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720108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Überblick über die  Präsentation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000000"/>
                </a:solidFill>
                <a:uFillTx/>
                <a:latin typeface="Garamond"/>
              </a:rPr>
              <a:t>Die Konzeption von Unterrichts- und Testaufgaben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00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Garamond"/>
              </a:rPr>
              <a:t>Beispiel einer Projektaufgabe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00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Garamond"/>
              </a:rPr>
              <a:t>Überblick über die Aufgabenentwicklung konzeptionel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00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Garamond"/>
              </a:rPr>
              <a:t>Überblick über die Aufgabenentwicklung personel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000000"/>
                </a:solidFill>
                <a:uFillTx/>
                <a:latin typeface="Garamond"/>
              </a:rPr>
              <a:t>Die Bezugsdokumente GeR und Bildungsstandard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00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Garamond"/>
              </a:rPr>
              <a:t>Die Kompetenzbereiche in den Bildungsstandard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00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Garamond"/>
              </a:rPr>
              <a:t>Vergleich GeR und Bildungsstandard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00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Garamond"/>
              </a:rPr>
              <a:t>Projektaufgaben, Lernaufgaben und Testaufgaben im Kontext der Bildungsstandard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00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Garamond"/>
              </a:rPr>
              <a:t>Niveaustufen der zu entwickelnden Aufgaben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000000"/>
                </a:solidFill>
                <a:uFillTx/>
                <a:latin typeface="Garamond"/>
              </a:rPr>
              <a:t>Die Zusammenarbeit mit C.I.E.P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00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Garamond"/>
              </a:rPr>
              <a:t>Felder der Zusammenarbei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00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Garamond"/>
              </a:rPr>
              <a:t>Die Entwicklung der Testaufgaben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childTnLst>
                                    <p:set>
                                      <p:cBhvr>
                                        <p:cTn id="6" dur="1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/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/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Projektaufgaben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Garamond"/>
              </a:rPr>
              <a:t>Standardbezogene Aufgabenbereiche: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Garamond"/>
              </a:rPr>
              <a:t>(A) Methodische und soziale Kompetenzen 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Garamond"/>
              </a:rPr>
              <a:t>Makroebene</a:t>
            </a:r>
            <a:endParaRPr b="0" lang="en-US" sz="9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Garamond"/>
              </a:rPr>
              <a:t>Themenauswahl</a:t>
            </a:r>
            <a:endParaRPr b="0" lang="en-US" sz="9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Garamond"/>
              </a:rPr>
              <a:t>Auswahl von Projektideen und Materialien</a:t>
            </a:r>
            <a:endParaRPr b="0" lang="en-US" sz="9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Garamond"/>
              </a:rPr>
              <a:t>Auswahl eines methodischen Schwerpunkts</a:t>
            </a:r>
            <a:endParaRPr b="0" lang="en-US" sz="9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Garamond"/>
              </a:rPr>
              <a:t>Ablaufplanung, Organisation</a:t>
            </a:r>
            <a:endParaRPr b="0" lang="en-US" sz="9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Garamond"/>
              </a:rPr>
              <a:t>Feedback und Korrektur</a:t>
            </a:r>
            <a:endParaRPr b="0" lang="en-US" sz="9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Garamond"/>
              </a:rPr>
              <a:t>Dokumentation, Präsentation</a:t>
            </a:r>
            <a:endParaRPr b="0" lang="en-US" sz="9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Garamond"/>
              </a:rPr>
              <a:t>Mikroebene</a:t>
            </a:r>
            <a:endParaRPr b="0" lang="en-US" sz="9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Garamond"/>
              </a:rPr>
              <a:t>Bearbeitung von formalen Teilaufgaben</a:t>
            </a:r>
            <a:endParaRPr b="0" lang="en-US" sz="9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Garamond"/>
              </a:rPr>
              <a:t>Textrezeption und –produktion</a:t>
            </a:r>
            <a:endParaRPr b="0" lang="en-US" sz="9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Garamond"/>
              </a:rPr>
              <a:t>Sicherung von Grammatik, Wortschatz etc</a:t>
            </a:r>
            <a:endParaRPr b="0" lang="en-US" sz="9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Garamond"/>
              </a:rPr>
              <a:t>Feedback und Korrektur</a:t>
            </a:r>
            <a:endParaRPr b="0" lang="en-US" sz="9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Garamond"/>
              </a:rPr>
              <a:t>(B) Interkulturelle Kompetenzen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Garamond"/>
              </a:rPr>
              <a:t>(C) Kommunikative Kompetenzen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Garamond"/>
              </a:rPr>
              <a:t>Hör-/Hörsehverstehen</a:t>
            </a:r>
            <a:endParaRPr b="0" lang="en-US" sz="9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Garamond"/>
              </a:rPr>
              <a:t>Leseverstehen</a:t>
            </a:r>
            <a:endParaRPr b="0" lang="en-US" sz="9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Garamond"/>
              </a:rPr>
              <a:t>Sprechen (+ Interaktion)</a:t>
            </a:r>
            <a:endParaRPr b="0" lang="en-US" sz="9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Garamond"/>
              </a:rPr>
              <a:t>Schreiben (+Interaktion)</a:t>
            </a:r>
            <a:endParaRPr b="0" lang="en-US" sz="9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Garamond"/>
              </a:rPr>
              <a:t>Sprachmittlung</a:t>
            </a:r>
            <a:endParaRPr b="0" lang="en-US" sz="9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095880" y="2276640"/>
            <a:ext cx="26528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childTnLst>
                                    <p:set>
                                      <p:cBhvr>
                                        <p:cTn id="56" dur="1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/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/>
                                        <p:tgtEl>
                                          <p:spTgt spid="1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/>
                                        <p:tgtEl>
                                          <p:spTgt spid="10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/>
                                        <p:tgtEl>
                                          <p:spTgt spid="10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/>
                                        <p:tgtEl>
                                          <p:spTgt spid="10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/>
                                        <p:tgtEl>
                                          <p:spTgt spid="10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/>
                                        <p:tgtEl>
                                          <p:spTgt spid="107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/>
                                        <p:tgtEl>
                                          <p:spTgt spid="107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/>
                                        <p:tgtEl>
                                          <p:spTgt spid="107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/>
                                        <p:tgtEl>
                                          <p:spTgt spid="107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/>
                                        <p:tgtEl>
                                          <p:spTgt spid="107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/>
                                        <p:tgtEl>
                                          <p:spTgt spid="107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Garamond"/>
              </a:rPr>
              <a:t>Projektaufgaben und Testaufgaben im Kontext von GeR und Bildungsstandards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"/>
          <p:cNvSpPr/>
          <p:nvPr/>
        </p:nvSpPr>
        <p:spPr>
          <a:xfrm>
            <a:off x="971640" y="1773360"/>
            <a:ext cx="7345440" cy="4248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11640" y="2421000"/>
            <a:ext cx="3529080" cy="309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Testaufga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aramond"/>
              </a:rPr>
              <a:t>Allgemeine Kompetenz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Eingeschränk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ethodenkompeten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aramond"/>
              </a:rPr>
              <a:t>b) Kommunikative Kompetenz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Hörverste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Leseverste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ündliche Produk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chriftliche Produk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63840" y="2781360"/>
            <a:ext cx="200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7120" y="2781360"/>
            <a:ext cx="2324160" cy="274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Garamond"/>
              </a:rPr>
              <a:t>Projektaufga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Garamond"/>
              </a:rPr>
              <a:t>a) Allgemeine Kompetenz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33399"/>
                </a:solidFill>
                <a:latin typeface="Garamond"/>
              </a:rPr>
              <a:t>Savo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33399"/>
                </a:solidFill>
                <a:latin typeface="Garamond"/>
              </a:rPr>
              <a:t>Savoir-fa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33399"/>
                </a:solidFill>
                <a:latin typeface="Garamond"/>
              </a:rPr>
              <a:t>Savoir-ê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33399"/>
                </a:solidFill>
                <a:latin typeface="Garamond"/>
              </a:rPr>
              <a:t>Savoir-apprend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Garamond"/>
              </a:rPr>
              <a:t>b) Kommunikative Kompetenz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33399"/>
                </a:solidFill>
                <a:latin typeface="Garamond"/>
              </a:rPr>
              <a:t>Reze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33399"/>
                </a:solidFill>
                <a:latin typeface="Garamond"/>
              </a:rPr>
              <a:t>Produktion (+Interak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33399"/>
                </a:solidFill>
                <a:latin typeface="Garamond"/>
              </a:rPr>
              <a:t>Sprachmitt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71840" y="2482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48000" y="2349360"/>
            <a:ext cx="24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Garamond"/>
              </a:rPr>
              <a:t>← </a:t>
            </a:r>
            <a:r>
              <a:rPr b="1" lang="en-US" sz="1800" spc="-1" strike="noStrike">
                <a:solidFill>
                  <a:srgbClr val="009900"/>
                </a:solidFill>
                <a:latin typeface="Garamond"/>
              </a:rPr>
              <a:t>Lernaufgaben </a:t>
            </a:r>
            <a:r>
              <a:rPr b="1" lang="en-US" sz="2400" spc="-1" strike="noStrike">
                <a:solidFill>
                  <a:srgbClr val="009900"/>
                </a:solidFill>
                <a:latin typeface="Garamond"/>
              </a:rPr>
              <a:t>→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8604000" cy="581796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7993080" cy="3457440"/>
          </a:xfrm>
          <a:prstGeom prst="rect">
            <a:avLst/>
          </a:prstGeom>
          <a:ln w="57240">
            <a:solidFill>
              <a:srgbClr val="990000"/>
            </a:solidFill>
            <a:miter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24000" y="5589720"/>
            <a:ext cx="1439640" cy="10285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195640" y="6021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00"/>
                </a:solidFill>
                <a:latin typeface="Verdana"/>
              </a:rPr>
              <a:t>Die Entwicklung der Aufgaben für den Unterri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581040"/>
            <a:ext cx="734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50920" y="260280"/>
            <a:ext cx="852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990000"/>
                </a:solidFill>
                <a:uFillTx/>
                <a:latin typeface="Verdana"/>
              </a:rPr>
              <a:t>Nationale Bildungsstandards für Hauptschul- und Mittleren Abschluss (KMK, 2003, 20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6408720" cy="4987800"/>
          </a:xfrm>
          <a:prstGeom prst="rect">
            <a:avLst/>
          </a:prstGeom>
          <a:ln w="76320">
            <a:solidFill>
              <a:srgbClr val="990000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7236000" y="1125360"/>
            <a:ext cx="1618920" cy="2186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7236000" y="3500280"/>
            <a:ext cx="1616040" cy="21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492120" y="455760"/>
            <a:ext cx="815976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Garamond"/>
              </a:rPr>
              <a:t>Kompetenzbereiche in GeR und BS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55640" y="1268280"/>
          <a:ext cx="7848720" cy="5329440"/>
        </p:xfrm>
        <a:graphic>
          <a:graphicData uri="http://schemas.openxmlformats.org/drawingml/2006/table">
            <a:tbl>
              <a:tblPr/>
              <a:tblGrid>
                <a:gridCol w="3963960"/>
                <a:gridCol w="3884760"/>
              </a:tblGrid>
              <a:tr h="32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B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. Allgemeine Kompetenz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6600ff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eklaratives Wissen (savoi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nterkulturelle Kompetenz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6600ff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ertigkeiten und prozedurales Wissen (savoir-fair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nterkulturelle Kompetenz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ethodische Kompetenz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6600ff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ersönlichkeitsbezogene Kompetenz (savoir-êtr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6600ff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Lernfähigkeit (savoir-apprendr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6600ff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ethodische Kompetenz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. Kommunikative Sprachkompetenz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unktionale kommunikative Kompetenz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6600ff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Linguistische Kompetenz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6600ff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ommunikative Fertigkeit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6600ff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erfügung über die sprachlichen Mitt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6600ff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oziolinguistische Kompetenz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6600ff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agmatische Kompetenz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11:26:51Z</dcterms:created>
  <dc:creator>teschber</dc:creator>
  <dc:description/>
  <dc:language>en-US</dc:language>
  <cp:lastModifiedBy>Mitarbeiter</cp:lastModifiedBy>
  <dcterms:modified xsi:type="dcterms:W3CDTF">2005-12-21T17:30:48Z</dcterms:modified>
  <cp:revision>45</cp:revision>
  <dc:subject/>
  <dc:title>Lernaufgaben und Testaufgaben für das Fach Französisch</dc:title>
</cp:coreProperties>
</file>