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7559675" cy="5327650"/>
  <p:notesSz cx="6815138" cy="4625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14800" cy="46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23184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3860640" y="0"/>
            <a:ext cx="2951280" cy="23184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lstStyle>
            <a:lvl1pPr indent="0" algn="r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2176200" y="345960"/>
            <a:ext cx="2462040" cy="17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(W1)"/>
              </a:rPr>
              <a:t>Click to move the slide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2560" y="2198520"/>
            <a:ext cx="5448240" cy="208152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3"/>
          </p:nvPr>
        </p:nvSpPr>
        <p:spPr>
          <a:xfrm>
            <a:off x="0" y="4394160"/>
            <a:ext cx="2951280" cy="23040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b">
            <a:noAutofit/>
          </a:bodyPr>
          <a:lstStyle>
            <a:lvl1pPr indent="0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4"/>
          </p:nvPr>
        </p:nvSpPr>
        <p:spPr>
          <a:xfrm>
            <a:off x="3860640" y="4394160"/>
            <a:ext cx="2951280" cy="23040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b">
            <a:noAutofit/>
          </a:bodyPr>
          <a:lstStyle>
            <a:lvl1pPr indent="0" algn="r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fld id="{53B96276-612A-4D8A-B9FC-18154723D91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4127400" y="22536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240" y="2025360"/>
            <a:ext cx="6575400" cy="37083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orgestellte klassische Analyse liefert statistische Kennwerte für jedes Modu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bbildung auf ein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emeinsame Schwierigkeitsskal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mit Hilfe von I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rundlage fü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tem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ennwert für Itembanking (Längsschnitt-Referenzi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ilotierungsdesig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mit in der Regel 3 Modu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4379760" y="152280"/>
            <a:ext cx="2244960" cy="158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74680" y="225000"/>
            <a:ext cx="5256000" cy="29163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ebot a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meinsamem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ennzeic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ing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nutzerfreundlich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ürftig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kument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/ Hil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7960" y="1808280"/>
            <a:ext cx="648036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Vergleich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verschiedener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(Bilog,Winmira, Conquest, Winsteps) mit Hilfe 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iteraturrecherc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orksh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igene Vergleichsanaly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rgeb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ehr hoh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Korrelation der relativen Parameterschätz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nähernd linearer Zusammenhang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aphisch veranschaul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alyse mit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N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4091040" y="189000"/>
            <a:ext cx="2462040" cy="1735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7960" y="2060280"/>
            <a:ext cx="6120000" cy="20811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ünde fü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uswahl vo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NSTE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inbar weit verbreitet 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kanischen Ra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nutzerfreundlichke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ei 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neingab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viele Formate wie Textfiles, SPSS, Excel 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4162320" y="22536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74680" y="2097000"/>
            <a:ext cx="6408720" cy="295272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nutzerfreundlichkei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bei der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/ Dokumentation der Ergebnisse (Excel-Grafiken, Word-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erweis auf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nzahl der zu analysierenden Arbeite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: schnelle, effiziente, bedarfsgerechte Analy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JML-Algorithmu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schnell und für Bedarf ausreichend (siehe Vergleichsanalys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4127400" y="26028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74320" y="261720"/>
            <a:ext cx="3816360" cy="176364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onkret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Vorgehensweis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nalyse der Einzelmodul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als Qualitätstest für Brückeni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mon item equating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7960" y="2176560"/>
            <a:ext cx="63374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merkung zu Brücken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 dieser Pilotierung auf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undlage von Experteneinschätzung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geset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nterschiedliche Qualitä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(siehe Abbild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agnose des Item-Fit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mit WINSTEPS: infit / outfit, Polarität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4127400" y="22536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74320" y="188640"/>
            <a:ext cx="3708360" cy="27003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Zusammenstellung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ines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esamt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eine Date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nalyse des Gesamttest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: Itemparameter, Reliabilität, us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schluss von Item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nach infit, Aufgabenzugehör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4162320" y="18900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11040" y="151920"/>
            <a:ext cx="3780000" cy="20811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aphisches Ergebnis der Analy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temparameter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vertik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it-Wer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horizontal mit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enzen -2 und 2 (Bond + Fox)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gewichteter, standardisierter (0,1) Durchschnittswert der quadrierten Residuen, d.h der Abweichung zwischen tatsächlicher „performance“ des Items und der theoretisch erwarte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680" y="2583000"/>
            <a:ext cx="62643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i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in Abgrenzung zum outfit mit stärkerer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ewichtung von Personenergebniss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 die mit ihrer Fähigkeit im Schwierigkeitsbereich des Items lie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temauswah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nach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 Verteilung auf der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chwierigkeitsskal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fgabenzugehör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4091040" y="189000"/>
            <a:ext cx="2462040" cy="1735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74680" y="259920"/>
            <a:ext cx="3744720" cy="20811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ilotierungsergebnisse als Grundlage für zukünftig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efinition von Brücken- und Ankeritem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(Längsschnit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gänzende /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aphische Auswahlhilf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ür Aufgabenfindungsgrup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1040" y="1989000"/>
            <a:ext cx="626436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temparameter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eventuell als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ewichtungsfaktore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für die Aufgaben der Endfassu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77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öhere Akzeptanz trotz erfahrungsgemäß hoher Kor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77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ststatistisch begründete Gewichte statt Experteneinschätz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temparameter als Indexwert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für Auswertungsmap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77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vtl. Orientierung an PISA-Sk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68058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6360" y="2930760"/>
            <a:ext cx="68058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6360" y="293076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53680" y="293076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67480" y="92988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268960" y="92988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66360" y="293076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967480" y="293076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268960" y="293076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66360" y="929880"/>
            <a:ext cx="680580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68058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65200" y="201600"/>
            <a:ext cx="680544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6360" y="293076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3680" y="293076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6360" y="2930760"/>
            <a:ext cx="68058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65200" y="4797360"/>
            <a:ext cx="6431040" cy="53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398600" y="4944960"/>
            <a:ext cx="4764240" cy="2383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N D E S I N S T I T U T   FÜR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 H U L E N T W I C K L U N G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565200" cy="5329080"/>
          </a:xfrm>
          <a:prstGeom prst="rect">
            <a:avLst/>
          </a:prstGeom>
          <a:gradFill rotWithShape="0">
            <a:gsLst>
              <a:gs pos="0">
                <a:srgbClr val="ffff99">
                  <a:alpha val="3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795920"/>
            <a:ext cx="756144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652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5200" y="0"/>
            <a:ext cx="0" cy="532908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480" y="4821120"/>
            <a:ext cx="43812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0775880" y="7656480"/>
            <a:ext cx="44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  </a:t>
            </a:r>
            <a:fld id="{ED27AFEA-E70D-4D1E-915B-2B4E730507D2}" type="slidenum">
              <a:rPr b="1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771920" y="2175120"/>
            <a:ext cx="41115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a g n o s e -  u n d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 r g l e i c h s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r b e i t e 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775880" y="762480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04498C33-8B7C-41DA-94AF-8299F9AD5F7B}" type="slidenum">
              <a:rPr b="0" lang="de-DE" sz="1100" spc="-1" strike="noStrike">
                <a:solidFill>
                  <a:srgbClr val="000000"/>
                </a:solidFill>
                <a:latin typeface="Arial (W1)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026120" y="4921200"/>
            <a:ext cx="506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27763E1B-819B-4354-B52D-A82F976C8167}" type="slidenum">
              <a:rPr b="0" lang="de-DE" sz="1300" spc="-1" strike="noStrike">
                <a:solidFill>
                  <a:srgbClr val="000000"/>
                </a:solidFill>
                <a:latin typeface="Arial (W1)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(W1)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666360" y="929880"/>
            <a:ext cx="68058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230040"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184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184320">
              <a:spcBef>
                <a:spcPts val="575"/>
              </a:spcBef>
              <a:buClr>
                <a:srgbClr val="000000"/>
              </a:buClr>
              <a:buFont typeface="Arial"/>
              <a:buChar char="-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84320">
              <a:spcBef>
                <a:spcPts val="575"/>
              </a:spcBef>
              <a:buClr>
                <a:srgbClr val="000000"/>
              </a:buClr>
              <a:buFont typeface="Arial"/>
              <a:buChar char="-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84320">
              <a:spcBef>
                <a:spcPts val="575"/>
              </a:spcBef>
              <a:buClr>
                <a:srgbClr val="000000"/>
              </a:buClr>
              <a:buFont typeface="Arial"/>
              <a:buChar char="-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84320">
              <a:spcBef>
                <a:spcPts val="575"/>
              </a:spcBef>
              <a:buClr>
                <a:srgbClr val="000000"/>
              </a:buClr>
              <a:buFont typeface="Arial"/>
              <a:buChar char="-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652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565200" y="0"/>
            <a:ext cx="0" cy="532908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0480" y="4821120"/>
            <a:ext cx="438120" cy="50796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 rot="16200000">
            <a:off x="-1771920" y="2175120"/>
            <a:ext cx="41115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a g n o s e -  u n d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 r g l e i c h s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r b e i t e 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994440" y="4795920"/>
            <a:ext cx="0" cy="5331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rotokollbogen%20Muster%20Pilotierung.xls" TargetMode="External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ufgaben-Entwurfs-Raster.doc" TargetMode="External"/><Relationship Id="rId2" Type="http://schemas.openxmlformats.org/officeDocument/2006/relationships/hyperlink" Target="file:///Raster%20Bildungsstandards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650880"/>
            <a:ext cx="1608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nosearbeite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undschul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9280" y="650880"/>
            <a:ext cx="1608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sarbeite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uptschul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26080" y="2944800"/>
            <a:ext cx="1608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sarbeite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ymnasi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01600" y="2665440"/>
            <a:ext cx="1608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sarbeite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alschul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3720" y="3197160"/>
            <a:ext cx="1586160" cy="14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016000" y="650880"/>
            <a:ext cx="159084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92720" y="947880"/>
            <a:ext cx="1582920" cy="1428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394000" y="2841480"/>
            <a:ext cx="15858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067200" y="1965240"/>
            <a:ext cx="2771640" cy="887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rot="2100000">
            <a:off x="3987360" y="3363480"/>
            <a:ext cx="1638360" cy="231840"/>
          </a:xfrm>
          <a:prstGeom prst="leftArrow">
            <a:avLst>
              <a:gd name="adj1" fmla="val 43056"/>
              <a:gd name="adj2" fmla="val 1766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8640" y="684360"/>
            <a:ext cx="145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3040" y="279360"/>
            <a:ext cx="655308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Protokollierung der Schülerdat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ittels Makro-gesteuertem </a:t>
            </a:r>
            <a:r>
              <a:rPr b="0" lang="de-DE" sz="23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xcelformul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01720" y="2125800"/>
            <a:ext cx="529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9360" y="1889280"/>
            <a:ext cx="48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087640" y="3433680"/>
            <a:ext cx="1260360" cy="238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566720" y="3489480"/>
            <a:ext cx="3465720" cy="769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609560" y="3000240"/>
            <a:ext cx="2505240" cy="439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67440" y="3019320"/>
            <a:ext cx="377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9280" y="3552840"/>
            <a:ext cx="577800" cy="119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spcBef>
                <a:spcPts val="18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574640" y="3516480"/>
            <a:ext cx="4915080" cy="769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587680"/>
            <a:ext cx="75564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8640" y="684360"/>
            <a:ext cx="145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3040" y="279360"/>
            <a:ext cx="655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bleme bei der Pilotierung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01720" y="2125800"/>
            <a:ext cx="529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19360" y="1889280"/>
            <a:ext cx="48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3040" y="977760"/>
            <a:ext cx="529272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ganisation / Techni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ntransf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nprotokollier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8640" y="684360"/>
            <a:ext cx="145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279360"/>
            <a:ext cx="6156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eststatistische Analys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01720" y="2125800"/>
            <a:ext cx="529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3040" y="977760"/>
            <a:ext cx="529272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lassische Testtheor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Probabilistische Testtheor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19360" y="1889280"/>
            <a:ext cx="48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636560" y="977760"/>
          <a:ext cx="46180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977760"/>
                    <a:ext cx="46180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43040" y="279360"/>
            <a:ext cx="66135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Gymnasium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Klasse 6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Mathematik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Modul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zahl der Items = 24; Cronbachs Alpha = 0,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1360" y="3363840"/>
            <a:ext cx="189000" cy="1778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068720" y="2327400"/>
            <a:ext cx="1700280" cy="868320"/>
            <a:chOff x="4068720" y="2327400"/>
            <a:chExt cx="1700280" cy="868320"/>
          </a:xfrm>
        </p:grpSpPr>
        <p:sp>
          <p:nvSpPr>
            <p:cNvPr id="199" name=""/>
            <p:cNvSpPr/>
            <p:nvPr/>
          </p:nvSpPr>
          <p:spPr>
            <a:xfrm>
              <a:off x="5580000" y="3017880"/>
              <a:ext cx="189000" cy="17784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068720" y="2327400"/>
              <a:ext cx="684360" cy="228600"/>
              <a:chOff x="4068720" y="2327400"/>
              <a:chExt cx="684360" cy="228600"/>
            </a:xfrm>
          </p:grpSpPr>
          <p:sp>
            <p:nvSpPr>
              <p:cNvPr id="201" name=""/>
              <p:cNvSpPr/>
              <p:nvPr/>
            </p:nvSpPr>
            <p:spPr>
              <a:xfrm>
                <a:off x="4068720" y="2378160"/>
                <a:ext cx="189000" cy="177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64080" y="2327400"/>
                <a:ext cx="189000" cy="177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4257720" y="1805040"/>
            <a:ext cx="1403280" cy="1530360"/>
            <a:chOff x="4257720" y="1805040"/>
            <a:chExt cx="1403280" cy="1530360"/>
          </a:xfrm>
        </p:grpSpPr>
        <p:sp>
          <p:nvSpPr>
            <p:cNvPr id="204" name=""/>
            <p:cNvSpPr/>
            <p:nvPr/>
          </p:nvSpPr>
          <p:spPr>
            <a:xfrm>
              <a:off x="4653000" y="2765520"/>
              <a:ext cx="189000" cy="177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57720" y="1805040"/>
              <a:ext cx="189000" cy="177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1890720"/>
              <a:ext cx="189000" cy="176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72000" y="3157560"/>
              <a:ext cx="189000" cy="177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464000" y="2692440"/>
            <a:ext cx="1125720" cy="365040"/>
            <a:chOff x="4464000" y="2692440"/>
            <a:chExt cx="1125720" cy="365040"/>
          </a:xfrm>
        </p:grpSpPr>
        <p:sp>
          <p:nvSpPr>
            <p:cNvPr id="209" name=""/>
            <p:cNvSpPr/>
            <p:nvPr/>
          </p:nvSpPr>
          <p:spPr>
            <a:xfrm>
              <a:off x="4464000" y="2692440"/>
              <a:ext cx="189000" cy="1681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0720" y="2879640"/>
              <a:ext cx="189000" cy="17784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24360" y="2049480"/>
            <a:ext cx="2952720" cy="1333440"/>
            <a:chOff x="3024360" y="2049480"/>
            <a:chExt cx="2952720" cy="1333440"/>
          </a:xfrm>
        </p:grpSpPr>
        <p:sp>
          <p:nvSpPr>
            <p:cNvPr id="212" name=""/>
            <p:cNvSpPr/>
            <p:nvPr/>
          </p:nvSpPr>
          <p:spPr>
            <a:xfrm>
              <a:off x="3700440" y="2727360"/>
              <a:ext cx="18900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24360" y="2049480"/>
              <a:ext cx="18864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51360" y="3205080"/>
              <a:ext cx="18900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88080" y="3060720"/>
              <a:ext cx="18900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232000" y="3587760"/>
            <a:ext cx="1044720" cy="579600"/>
            <a:chOff x="2232000" y="3587760"/>
            <a:chExt cx="1044720" cy="579600"/>
          </a:xfrm>
        </p:grpSpPr>
        <p:sp>
          <p:nvSpPr>
            <p:cNvPr id="217" name=""/>
            <p:cNvSpPr/>
            <p:nvPr/>
          </p:nvSpPr>
          <p:spPr>
            <a:xfrm>
              <a:off x="2232000" y="3989520"/>
              <a:ext cx="189000" cy="1778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0360" y="3710160"/>
              <a:ext cx="188640" cy="177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87720" y="3587760"/>
              <a:ext cx="189000" cy="1778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5200" y="369720"/>
            <a:ext cx="6818400" cy="866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spcBef>
                <a:spcPts val="4311"/>
              </a:spcBef>
              <a:spcAft>
                <a:spcPts val="1151"/>
              </a:spcAft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(W1)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 (W1)"/>
              </a:rPr>
              <a:t>Empiriegestützte Schulentwicklung (EMSE)“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(W1)"/>
              </a:rPr>
              <a:t>in Stuttgart/Esslingen am 21. und 22.12.2005</a:t>
            </a: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24960" y="1236240"/>
            <a:ext cx="6907320" cy="2855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agnose - und Vergleichsarbeite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 Baden-Württemberg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900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fahrungen aus der Pilotierung 2005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sbeth Müller-Rosigkeit, Ulrich Nagel, Peter Sikorski, L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633680" y="977760"/>
          <a:ext cx="458784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977760"/>
                    <a:ext cx="458784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43040" y="279360"/>
            <a:ext cx="66135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Gymnasium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Klasse 6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Mathematik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Modul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zahl der Items = 12; Cronbachs Alpha = 0,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(W1)"/>
              </a:rPr>
              <a:t>Pilotierungmodule – Design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89080" y="1057320"/>
          <a:ext cx="5543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9080" y="1057320"/>
                    <a:ext cx="55436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828720" y="864720"/>
            <a:ext cx="1249200" cy="1847880"/>
            <a:chOff x="828720" y="864720"/>
            <a:chExt cx="1249200" cy="1847880"/>
          </a:xfrm>
        </p:grpSpPr>
        <p:sp>
          <p:nvSpPr>
            <p:cNvPr id="227" name=""/>
            <p:cNvSpPr/>
            <p:nvPr/>
          </p:nvSpPr>
          <p:spPr>
            <a:xfrm rot="16200000">
              <a:off x="63360" y="1630080"/>
              <a:ext cx="18478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Arial"/>
                </a:rPr>
                <a:t>Brückeni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5480" y="977040"/>
              <a:ext cx="892440" cy="1622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Analyse – Software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067200" y="985680"/>
          <a:ext cx="398916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7200" y="985680"/>
                    <a:ext cx="398916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44480" y="977760"/>
            <a:ext cx="680580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ILO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NMI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QUE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Times New Roman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WINSTE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WINSTEPS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61840" y="839880"/>
            <a:ext cx="61344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WINSTEPS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33400" y="762120"/>
            <a:ext cx="6430680" cy="4029120"/>
            <a:chOff x="833400" y="762120"/>
            <a:chExt cx="6430680" cy="402912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833400" y="802440"/>
              <a:ext cx="6311520" cy="23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833400" y="3140640"/>
              <a:ext cx="27986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16560" y="1154160"/>
              <a:ext cx="5120640" cy="195768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3687120" y="2336040"/>
              <a:ext cx="3339360" cy="245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181120" y="2664000"/>
              <a:ext cx="1815480" cy="207108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25400" y="762120"/>
              <a:ext cx="238680" cy="33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71150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(W1)"/>
              </a:rPr>
              <a:t>Brückenitems Gymnasium 6, Mathematik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4360" y="817560"/>
            <a:ext cx="2770200" cy="1963800"/>
            <a:chOff x="684360" y="817560"/>
            <a:chExt cx="2770200" cy="19638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743040" y="822240"/>
              <a:ext cx="2561400" cy="19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84360" y="817560"/>
              <a:ext cx="277020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rückenitems Modul 1 &amp;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703760" y="817560"/>
            <a:ext cx="2770200" cy="1992240"/>
            <a:chOff x="4703760" y="817560"/>
            <a:chExt cx="2770200" cy="199224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4828320" y="823680"/>
              <a:ext cx="2527200" cy="19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703760" y="817560"/>
              <a:ext cx="277020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rückenitems Modul 2 &amp;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678040" y="2797200"/>
            <a:ext cx="2770200" cy="1985400"/>
            <a:chOff x="2678040" y="2797200"/>
            <a:chExt cx="2770200" cy="1985400"/>
          </a:xfrm>
        </p:grpSpPr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2767320" y="2825640"/>
              <a:ext cx="2561040" cy="19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678040" y="2797200"/>
              <a:ext cx="277020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rückenitems Modul 1 &amp;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(W1)"/>
              </a:rPr>
              <a:t>Pilotierungmodule – Design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92240" y="1012680"/>
          <a:ext cx="564048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012680"/>
                    <a:ext cx="564048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" name=""/>
          <p:cNvGrpSpPr/>
          <p:nvPr/>
        </p:nvGrpSpPr>
        <p:grpSpPr>
          <a:xfrm>
            <a:off x="744480" y="837720"/>
            <a:ext cx="1249200" cy="1847880"/>
            <a:chOff x="744480" y="837720"/>
            <a:chExt cx="1249200" cy="1847880"/>
          </a:xfrm>
        </p:grpSpPr>
        <p:sp>
          <p:nvSpPr>
            <p:cNvPr id="257" name=""/>
            <p:cNvSpPr/>
            <p:nvPr/>
          </p:nvSpPr>
          <p:spPr>
            <a:xfrm rot="16200000">
              <a:off x="-20520" y="1603080"/>
              <a:ext cx="18478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Arial"/>
                </a:rPr>
                <a:t>Brückeni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1240" y="950040"/>
              <a:ext cx="892440" cy="1622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251000" y="2776680"/>
            <a:ext cx="5715000" cy="18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1 1 1 1 1 1 1 1 1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1 1 1 1 0 0 1 1 1 1 1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1 0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0 1 0 1 0 0 0 0 1 0 1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1 1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1 1 1 1 1 1 0 0 1 0 0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0 0 0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0 0 0 0 1 0 0 1 0 0 1 0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0 0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 0 1 1 0 0 1 0 1 1 1 1 1 1 0 0 0 0 0 0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0 1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 0 1 0 0 1 1 0 0 1 0 1 1 1 0 0 0 0 0 0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0 0 0 0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 0 0 0 0 0 1 0 0 0 0 0 0 1 0 0 0 0 0 0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0 0 0 0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0 0 0 0 0 0 0 0 0 0 0 0 0 0 0 0 0 0 0 0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 1 1 1 1 1 1 1 1 1 1 1 1 1 0 0 0 0 0 0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1 1 1 1 1 1 1 1 1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0 0 0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0 0 0 1 1 1 1 0 1 0 0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0 1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1 0 1 1 1 1 1 0 1 0 0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0 1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0 0 1 1 0 0 0 1 1 0 1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1 1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0 1 1 1 0 0 0 1 0 0 1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687240" y="174600"/>
          <a:ext cx="6602400" cy="459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4600"/>
                    <a:ext cx="66024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AUSBLICK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3040" y="977400"/>
            <a:ext cx="680544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uswahl zukünftiger Brücken- und Ankeri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raphische Auswahlhilfe für Aufgabenfindungsgrup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(transformierte) Itemparameter als Gewichtungsfaktoren für Aufgab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ennwerte für Item-Bank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Itemparameterwerte als Index für Auswertungsmappen / Rückmeldebög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31840" y="1069920"/>
          <a:ext cx="5834160" cy="3386160"/>
        </p:xfrm>
        <a:graphic>
          <a:graphicData uri="http://schemas.openxmlformats.org/drawingml/2006/table">
            <a:tbl>
              <a:tblPr/>
              <a:tblGrid>
                <a:gridCol w="1417680"/>
                <a:gridCol w="1255680"/>
                <a:gridCol w="1521000"/>
                <a:gridCol w="1639800"/>
              </a:tblGrid>
              <a:tr h="717480"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90640"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upt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89200"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WG + Gesc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*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*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 Pilotier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88840"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nas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WG + 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 Pilot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743040" y="279360"/>
            <a:ext cx="6670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agnose- und Vergleichsarbeiten 2005/200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31760" y="4083120"/>
            <a:ext cx="671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31760" y="376704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1760" y="3451320"/>
            <a:ext cx="671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1760" y="313524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1760" y="2819520"/>
            <a:ext cx="671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31760" y="250344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31760" y="2189160"/>
            <a:ext cx="6717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1760" y="187308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31760" y="1557360"/>
            <a:ext cx="671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03520" y="1042920"/>
            <a:ext cx="5658840" cy="3157560"/>
            <a:chOff x="1703520" y="1042920"/>
            <a:chExt cx="5658840" cy="3157560"/>
          </a:xfrm>
        </p:grpSpPr>
        <p:sp>
          <p:nvSpPr>
            <p:cNvPr id="83" name=""/>
            <p:cNvSpPr/>
            <p:nvPr/>
          </p:nvSpPr>
          <p:spPr>
            <a:xfrm>
              <a:off x="1703520" y="388476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insatz der Diagnose- bzw. Vergleichsarbei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04600" y="358488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mierung der Ergebnisprotoko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03520" y="325296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84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stlegung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r Bewertungsmaßstä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3520" y="293724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usammenstellung der Diagnose- bzw. Vergleichsarbei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03520" y="262152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statistische Analys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03520" y="230580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lotierung der Aufgab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03520" y="1990080"/>
              <a:ext cx="5657760" cy="3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usammenstellung von Pilotierungsmodu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03520" y="167436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hlinkClick r:id="rId1"/>
                </a:rPr>
                <a:t>Aufgabenformuli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3520" y="135864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ieldefini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3520" y="104292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hlinkClick r:id="rId2"/>
                </a:rPr>
                <a:t>Curriculare Analy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031760" y="124128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3720" y="1407960"/>
            <a:ext cx="671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63720" y="4567320"/>
            <a:ext cx="671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3720" y="140796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92880" y="140796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35120" y="1407960"/>
            <a:ext cx="565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3720" y="172404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2880" y="172404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63720" y="203976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92880" y="203976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63720" y="23558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92880" y="23558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720" y="26719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92880" y="26719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3720" y="29876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92880" y="29876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3720" y="33037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92880" y="33037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3720" y="36194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92880" y="36194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3720" y="39355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92880" y="39355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63720" y="42512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92880" y="42512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35120" y="4567320"/>
            <a:ext cx="565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70000" y="1098720"/>
            <a:ext cx="297000" cy="1136520"/>
            <a:chOff x="1170000" y="1098720"/>
            <a:chExt cx="297000" cy="1136520"/>
          </a:xfrm>
        </p:grpSpPr>
        <p:sp>
          <p:nvSpPr>
            <p:cNvPr id="119" name=""/>
            <p:cNvSpPr/>
            <p:nvPr/>
          </p:nvSpPr>
          <p:spPr>
            <a:xfrm>
              <a:off x="1170000" y="143388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0000" y="173088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70000" y="109872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0000" y="2050200"/>
              <a:ext cx="297000" cy="18504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170000" y="2384280"/>
            <a:ext cx="297000" cy="1765080"/>
            <a:chOff x="1170000" y="2384280"/>
            <a:chExt cx="297000" cy="1765080"/>
          </a:xfrm>
        </p:grpSpPr>
        <p:sp>
          <p:nvSpPr>
            <p:cNvPr id="124" name=""/>
            <p:cNvSpPr/>
            <p:nvPr/>
          </p:nvSpPr>
          <p:spPr>
            <a:xfrm>
              <a:off x="1170000" y="3963600"/>
              <a:ext cx="297000" cy="18576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0000" y="363276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70000" y="334404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0000" y="238428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70000" y="268164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0000" y="301716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73280" y="1061640"/>
            <a:ext cx="745560" cy="1200600"/>
            <a:chOff x="773280" y="1061640"/>
            <a:chExt cx="745560" cy="1200600"/>
          </a:xfrm>
        </p:grpSpPr>
        <p:sp>
          <p:nvSpPr>
            <p:cNvPr id="131" name=""/>
            <p:cNvSpPr/>
            <p:nvPr/>
          </p:nvSpPr>
          <p:spPr>
            <a:xfrm>
              <a:off x="1104120" y="1062000"/>
              <a:ext cx="414720" cy="1200240"/>
            </a:xfrm>
            <a:prstGeom prst="rect">
              <a:avLst/>
            </a:prstGeom>
            <a:solidFill>
              <a:srgbClr val="ccecff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335880" y="1499040"/>
              <a:ext cx="1161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 Schulja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85880" y="2328840"/>
            <a:ext cx="739800" cy="1846440"/>
            <a:chOff x="785880" y="2328840"/>
            <a:chExt cx="739800" cy="1846440"/>
          </a:xfrm>
        </p:grpSpPr>
        <p:sp>
          <p:nvSpPr>
            <p:cNvPr id="134" name=""/>
            <p:cNvSpPr/>
            <p:nvPr/>
          </p:nvSpPr>
          <p:spPr>
            <a:xfrm>
              <a:off x="1111320" y="2328840"/>
              <a:ext cx="414360" cy="1846440"/>
            </a:xfrm>
            <a:prstGeom prst="rect">
              <a:avLst/>
            </a:prstGeom>
            <a:solidFill>
              <a:srgbClr val="ccecff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348480" y="3042000"/>
              <a:ext cx="1161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 Schulja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43040" y="279360"/>
            <a:ext cx="6175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wicklungsstufen der DV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8640" y="684360"/>
            <a:ext cx="145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040" y="279360"/>
            <a:ext cx="6156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ilotierung der Aufgab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01720" y="2125800"/>
            <a:ext cx="529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4480" y="977760"/>
            <a:ext cx="6192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e kommen die Materialien vom LS an die Schule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e kommen die Daten von den Schulen an das L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19360" y="1889280"/>
            <a:ext cx="48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68560" y="279360"/>
          <a:ext cx="5802120" cy="43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935000" y="2295360"/>
            <a:ext cx="1827360" cy="592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965240" y="2940120"/>
            <a:ext cx="1827360" cy="592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195640" y="3322800"/>
            <a:ext cx="1260360" cy="237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63800" y="4064040"/>
            <a:ext cx="1638360" cy="349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5:41:09Z</dcterms:created>
  <dc:creator>Sik</dc:creator>
  <dc:description/>
  <dc:language>en-US</dc:language>
  <cp:lastModifiedBy>Sikorski</cp:lastModifiedBy>
  <cp:lastPrinted>2005-04-05T14:36:57Z</cp:lastPrinted>
  <dcterms:modified xsi:type="dcterms:W3CDTF">2006-01-11T16:45:15Z</dcterms:modified>
  <cp:revision>385</cp:revision>
  <dc:subject>DVA</dc:subject>
  <dc:title>Titelblatt</dc:title>
</cp:coreProperties>
</file>