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6036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678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6036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678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6036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678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6036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6036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678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6036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6036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624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816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-3124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162920" y="18900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0000"/>
                </a:solidFill>
                <a:latin typeface="Verdana"/>
              </a:rPr>
              <a:t>&lt;footer&gt;</a:t>
            </a:r>
            <a:r>
              <a:rPr b="1" lang="de-DE" sz="1400" spc="-1" strike="noStrike">
                <a:solidFill>
                  <a:srgbClr val="800000"/>
                </a:solidFill>
                <a:latin typeface="Verdana"/>
              </a:rPr>
              <a:t>Alexander Roppelt - Em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624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816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62920" y="586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03640" y="4497480"/>
            <a:ext cx="38354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9999"/>
                </a:solidFill>
                <a:latin typeface="Verdana"/>
              </a:rPr>
              <a:t>Implementation von Bildungsstandards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9999"/>
                </a:solidFill>
                <a:latin typeface="Verdana"/>
              </a:rPr>
              <a:t>Der Prozess in Mathematik in der Sekundarstuf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9999"/>
                </a:solidFill>
                <a:latin typeface="Verdana"/>
              </a:rPr>
              <a:t>Alexander Roppelt (IQ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Illustration (Prozess II)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4000" y="2923920"/>
            <a:ext cx="467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48640" y="2162160"/>
            <a:ext cx="1008000" cy="503280"/>
          </a:xfrm>
          <a:prstGeom prst="ellipse">
            <a:avLst/>
          </a:prstGeom>
          <a:solidFill>
            <a:srgbClr val="8c2435">
              <a:alpha val="30000"/>
            </a:srgbClr>
          </a:solidFill>
          <a:ln w="9360">
            <a:solidFill>
              <a:srgbClr val="8c2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817280"/>
            <a:ext cx="8278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Organisatorische Rahmenbedingung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teuerungsgruppe (KMK + PISA-Konsortium + IQB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ufgabenbewertungsgruppe (Fachdidaktiker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vier regionale Aufgabenentwicklungsgruppen (KMK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Entwicklung von 350 Items unter Abdeckung aller Leitideen und allg. Kompetenzen sowie von drei Anforderungs-bereichen in den Regionalgrupp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ichtung und Bewertung durch Aufgabenbewertungsgruppe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Überarbeitung von 150 ausgewählten Items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Oktober bis Dezember: Dokumentation der Aufgaben in einer Broschüre und im Internet </a:t>
            </a:r>
            <a:br>
              <a:rPr sz="2000"/>
            </a:br>
            <a:r>
              <a:rPr b="0" i="1" lang="de-DE" sz="2000" spc="-1" strike="noStrike">
                <a:solidFill>
                  <a:srgbClr val="000099"/>
                </a:solidFill>
                <a:latin typeface="Verdana"/>
              </a:rPr>
              <a:t>Vermeidung „Teaching to the test“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Illustration (Prozess II)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0936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pril 2005 bis September 2005: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Erarbeitung von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73080" y="209520"/>
            <a:ext cx="8962560" cy="5871600"/>
            <a:chOff x="73080" y="209520"/>
            <a:chExt cx="8962560" cy="5871600"/>
          </a:xfrm>
        </p:grpSpPr>
        <p:sp>
          <p:nvSpPr>
            <p:cNvPr id="208" name=""/>
            <p:cNvSpPr/>
            <p:nvPr/>
          </p:nvSpPr>
          <p:spPr>
            <a:xfrm>
              <a:off x="2626920" y="209520"/>
              <a:ext cx="3627720" cy="125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Steuerungsgrup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MDgt. K. Karpen, Vorsitzender des Schulausschu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N.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O. Köller, IQB Berl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Ralph Hartung, IQB Berl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W. Blum, Universität Kas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(in Abstimmung mit Prof. Dr. M. Prenzel, IPN Kie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41720" y="1850400"/>
              <a:ext cx="2688480" cy="15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Aufgabenbewertungsgrup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W. Blum, Kassel (Vorsit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E. Klieme, DIPF Frankfurt/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J. de Lange, Utrec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M. Neubrand, Oldenbu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H. Schupp, Saarbrüc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Dr. J. Sjuts, Le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Dr. C. Herwig (T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Dr. G. Bieber (B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69400" y="1499040"/>
              <a:ext cx="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80" y="3977640"/>
              <a:ext cx="1713600" cy="210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Arbeitsgruppe „Nord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777777"/>
                  </a:solidFill>
                  <a:uFillTx/>
                  <a:latin typeface="Times New Roman"/>
                </a:rPr>
                <a:t>Vors.:</a:t>
              </a: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 H. Weiskirch (N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Neef (H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Vernay (H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Patzer (H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Feiste (MV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Graelmann (N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Reble (S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v.Zelewski (S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777777"/>
                  </a:solidFill>
                  <a:uFillTx/>
                  <a:latin typeface="Times New Roman"/>
                </a:rPr>
                <a:t>wiss. Beratung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Herget, Ha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05880" y="3977640"/>
              <a:ext cx="1767600" cy="210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Arbeitsgruppe „West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777777"/>
                  </a:solidFill>
                  <a:uFillTx/>
                  <a:latin typeface="Times New Roman"/>
                </a:rPr>
                <a:t>Vors.:</a:t>
              </a: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 Fr. Euteneuer (R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Krug-Winkelmann (H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Dr. Scheuermann (H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Hermes (N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Dr. Pallack (N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Wegel (R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Crepin (S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Speicher (S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777777"/>
                  </a:solidFill>
                  <a:uFillTx/>
                  <a:latin typeface="Times New Roman"/>
                </a:rPr>
                <a:t>wiss. Beratung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Wynands, Bo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18840" y="2407680"/>
              <a:ext cx="185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11120" y="3977640"/>
              <a:ext cx="1767600" cy="164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Arbeitsgruppe „Süd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777777"/>
                  </a:solidFill>
                  <a:uFillTx/>
                  <a:latin typeface="Times New Roman"/>
                </a:rPr>
                <a:t>Vors.:</a:t>
              </a: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 Fr. Kelly (B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Diefenbacher (B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Dr. J. Heuss (B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Hinz (B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Ernhofer (B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777777"/>
                  </a:solidFill>
                  <a:uFillTx/>
                  <a:latin typeface="Times New Roman"/>
                </a:rPr>
                <a:t>wiss. Beratung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Leuders, Freibu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68400" y="3977640"/>
              <a:ext cx="1767240" cy="17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Arbeitsgruppe „Ost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777777"/>
                  </a:solidFill>
                  <a:uFillTx/>
                  <a:latin typeface="Times New Roman"/>
                </a:rPr>
                <a:t>Vors.:</a:t>
              </a: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 Fr. Dr. Prüfer (S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Perlich (B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Danker (B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Fröhlich  (B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Fr. Beck (S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H. Gerbig (T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777777"/>
                  </a:solidFill>
                  <a:uFillTx/>
                  <a:latin typeface="Times New Roman"/>
                </a:rPr>
                <a:t>wiss. Beratung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777777"/>
                  </a:solidFill>
                  <a:latin typeface="Times New Roman"/>
                </a:rPr>
                <a:t>Prof. Dr. Bruder, Darmstad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469400" y="3489480"/>
              <a:ext cx="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30600" y="3742560"/>
              <a:ext cx="722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4920" y="3742560"/>
              <a:ext cx="792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30600" y="374256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89680" y="3742560"/>
              <a:ext cx="324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53640" y="374256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99200" y="1859040"/>
              <a:ext cx="2431800" cy="11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Kasseler Koordinationsgrup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77777"/>
                  </a:solidFill>
                  <a:latin typeface="Times New Roman"/>
                </a:rPr>
                <a:t>Christina Drüke-No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77777"/>
                  </a:solidFill>
                  <a:latin typeface="Times New Roman"/>
                </a:rPr>
                <a:t>Dominik Leiß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77777"/>
                  </a:solidFill>
                  <a:latin typeface="Times New Roman"/>
                </a:rPr>
                <a:t>Dr. Bernd Wieg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77777"/>
                  </a:solidFill>
                  <a:latin typeface="Times New Roman"/>
                </a:rPr>
                <a:t>Alexander Jord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0560" y="2324520"/>
              <a:ext cx="36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06640" y="2833560"/>
              <a:ext cx="1584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4000" y="2923920"/>
            <a:ext cx="467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Die Kapitel im Überblick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ie nationalen Bildungsstandards der Länder für das Fach Mathematik (Hauptschulabschluss/Mittlerer Abschluss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Kompetenz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Unterricht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ufgab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ufgabensammlung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nhang mit systematischem Überblick über die Aufgaben zum Nachschlag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ie nationalen Bildungsstandards der Länder für das Fach Mathematik (Hauptschulabschluss/Mittlerer Abschluss)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Darstellung des grundsätzlichen Geistes und der Konzeption der Bildungsstandards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Kompetenz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800280" indent="-343080">
              <a:spcBef>
                <a:spcPts val="75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as bedeutet Kompetenzorientierung?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Ausführungen zum „Aufsetzen der Kompetenzbrille“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800280" indent="-343080">
              <a:spcBef>
                <a:spcPts val="75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llgemeine mathematische Kompetenzen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Illustration der einzelnen Kompetenzen durch Aufgabenbeispie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Kompetenz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(Betrachtung einer allg. math. Kompetenz)</a:t>
            </a:r>
            <a:br>
              <a:rPr sz="2000"/>
            </a:b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Illustration der Kompetenz mit zahlreichen Aufgaben-beispielen – eine Festlegung wurde noch nicht vorgenomme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ie Leitidee „Daten und Zufall“ und ihre Abgrenzung</a:t>
            </a:r>
            <a:br>
              <a:rPr sz="2000"/>
            </a:b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Illustration der Leitidee mit zahlreichen Aufgaben-beispielen. Hierbei sollte zusätzlich exemplarisch verdeutlicht werden, dass die Leitideen nicht mit den traditionellen Stoffgebieten (Analysis, Algebra, Stochastik,…) identisch sind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Unterricht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896040" indent="-447840">
              <a:spcBef>
                <a:spcPts val="751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ufgaben in verschiedenen Unterrichtssituatione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69360" indent="-37296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Bewusstsein schärfen, dass Aufgabe je Zweck unterschiedlich zu formulieren ist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69360" indent="-37296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Zum Beispiel wenn sie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- nur auf wenige Erfahrungen im Bereich einer Kompetenz zurückgreifen kann,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- in einer Sicherungs- bzw. Übungsphase eingesetzt wird,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- Teil einer Überprüfung ist oder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- im Rahmen einer wissenschaftliche Testung vorkommt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Unterricht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buClr>
                <a:srgbClr val="000099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Kompetenzpotential unterrichtlich aktiviere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Gedankliche Auseinandersetzung mit Lösungsideen zum Gegenstand der Überprüfung oder des Unterrichts machen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Kognition und Metakognition: Wie etwas im Kopf zurechtlegen, wie etwas zu Papier bringen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Verschiedene Vorstellungen und Darstellungen verwenden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Wie Lernen unterstützen, das Komplexität zu bewältigen hilft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Unterricht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ntelligentes Üben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Viele verschiedene Kompetenzen in einer Aufgabe ansprechen. 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Eher Aufgaben in Phasen der Sicherung im Unterricht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Kompetenzorientierte Aufgaben einer Klassenarbei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Projektorientieru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Langfristiger Kompetenzaufbau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Ergänzung zu 3.1, lenkt aber den Blick auf eine Unterrichtssequenz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c2435"/>
                </a:solidFill>
                <a:latin typeface="Verdana"/>
              </a:rPr>
              <a:t>Implementation von Bildungsstandards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4000" y="2923920"/>
            <a:ext cx="4679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Der Prozess in Mathematik in der Sekundarstufe I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ufgab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Variation von Aufgaben</a:t>
            </a:r>
            <a:br>
              <a:rPr sz="2000"/>
            </a:b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Aufgaben, die gezielt gewisse Kompetenzen bei den Schülerinnen und Schülern ansprechen oder gewisse Anforderungsbereiche bedienen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ultiple Lösbarkeit</a:t>
            </a:r>
            <a:br>
              <a:rPr sz="2000"/>
            </a:b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Die Lösungsvielfalt von Aufgabe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ufgab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ufgabenformate</a:t>
            </a:r>
            <a:br>
              <a:rPr sz="2000"/>
            </a:b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Gebündeltes Dargestellen von Aufgaben, die verschiedene Aufgabenformate verdeutlichen. Beispiele: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Erkennen von Fehlvorstellunge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Fehlersuch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Aufgaben mit Experimente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Aufgaben mit Situationsphoto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Aufgaben mit schulischem Hintergrun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Bookman Old Style"/>
              </a:rPr>
              <a:t> 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ufgab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914400" indent="-45720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inkleidung von Aufgaben/Realitätsbezüg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Darstellen von realitätsbezogenen bzw. sinnvoll eingekleideten Aufgaben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Kontrastieren mit wenig hilfreichen Einkleidungen und innermathematischen Fragestellungen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Struktur der Aufgabensammlung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ufgabensammlung</a:t>
            </a:r>
            <a:br>
              <a:rPr sz="2000"/>
            </a:b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Weitere gute Aufgaben und Verdeutlichen „was alles in einer Aufgabe steckt“.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443160" indent="-443160">
              <a:spcBef>
                <a:spcPts val="751"/>
              </a:spcBef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nhang mit systematischem Überblick über die Aufgaben zum Nachschlag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886680" indent="-44316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Strukturierte Darstellung aller in der Broschüre enthaltenen Aufgaben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886680" indent="-44316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gezieltes Suchen nach Aufgabenbeispielen zu bestimmten Kompetenzen, Leitideen und Anforderungsbereiche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886680" indent="-44316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Bookman Old Style"/>
              </a:rPr>
              <a:t>Einbettung in Kapitel motiviert möglicherweise, das ganze zugehörige Kapitel zu lesen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3138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ielen Dank für 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752480"/>
            <a:ext cx="327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288000" bIns="46800" anchor="t">
            <a:spAutoFit/>
          </a:bodyPr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on</a:t>
            </a:r>
            <a:r>
              <a:rPr b="0" lang="de-DE" sz="1100" spc="-1" strike="noStrike">
                <a:solidFill>
                  <a:srgbClr val="666666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+49[30]2093-53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ax</a:t>
            </a:r>
            <a:r>
              <a:rPr b="0" lang="de-DE" sz="1100" spc="-1" strike="noStrike">
                <a:solidFill>
                  <a:srgbClr val="000000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 +49[30]2093-53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IQBoffice@IQB.hu-berlin.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www.IQB.hu-berlin.de</a:t>
            </a:r>
            <a:r>
              <a:rPr b="0" lang="de-DE" sz="1600" spc="-1" strike="noStrike">
                <a:solidFill>
                  <a:srgbClr val="000000"/>
                </a:solidFill>
                <a:latin typeface="MetaBook-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p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ostadre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Humboldt-Universität zu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Unter den Linden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099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si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Jägerstraße 10-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117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638680" y="5661000"/>
            <a:ext cx="35053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288000" tIns="288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ansprechpartner -&gt;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Prof. Dr. Olaf Kö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Direk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vortragender -&gt;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Alexander Roppe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Doktor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85800" y="3772080"/>
            <a:ext cx="1676520" cy="531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2895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Beispielaufgabe: Schleichweg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126216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ine Aufgabe und der gewünschte Kompetenzbezu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02200" y="2276640"/>
            <a:ext cx="504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Viele Autofahrer benutzen für die Fahrt von A nach B nicht die stark befahrenen Hauptstraßen, sondern einen „Schleichweg“. Äußere dich, ob die Abkürzung eine Zeitersparnis bringt, wenn man auf dem Schleichweg durchschnittlich mit 30 km/h und auf den Hauptstraßen durchschnittlich mit 50 km/h fahr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54160" y="1987560"/>
            <a:ext cx="3714480" cy="4105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44680" y="1314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Leitidee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ess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Funktionaler Zusammenhang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llg. Kompetenz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rgumentieren (Lesen, Darleg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Problemlösen (Weg zurechtlegen, Hilfen heranzieh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odellieren (Mathematisieren, Interpretier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arstellen (Übersetzen Geo/Alg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Technisch arbeiten (Rechnen, ggfs. Pythagoras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forderungsbereich II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102200" y="2060640"/>
            <a:ext cx="504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Nimm an, dass man auf dem Schleich-weg mit durchschnittlich 30 km/h fahr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Wie hoch darf die Durchschnittsgeschwi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digkeit auf den Hauptstraßen höchst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sein, wenn die Abkürzung eine Zeiter-sparnis bringen soll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4160" y="1987560"/>
            <a:ext cx="3714480" cy="4105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I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Überblick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Nationale Bildungsstandards - Bildungsstandards für das Fach Mathematik (Mittlerer Abschluss)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Normierung und Illustration der Bildungsstandards - Der Prozess in Mathematik in der Sekundarstufe I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rmierung (Prozess I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llustration (Prozess II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uktur der Aufgabensammlu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I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4468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Leitidee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ess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Funktionaler Zusammenhang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llg. Kompetenz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rgumentieren (Lesen, Darstell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Problemlösen (Weg zurechtlegen, Hilfen heranzieh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odellieren (Mathematisieren, Interpretier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arstellen (Übersetzen Geo/Alg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Technisch arbeiten (Rechnen, ggfs. Pythagoras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forderungsbereich II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51280" y="1700280"/>
            <a:ext cx="5292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Nimm an, dass man auf dem Schleichw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mit durchschnittlich 30 km/h fahr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Wie hoch darf die Durchschnittsgeschwi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digkeit auf den Hauptstraßen höchst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sein, wenn die Abkürzung eine Zeiters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nis bringen soll? Erstelle für diese Höch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geschwindigkeit v in Abhängigkeit von 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eine Wertetabelle und einen Grap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Begründe ohne zu rechnen: Die in 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beschriebene Höchstgeschwindigkeit 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erreicht für ein gewisses u einen größ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möglichen W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26920" y="2131920"/>
            <a:ext cx="2937960" cy="3455280"/>
            <a:chOff x="826920" y="2131920"/>
            <a:chExt cx="2937960" cy="3455280"/>
          </a:xfrm>
        </p:grpSpPr>
        <p:grpSp>
          <p:nvGrpSpPr>
            <p:cNvPr id="267" name=""/>
            <p:cNvGrpSpPr/>
            <p:nvPr/>
          </p:nvGrpSpPr>
          <p:grpSpPr>
            <a:xfrm>
              <a:off x="826920" y="2131920"/>
              <a:ext cx="2937960" cy="3455280"/>
              <a:chOff x="826920" y="2131920"/>
              <a:chExt cx="2937960" cy="3455280"/>
            </a:xfrm>
          </p:grpSpPr>
          <p:pic>
            <p:nvPicPr>
              <p:cNvPr id="2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131920"/>
                <a:ext cx="2624040" cy="345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3764880" y="2148120"/>
                <a:ext cx="0" cy="342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554200" y="3702240"/>
              <a:ext cx="41832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 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15640" y="3498480"/>
              <a:ext cx="41760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 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II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II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16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Leitidee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Funktionaler Zusammenhang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ess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llg. Kompetenz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rgumentieren (Lesen, Darstell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Problemlösen (Weg zurechtlegen, Hilfen heranzieh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odellieren (Mathematisieren, Interpretier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arstellen (Übersetzen Geo/Alg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Technisch arbeiten (Rechnen, ggfs. Pythagoras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Kommunizieren (Lesen, Darstell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forderungsbereich III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102200" y="2062080"/>
            <a:ext cx="5041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Viele Autofahrer benutzen für die Fahrt von A nach B nicht die stark befahrenen Hauptstraßen, sondern einen „Schleich-weg“. Um wie viel Prozent ist dieser Schleichweg kürzer als die Hauptstraß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54160" y="1773360"/>
            <a:ext cx="3714480" cy="41050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IV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IV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160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Leitidee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Zahl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ess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llg. Kompetenz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rgumentieren (Lesen, Darstell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Problemlösen (Weg zurechtlegen, Hilfen heranzieh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odellieren (Mathematisieren, Interpretier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arstellen (Übersetzen Geo/Alg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Technisch arbeiten (Rechnen, ggfs. Pythagoras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forderungsbereich II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24360" y="1413000"/>
            <a:ext cx="49687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Gegeben ist nebenstehender Karten-ausschni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Viele Autofahrer benutzen für die Fahrt von A nach B nicht die stark befahrenen Hauptstraßen, sondern einen „Schleich-weg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Lohnt sich der Schleichweg? Begründe deine Antw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097440" cy="271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V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V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Leitidee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ess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Funktionaler Zusammenhang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llg. Kompetenz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rgumentieren (Lesen, Darstell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Problemlösen (Weg zurechtlegen, Hilfen heranzieh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odellieren (Mathematisieren, Interpretier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arstellen (Übersetzen Geo/Alg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Technisch arbeiten (Rechnen, ggfs. Pythagoras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Kommunizieren (Lesen, Darstell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forderungsbereich III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V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56920"/>
            <a:ext cx="5973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ie Katheten in einem rechtwinkligen Dreieck sind 3 cm und 5cm lang. 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Berechne die Länge der Hypotenuse!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82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V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Leitidee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ess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llg. Kompetenz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Technisch arbeiten (Rechnen, ggfs. Pythagoras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Kommunizieren (Lesen, Darstell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forderungsbereich I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7360" y="-3654360"/>
            <a:ext cx="6984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63640" y="1294920"/>
            <a:ext cx="540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Wichtig: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fgabe im Hinblick auf 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e angesprochene Leitidee, 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e angesprochenen allgemein mathematischen Kompetenzen und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n Anforderungsbereich schärfen!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Nationale Bildungsstandards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4000" y="2923920"/>
            <a:ext cx="467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Bildungsstandards für das Fach Mathematik (Mittlerer Abschluss)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7360" y="-3654360"/>
            <a:ext cx="6984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Welche Aufgabe zu welchem Zweck?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instiegsaufgabe in ein neues Thema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Übungsaufgabe im Unterricht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ufgabe zur Leistungsmessung (z. B. für die Klassenarbeit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ufgabe zum Einsatz in Studi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z. B. ist Variante VI nicht zur Einführung des Themas geeignet. Variante VI ist eine Aufgabe zur Leistungsmessung!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Verdana"/>
              </a:rPr>
              <a:t>Wie könnte die Aufgabe beim Einsatz in einer Studie aussehen?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VI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9640" y="155880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ie Katheten in einem rechtwinkligen Dreieck sind 3 cm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und 5 cm lang. Welche Aussagen sind richtig?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63600" indent="-3636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ie Hypotenuse ist länger als jede der beiden Katheten.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63600" indent="-3636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ie Länge der Hypotenuse wird durch keine irrationale Zahl beschrieben.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63600" indent="-3636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ie Länge der Hypotenuse ist größer als 5,7 cm.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Variante VII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640" y="155880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Leitidee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Mess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llg. Kompetenz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Technisch arbeiten (Rechnen, ggfs. Pythagoras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forderungsbereich II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7360" y="-3654360"/>
            <a:ext cx="6984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55640" y="1294920"/>
            <a:ext cx="4321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Wichtig: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fgabe im Hinblick auf 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e Unterrichtssituation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chärfen!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11667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Nationale Bildungsstandard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Mittlerer Abschl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3065400"/>
            <a:ext cx="35272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aum und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unktionaler Zusammen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aten und Zu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(Leitide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2349360"/>
            <a:ext cx="475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llg. math. Kompet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 argu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s Problemlö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s Modell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 Darstellungen verwe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it symbolischen, formalen und technischen Elementen der Mathematik umg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 kommuniz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Bildungsstandards Mathematik</a:t>
            </a:r>
            <a:endParaRPr b="1" lang="en-US" sz="28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3511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haltsbezogene math. Kompetenz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Normierung (Prozess I)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000" y="2923920"/>
            <a:ext cx="467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Normierung (Prozess I)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026800"/>
            <a:ext cx="7340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Organisatorische Rahmenbedingungen: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teuerungsgruppe (KMK + PISA-Konsortium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ufgabenbewertungsgruppe (Fachdidaktiker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vier regionale Aufgabenentwicklungsgruppen (KMK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Entwicklung von 1100 Items unter Abdeckung aller Leitideen und allg. Kompetenzen sowie von drei Anforderungsbereichen in den Regionalgruppen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Sichtung und Bewertung durch Aufgabenbewertungsgruppe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Überarbeitung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332000"/>
            <a:ext cx="65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pril 2004 bis Dezember 2004: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Erarbeitung von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508720" y="465300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3933720"/>
            <a:ext cx="741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9280" y="549360"/>
            <a:ext cx="8820000" cy="5432040"/>
            <a:chOff x="179280" y="549360"/>
            <a:chExt cx="8820000" cy="5432040"/>
          </a:xfrm>
        </p:grpSpPr>
        <p:sp>
          <p:nvSpPr>
            <p:cNvPr id="182" name=""/>
            <p:cNvSpPr/>
            <p:nvPr/>
          </p:nvSpPr>
          <p:spPr>
            <a:xfrm>
              <a:off x="2756520" y="549360"/>
              <a:ext cx="3663720" cy="114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Steuerungsgrup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Dgt. K. Karpen, Vorsitzender KMK-Schulausschu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Dgt a.D. Dr. .P. Pauly (B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f. Dr. W. Blum, Universität Kass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in Abstimmung mit Prof. Dr. M. Prenzel, IPN Ki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31000" y="1958760"/>
              <a:ext cx="2715120" cy="157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Aufgabenbewertungsgrup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. Dr. W. Blum, Kassel (Vorsit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. Dr. E. Klieme, DIPF Frankfurt/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. Dr. J. de Lange, Utrec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. Dr. M. Neubrand, Oldenbu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. Dr. H. Schupp, Saarbrüc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r. J. Sjuts, Le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r. C. Herwig (T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r. G. Bieber (B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89280" y="169380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9280" y="4007160"/>
              <a:ext cx="1730880" cy="197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Regionalgruppe N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Stenten-Langenbach (N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Feiste (MV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Patzer (H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Vernay (H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Hillmann (H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v.Zelewski (S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. Dr. Herget, Ha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9400" y="4007160"/>
              <a:ext cx="1784520" cy="158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Regionalgruppe W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Euteneuer (R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Speicher (S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Beier (H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Dr. Pallack (N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. Dr. Wynands, Bo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06320" y="248760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04280" y="4007160"/>
              <a:ext cx="1784520" cy="162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Regionalgruppe Sü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Kelly (B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Höniger (B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Diefenbacher (B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Freudigmann (B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. Dr. Leuders, Freibu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14760" y="4007160"/>
              <a:ext cx="1784520" cy="177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Regionalgruppe 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Dr. Prüfer (S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Bänsch (B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Perlich (B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Fröhlich  (B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Fr. Beck (S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H. Wontroba (T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of‘. Dr. Bruder, Darmstad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589280" y="3557880"/>
              <a:ext cx="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04400" y="3783600"/>
              <a:ext cx="703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54320" y="37836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04400" y="3783600"/>
              <a:ext cx="144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73280" y="37836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2760" y="37836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80560" y="1958760"/>
              <a:ext cx="2456280" cy="104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„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Kasseler“ Koordinationsgrup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hristina Drüke-No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ominik Leiß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r. Bernd Wieg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2680" y="2310120"/>
              <a:ext cx="29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417800" y="2737440"/>
              <a:ext cx="0" cy="10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2435"/>
                </a:solidFill>
                <a:latin typeface="Verdana"/>
              </a:rPr>
              <a:t>Normierung (Prozess I)</a:t>
            </a:r>
            <a:endParaRPr b="1" lang="en-US" sz="3200" spc="-1" strike="noStrike">
              <a:solidFill>
                <a:srgbClr val="8c243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56920"/>
            <a:ext cx="7989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Januar 2005: Auswahl von ca. 600 Items für den Feldtest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pril/Mai 2005: Durchführung des Feldtests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Bis Dezember 2005: Auswertung des Feldtests, Auswahl von ca. 300 Items für den Haupttest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pril/Mai 2006: Durchführung des Haupttests im PISA-Kontext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Anschließend: Auswertung des Haupttests (Normierung für jede Leitidee mit Hilfe von Kompetenzstufenmodellen)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9:24:59Z</dcterms:created>
  <dc:creator>ofkoelle</dc:creator>
  <dc:description/>
  <dc:language>en-US</dc:language>
  <cp:lastModifiedBy>IQB</cp:lastModifiedBy>
  <cp:lastPrinted>2004-12-06T11:27:56Z</cp:lastPrinted>
  <dcterms:modified xsi:type="dcterms:W3CDTF">2005-12-22T11:33:16Z</dcterms:modified>
  <cp:revision>158</cp:revision>
  <dc:subject/>
  <dc:title>PowerPoint-Präsentation</dc:title>
</cp:coreProperties>
</file>