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B823-AA0B-46EF-9C73-63883B1D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3443-3E58-47AE-BC62-8BEFE2E5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707-4333-4C10-B0F3-746FD3E7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976-C1D1-4143-A6A2-427F954F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14A-43F7-45A1-ADBE-07C26B41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25B1-4E19-4A64-9A12-03050CEA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99A-6780-4348-BE86-8777A5DB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DD93-E88B-47BC-8A45-33D7F820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6E3-17B2-4568-A369-17089D9D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EE3-02E1-48B4-A39A-CD1B59B6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E4E-99F5-47F3-9DFE-B4BE693A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D62-1E68-48D5-9796-1E1A972E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47F1-C593-4AA1-8C85-3A9EA8BB8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62120" y="5165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74560" y="533520"/>
            <a:ext cx="293076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4000" y="220500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c2435"/>
                </a:solidFill>
                <a:latin typeface="Verdana"/>
              </a:rPr>
              <a:t>Implementation und Testung von Bildungsstanda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c2435"/>
                </a:solidFill>
                <a:latin typeface="Verdana"/>
              </a:rPr>
              <a:t>Ihre Bedeutung in einer Gesamtstrategie der Qualitätssicherung und Steigerung im Bildungs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c243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47680" y="5070600"/>
            <a:ext cx="4083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c2435"/>
                </a:solidFill>
                <a:latin typeface="Verdana"/>
              </a:rPr>
              <a:t>Olaf Kö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c2435"/>
                </a:solidFill>
                <a:latin typeface="Verdana"/>
              </a:rPr>
              <a:t>Institut zur Qualitäts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c2435"/>
                </a:solidFill>
                <a:latin typeface="Verdana"/>
              </a:rPr>
              <a:t>im Bildungs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Verdana"/>
              </a:rPr>
              <a:t>iqboffice@iqb.hu-berlin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Verdana"/>
              </a:rPr>
              <a:t>www.iqb.hu-berlin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5238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4560" y="533520"/>
            <a:ext cx="293076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1844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Üb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2492280"/>
            <a:ext cx="813780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30000"/>
              </a:lnSpc>
              <a:spcBef>
                <a:spcPts val="751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Gesamtstrategie der KMK zur Qualitätssicherung und –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751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Die Rolle nationaler Bildungsstandards in dieser Strate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751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Kompetenzorientierte Unterrichtsmaterialien als Fundament der Qualitäts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08660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Gesamtstrategie der KMK zur Qualitätssicherung 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-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9280" y="2060640"/>
            <a:ext cx="8569440" cy="43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Beteiligung an internationalen Studien (internationales Benchmark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8c2435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c2435"/>
                </a:solidFill>
                <a:latin typeface="Verdana"/>
              </a:rPr>
              <a:t>PISA in der Sekundarstuf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8c2435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c2435"/>
                </a:solidFill>
                <a:latin typeface="Verdana"/>
              </a:rPr>
              <a:t>PIRLS und TIMSS in der Grundsch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Nationaler Vergleich (Ländervergleich) auf der Basis der länderübergreifenden Bildungs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8c2435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c2435"/>
                </a:solidFill>
                <a:latin typeface="Verdana"/>
              </a:rPr>
              <a:t>Dabei internationale Verankerung soweit wie mög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8c2435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c2435"/>
                </a:solidFill>
                <a:latin typeface="Verdana"/>
              </a:rPr>
              <a:t>Zyklus off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Flächendeckende Vergleichsarbeiten zum Zwecke der intermediären Feststellung von Leistungsständen; Anbindung an die Bildungsstandards 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324000" y="0"/>
            <a:ext cx="756000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Warum Ländervergleiche auf der Basis der Bildungsstanda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2060640"/>
            <a:ext cx="8569440" cy="43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Bildungsstandards stellen in allen Ländern verbindliche Leistungserwartungen im Primar- und Sekundarschulsystem 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Bildungsstandards gehen hinsichtlich der berücksichtigten Fächer und Skills über die internationalen Programme hin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Für die Überprüfung der Bildungsstandards werden große Mengen testtheoretisch hochwertiger Aufgaben entwickelt und pilot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Die Entwicklung kompetenzorientierter Aufgaben für den Unterricht im Sinne der Bildungsstandards erlaubt die direkte Verknüpfung von Unterricht und Tes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324000" y="0"/>
            <a:ext cx="756000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Überblick über die weiteren Präsen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9280" y="2060640"/>
            <a:ext cx="856944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Alexander Roppelt: Von Bildungsstandards zu kompetenzorientierten Aufgaben im Mathematikunterr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Bernd Tesch: Von Bildungsstandards zu kompetenzorientierten Aufgaben im Fremdsprachenunterr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Martin Mechtel: Unterstützung der Aufgabenentwicklung durch PC und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752480"/>
            <a:ext cx="327672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288000" bIns="46800" anchor="t">
            <a:spAutoFit/>
          </a:bodyPr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Telefon</a:t>
            </a:r>
            <a:r>
              <a:rPr b="0" lang="de-DE" sz="1100" spc="-1" strike="noStrike">
                <a:solidFill>
                  <a:srgbClr val="666666"/>
                </a:solidFill>
                <a:latin typeface="MetaBoldLF-Caps"/>
                <a:ea typeface="Arial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Arial"/>
              </a:rPr>
              <a:t> +49[30]2093-53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Telefax</a:t>
            </a:r>
            <a:r>
              <a:rPr b="0" lang="de-DE" sz="1100" spc="-1" strike="noStrike">
                <a:solidFill>
                  <a:srgbClr val="000000"/>
                </a:solidFill>
                <a:latin typeface="MetaBoldLF-Caps"/>
                <a:ea typeface="Arial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Arial"/>
              </a:rPr>
              <a:t>  +49[30]2093-533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Arial"/>
              </a:rPr>
              <a:t>IQBoffice@IQB.hu-berlin.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www.IQB.hu-berlin.de</a:t>
            </a:r>
            <a:r>
              <a:rPr b="0" lang="de-DE" sz="1600" spc="-1" strike="noStrike">
                <a:solidFill>
                  <a:srgbClr val="000000"/>
                </a:solidFill>
                <a:latin typeface="MetaBook-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P</a:t>
            </a: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ostadres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Humboldt-Universität zu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Unter den Linden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10099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Sit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Jägerstraße 10- 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10117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74560" y="533520"/>
            <a:ext cx="2930760" cy="1334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38680" y="5867280"/>
            <a:ext cx="35053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288000" tIns="288000" bIns="46800" anchor="t">
            <a:spAutoFit/>
          </a:bodyPr>
          <a:p>
            <a:pPr marL="189000">
              <a:lnSpc>
                <a:spcPct val="100000"/>
              </a:lnSpc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Ansprechpartner -&gt;</a:t>
            </a: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MetaBold-Roman"/>
                <a:ea typeface="Times New Roman"/>
              </a:rPr>
              <a:t>Prof. Dr. Olaf Kö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Bold-Roman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Direk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85800" y="3772080"/>
            <a:ext cx="1676520" cy="531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85800" y="3200400"/>
            <a:ext cx="2895480" cy="571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25440" y="4643280"/>
            <a:ext cx="410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Vielen Dank fü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Ihre Aufmerksamke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1:27:48Z</dcterms:created>
  <dc:creator>theband</dc:creator>
  <dc:description/>
  <dc:language>en-US</dc:language>
  <cp:lastModifiedBy>IQB</cp:lastModifiedBy>
  <dcterms:modified xsi:type="dcterms:W3CDTF">2005-12-22T06:46:33Z</dcterms:modified>
  <cp:revision>15</cp:revision>
  <dc:subject/>
  <dc:title>PowerPoint-Präsentation</dc:title>
</cp:coreProperties>
</file>