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6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tone Sans Medium/Semi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12880" y="723600"/>
            <a:ext cx="5232240" cy="362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StoneSans_Med_Semi"/>
              </a:rPr>
              <a:t>Click to move the slide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one Sans Medium/Semi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tone Sans Medium/Semi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tone Sans Medium/Semi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5A3B-C1AC-4F57-8053-49FBB5DF82B8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B325-C7BA-496C-862D-33C682E432BE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36640" y="746280"/>
            <a:ext cx="5170320" cy="3579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3760" y="4624560"/>
            <a:ext cx="49960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E709-1A45-4873-9DBE-6D9D4210989C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36640" y="746280"/>
            <a:ext cx="5170320" cy="35794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3760" y="4624560"/>
            <a:ext cx="49960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EAA5-D280-4A66-8BDC-93E2F04B40B9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36640" y="746280"/>
            <a:ext cx="5170320" cy="3579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3760" y="4624560"/>
            <a:ext cx="49960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8064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49240" y="4159440"/>
            <a:ext cx="8064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492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20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6240" y="242100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2880" y="242100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49240" y="415944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6240" y="415944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2880" y="415944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49240" y="2421000"/>
            <a:ext cx="8064720" cy="332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80647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520"/>
            <a:ext cx="7197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492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20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49240" y="4159440"/>
            <a:ext cx="8064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StoneSans_Med_Semi"/>
              </a:rPr>
              <a:t>Click to edit the title text format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2421000"/>
            <a:ext cx="8064720" cy="332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-342720">
              <a:spcBef>
                <a:spcPts val="601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Click to edit the outline text format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1" marL="1239840" indent="-285840">
              <a:spcBef>
                <a:spcPts val="601"/>
              </a:spcBef>
              <a:buClr>
                <a:srgbClr val="c8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Second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2" marL="1658880" indent="-228600">
              <a:spcBef>
                <a:spcPts val="601"/>
              </a:spcBef>
              <a:buClr>
                <a:srgbClr val="3366c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Third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3" marL="207792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Four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4" marL="249696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Fif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5" marL="249696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Six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6" marL="249696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Seven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991720" y="380880"/>
            <a:ext cx="496800" cy="53352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609480" y="990720"/>
            <a:ext cx="9072720" cy="75960"/>
            <a:chOff x="609480" y="990720"/>
            <a:chExt cx="9072720" cy="75960"/>
          </a:xfrm>
        </p:grpSpPr>
        <p:sp>
          <p:nvSpPr>
            <p:cNvPr id="4" name=""/>
            <p:cNvSpPr/>
            <p:nvPr/>
          </p:nvSpPr>
          <p:spPr>
            <a:xfrm>
              <a:off x="609480" y="990720"/>
              <a:ext cx="9072720" cy="0"/>
            </a:xfrm>
            <a:prstGeom prst="line">
              <a:avLst/>
            </a:prstGeom>
            <a:ln w="9360">
              <a:solidFill>
                <a:srgbClr val="0d38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one Sans Medium/SemiBold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90720"/>
              <a:ext cx="0" cy="75960"/>
            </a:xfrm>
            <a:prstGeom prst="line">
              <a:avLst/>
            </a:prstGeom>
            <a:ln w="9360">
              <a:solidFill>
                <a:srgbClr val="0d38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one Sans Medium/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4520" y="3141720"/>
            <a:ext cx="885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22d9a"/>
                </a:solidFill>
                <a:latin typeface="Arial"/>
              </a:rPr>
              <a:t>Entwicklung empiriegestützter</a:t>
            </a:r>
            <a:br>
              <a:rPr sz="4000"/>
            </a:br>
            <a:r>
              <a:rPr b="1" lang="de-DE" sz="4000" spc="-1" strike="noStrike">
                <a:solidFill>
                  <a:srgbClr val="022d9a"/>
                </a:solidFill>
                <a:latin typeface="Arial"/>
              </a:rPr>
              <a:t>Schulprojekte in Hamburg</a:t>
            </a:r>
            <a:br>
              <a:rPr sz="2200"/>
            </a:br>
            <a:br>
              <a:rPr sz="3200"/>
            </a:br>
            <a:r>
              <a:rPr b="1" lang="de-DE" sz="2800" spc="-1" strike="noStrike">
                <a:solidFill>
                  <a:srgbClr val="417428"/>
                </a:solidFill>
                <a:latin typeface="Arial"/>
              </a:rPr>
              <a:t>Vierte EmSe-Tagung </a:t>
            </a:r>
            <a:br>
              <a:rPr sz="2800"/>
            </a:br>
            <a:r>
              <a:rPr b="1" lang="de-DE" sz="2800" spc="-1" strike="noStrike">
                <a:solidFill>
                  <a:srgbClr val="417428"/>
                </a:solidFill>
                <a:latin typeface="Arial"/>
              </a:rPr>
              <a:t>22. und 23. Juni 2006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0" name=""/>
          <p:cNvSpPr/>
          <p:nvPr/>
        </p:nvSpPr>
        <p:spPr>
          <a:xfrm>
            <a:off x="187200" y="36360"/>
            <a:ext cx="11448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3400" y="74448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49240" y="1557000"/>
            <a:ext cx="8064720" cy="42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2d9a"/>
                </a:solidFill>
                <a:latin typeface="Arial"/>
              </a:rPr>
              <a:t>Zentrale Ergebnisse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Verbesserung der Rechtschreibleistung in </a:t>
            </a:r>
            <a:br>
              <a:rPr sz="2400"/>
            </a:b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71 Prozent der Klassen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Reduzierung des Anteils von Kindern mit gravierenden Rechtschreibschwierigkeiten um ein Drittel (in einzelnen Klassen bis zu 70 Prozent)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deutlich erhöhter Einsatz diagnostischer Verfahren in den Schulen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8720" y="1341360"/>
            <a:ext cx="9056520" cy="428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22d9a"/>
                </a:solidFill>
                <a:latin typeface="Arial"/>
              </a:rPr>
              <a:t>LAU</a:t>
            </a:r>
            <a:endParaRPr b="0" lang="en-US" sz="7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9a"/>
                </a:solidFill>
                <a:latin typeface="Arial"/>
              </a:rPr>
              <a:t>Lernausgangslagenuntersuchung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9a"/>
                </a:solidFill>
                <a:latin typeface="Arial"/>
              </a:rPr>
              <a:t>1995 – 2005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Mathematik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06320" y="1197000"/>
          <a:ext cx="820764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197000"/>
                    <a:ext cx="8207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ttelwerte Mathematik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76160" y="1700280"/>
          <a:ext cx="8353080" cy="3744000"/>
        </p:xfrm>
        <a:graphic>
          <a:graphicData uri="http://schemas.openxmlformats.org/drawingml/2006/table">
            <a:tbl>
              <a:tblPr/>
              <a:tblGrid>
                <a:gridCol w="3903120"/>
                <a:gridCol w="2224800"/>
                <a:gridCol w="2225160"/>
              </a:tblGrid>
              <a:tr h="116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20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re Sch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gleichsgrup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ttelw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abw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zahl der Schülerinnen und Schü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rnstandsentwicklung Rechtschreibung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352520" y="933480"/>
          <a:ext cx="7166160" cy="57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933480"/>
                    <a:ext cx="716616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ttlerer Lernzuwachs Rechtschreibung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20880" y="1916280"/>
          <a:ext cx="8135280" cy="2880720"/>
        </p:xfrm>
        <a:graphic>
          <a:graphicData uri="http://schemas.openxmlformats.org/drawingml/2006/table">
            <a:tbl>
              <a:tblPr/>
              <a:tblGrid>
                <a:gridCol w="3858480"/>
                <a:gridCol w="2138400"/>
                <a:gridCol w="2138400"/>
              </a:tblGrid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20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re Sch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gleichsgrup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ttlerer Lernzuwa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abw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zahl der Schülerinnen und Schü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6483240"/>
            <a:ext cx="719280" cy="289080"/>
          </a:xfrm>
          <a:custGeom>
            <a:avLst/>
            <a:gdLst>
              <a:gd name="textAreaLeft" fmla="*/ 0 w 719280"/>
              <a:gd name="textAreaRight" fmla="*/ 719640 w 719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4" name=""/>
          <p:cNvSpPr/>
          <p:nvPr/>
        </p:nvSpPr>
        <p:spPr>
          <a:xfrm>
            <a:off x="148896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3c3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8" name=""/>
          <p:cNvSpPr/>
          <p:nvPr/>
        </p:nvSpPr>
        <p:spPr>
          <a:xfrm>
            <a:off x="626760" y="260280"/>
            <a:ext cx="65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Allgemeine Sprachkompetenz Englisch:</a:t>
            </a:r>
            <a:br>
              <a:rPr sz="2000"/>
            </a:b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Leistungsverteilung am Ende der Jahrgangsstufe 13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8880" y="907920"/>
          <a:ext cx="9083880" cy="564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907920"/>
                    <a:ext cx="9083880" cy="56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6483240"/>
            <a:ext cx="719280" cy="289080"/>
          </a:xfrm>
          <a:custGeom>
            <a:avLst/>
            <a:gdLst>
              <a:gd name="textAreaLeft" fmla="*/ 0 w 719280"/>
              <a:gd name="textAreaRight" fmla="*/ 719640 w 719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2" name=""/>
          <p:cNvSpPr/>
          <p:nvPr/>
        </p:nvSpPr>
        <p:spPr>
          <a:xfrm>
            <a:off x="148896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3c3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6" name=""/>
          <p:cNvSpPr/>
          <p:nvPr/>
        </p:nvSpPr>
        <p:spPr>
          <a:xfrm>
            <a:off x="551160" y="279360"/>
            <a:ext cx="704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Allgemeine Sprachkompetenz Englisch: </a:t>
            </a:r>
            <a:br>
              <a:rPr sz="2000"/>
            </a:b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Lernstände am Ende der Jahrgangsstufe 13 (Mittelwerte)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3840" y="1052640"/>
          <a:ext cx="9239040" cy="57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052640"/>
                    <a:ext cx="9239040" cy="57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6483240"/>
            <a:ext cx="719280" cy="289080"/>
          </a:xfrm>
          <a:custGeom>
            <a:avLst/>
            <a:gdLst>
              <a:gd name="textAreaLeft" fmla="*/ 0 w 719280"/>
              <a:gd name="textAreaRight" fmla="*/ 719640 w 719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1c1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1" name=""/>
          <p:cNvSpPr/>
          <p:nvPr/>
        </p:nvSpPr>
        <p:spPr>
          <a:xfrm>
            <a:off x="147492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2" name=""/>
          <p:cNvSpPr/>
          <p:nvPr/>
        </p:nvSpPr>
        <p:spPr>
          <a:xfrm>
            <a:off x="212256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4" name=""/>
          <p:cNvSpPr/>
          <p:nvPr/>
        </p:nvSpPr>
        <p:spPr>
          <a:xfrm>
            <a:off x="553680" y="279360"/>
            <a:ext cx="71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2257c"/>
                </a:solidFill>
                <a:latin typeface="Arial"/>
              </a:rPr>
              <a:t>Mathematische Grundbildung: Lernentwicklung in der </a:t>
            </a:r>
            <a:br>
              <a:rPr sz="2000"/>
            </a:br>
            <a:r>
              <a:rPr b="1" lang="de-DE" sz="2000" spc="-1" strike="noStrike">
                <a:solidFill>
                  <a:srgbClr val="02257c"/>
                </a:solidFill>
                <a:latin typeface="Arial"/>
              </a:rPr>
              <a:t>gymnasialen Oberstufe – alle AbiturientInnen Ihrer Schule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15800" y="1069920"/>
          <a:ext cx="9239400" cy="57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069920"/>
                    <a:ext cx="9239400" cy="57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8720" y="1341360"/>
            <a:ext cx="9056520" cy="482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d012b"/>
                </a:solidFill>
                <a:latin typeface="Arial"/>
              </a:rPr>
              <a:t>KESS</a:t>
            </a:r>
            <a:endParaRPr b="0" lang="en-US" sz="7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12b"/>
                </a:solidFill>
                <a:latin typeface="Arial"/>
              </a:rPr>
              <a:t>Kompetenzen und Einstellungen von Schülerinnen und Schülern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12b"/>
                </a:solidFill>
                <a:latin typeface="Arial"/>
              </a:rPr>
              <a:t>seit 2003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9240" y="1844280"/>
            <a:ext cx="8064720" cy="245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3896"/>
                </a:solidFill>
                <a:latin typeface="Arial"/>
              </a:rPr>
              <a:t>Schulleistungsstudien</a:t>
            </a:r>
            <a:endParaRPr b="0" lang="en-US" sz="5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im Überblick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Mathematik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1800" y="1535040"/>
            <a:ext cx="864072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Lesen – Klasse 4a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3160" y="1125360"/>
            <a:ext cx="474480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Lesen – Klasse 4b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21080" y="1125360"/>
            <a:ext cx="4736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60520" y="26028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sprägung schülerbezogener Merkmale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3440" y="1484280"/>
            <a:ext cx="8497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sprägung schülerbezogener Merkmale – Klasse 4a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4880" y="1244520"/>
            <a:ext cx="8569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4880" y="1196640"/>
            <a:ext cx="8531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3896"/>
                </a:solidFill>
                <a:latin typeface="Arial"/>
              </a:rPr>
              <a:t>Sozialindex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52520" y="5013360"/>
            <a:ext cx="6934320" cy="75096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txBody>
          <a:bodyPr lIns="90000" rIns="90000" tIns="154800" bIns="154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012b"/>
                </a:solidFill>
                <a:latin typeface="Arial"/>
              </a:rPr>
              <a:t>Basis: KESS 4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1200" y="1341360"/>
            <a:ext cx="9050400" cy="4635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Soziale Lage und Lesekompetenz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5080" y="419040"/>
            <a:ext cx="8610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012b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22d9a"/>
                </a:solidFill>
                <a:latin typeface="Arial"/>
              </a:rPr>
              <a:t>Erwartungswidrig gut abschneidende Schulen* nach Sozialindex</a:t>
            </a:r>
            <a:endParaRPr b="1" lang="en-US" sz="21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24" name=""/>
          <p:cNvSpPr/>
          <p:nvPr/>
        </p:nvSpPr>
        <p:spPr>
          <a:xfrm>
            <a:off x="1320840" y="6049800"/>
            <a:ext cx="80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esamtleistung aller Viertklässler der jeweiligen Schule in Lesen, Orthografie und Mathematik.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5" name=""/>
          <p:cNvSpPr/>
          <p:nvPr/>
        </p:nvSpPr>
        <p:spPr>
          <a:xfrm>
            <a:off x="403200" y="1363680"/>
            <a:ext cx="9110520" cy="4592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6" name=""/>
          <p:cNvSpPr/>
          <p:nvPr/>
        </p:nvSpPr>
        <p:spPr>
          <a:xfrm>
            <a:off x="1500120" y="2300400"/>
            <a:ext cx="7751880" cy="30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7" name=""/>
          <p:cNvSpPr/>
          <p:nvPr/>
        </p:nvSpPr>
        <p:spPr>
          <a:xfrm>
            <a:off x="1500120" y="486900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8" name=""/>
          <p:cNvSpPr/>
          <p:nvPr/>
        </p:nvSpPr>
        <p:spPr>
          <a:xfrm>
            <a:off x="1500120" y="435456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9" name=""/>
          <p:cNvSpPr/>
          <p:nvPr/>
        </p:nvSpPr>
        <p:spPr>
          <a:xfrm>
            <a:off x="1500120" y="384192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0" name=""/>
          <p:cNvSpPr/>
          <p:nvPr/>
        </p:nvSpPr>
        <p:spPr>
          <a:xfrm>
            <a:off x="1500120" y="332748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1" name=""/>
          <p:cNvSpPr/>
          <p:nvPr/>
        </p:nvSpPr>
        <p:spPr>
          <a:xfrm>
            <a:off x="1500120" y="2814480"/>
            <a:ext cx="7751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2" name=""/>
          <p:cNvSpPr/>
          <p:nvPr/>
        </p:nvSpPr>
        <p:spPr>
          <a:xfrm>
            <a:off x="1500120" y="230040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3" name=""/>
          <p:cNvSpPr/>
          <p:nvPr/>
        </p:nvSpPr>
        <p:spPr>
          <a:xfrm>
            <a:off x="1500120" y="2300400"/>
            <a:ext cx="7751880" cy="30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4" name=""/>
          <p:cNvSpPr/>
          <p:nvPr/>
        </p:nvSpPr>
        <p:spPr>
          <a:xfrm>
            <a:off x="1714680" y="4135320"/>
            <a:ext cx="285480" cy="12463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5" name=""/>
          <p:cNvSpPr/>
          <p:nvPr/>
        </p:nvSpPr>
        <p:spPr>
          <a:xfrm>
            <a:off x="3006720" y="3902040"/>
            <a:ext cx="285840" cy="14796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6" name=""/>
          <p:cNvSpPr/>
          <p:nvPr/>
        </p:nvSpPr>
        <p:spPr>
          <a:xfrm>
            <a:off x="4297320" y="3343320"/>
            <a:ext cx="287280" cy="20383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7" name=""/>
          <p:cNvSpPr/>
          <p:nvPr/>
        </p:nvSpPr>
        <p:spPr>
          <a:xfrm>
            <a:off x="5589720" y="2844720"/>
            <a:ext cx="287280" cy="25369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8" name=""/>
          <p:cNvSpPr/>
          <p:nvPr/>
        </p:nvSpPr>
        <p:spPr>
          <a:xfrm>
            <a:off x="6883560" y="2573280"/>
            <a:ext cx="284040" cy="28083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9" name=""/>
          <p:cNvSpPr/>
          <p:nvPr/>
        </p:nvSpPr>
        <p:spPr>
          <a:xfrm>
            <a:off x="8174160" y="2486160"/>
            <a:ext cx="285480" cy="28954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0" name=""/>
          <p:cNvSpPr/>
          <p:nvPr/>
        </p:nvSpPr>
        <p:spPr>
          <a:xfrm>
            <a:off x="2000160" y="4913280"/>
            <a:ext cx="289080" cy="46836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1" name=""/>
          <p:cNvSpPr/>
          <p:nvPr/>
        </p:nvSpPr>
        <p:spPr>
          <a:xfrm>
            <a:off x="2000160" y="4913280"/>
            <a:ext cx="289080" cy="468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2" name=""/>
          <p:cNvSpPr/>
          <p:nvPr/>
        </p:nvSpPr>
        <p:spPr>
          <a:xfrm>
            <a:off x="3292560" y="4527720"/>
            <a:ext cx="288720" cy="853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3" name=""/>
          <p:cNvSpPr/>
          <p:nvPr/>
        </p:nvSpPr>
        <p:spPr>
          <a:xfrm>
            <a:off x="3292560" y="4527720"/>
            <a:ext cx="288720" cy="853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4" name=""/>
          <p:cNvSpPr/>
          <p:nvPr/>
        </p:nvSpPr>
        <p:spPr>
          <a:xfrm>
            <a:off x="4584600" y="4010040"/>
            <a:ext cx="287280" cy="137160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5" name=""/>
          <p:cNvSpPr/>
          <p:nvPr/>
        </p:nvSpPr>
        <p:spPr>
          <a:xfrm>
            <a:off x="4584600" y="4010040"/>
            <a:ext cx="287280" cy="1371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6" name=""/>
          <p:cNvSpPr/>
          <p:nvPr/>
        </p:nvSpPr>
        <p:spPr>
          <a:xfrm>
            <a:off x="5877000" y="3656160"/>
            <a:ext cx="288720" cy="172548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7" name=""/>
          <p:cNvSpPr/>
          <p:nvPr/>
        </p:nvSpPr>
        <p:spPr>
          <a:xfrm>
            <a:off x="5877000" y="3656160"/>
            <a:ext cx="288720" cy="172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8" name=""/>
          <p:cNvSpPr/>
          <p:nvPr/>
        </p:nvSpPr>
        <p:spPr>
          <a:xfrm>
            <a:off x="7167600" y="3716280"/>
            <a:ext cx="288720" cy="166536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9" name=""/>
          <p:cNvSpPr/>
          <p:nvPr/>
        </p:nvSpPr>
        <p:spPr>
          <a:xfrm>
            <a:off x="7167600" y="3716280"/>
            <a:ext cx="288720" cy="1665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0" name=""/>
          <p:cNvSpPr/>
          <p:nvPr/>
        </p:nvSpPr>
        <p:spPr>
          <a:xfrm>
            <a:off x="8459640" y="2860560"/>
            <a:ext cx="289080" cy="252108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2860560"/>
            <a:ext cx="289080" cy="252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2" name=""/>
          <p:cNvSpPr/>
          <p:nvPr/>
        </p:nvSpPr>
        <p:spPr>
          <a:xfrm>
            <a:off x="2289240" y="4533840"/>
            <a:ext cx="285840" cy="84780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4297320"/>
            <a:ext cx="285840" cy="10843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4" name=""/>
          <p:cNvSpPr/>
          <p:nvPr/>
        </p:nvSpPr>
        <p:spPr>
          <a:xfrm>
            <a:off x="4871880" y="3965400"/>
            <a:ext cx="287640" cy="1416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5" name=""/>
          <p:cNvSpPr/>
          <p:nvPr/>
        </p:nvSpPr>
        <p:spPr>
          <a:xfrm>
            <a:off x="6165720" y="3570120"/>
            <a:ext cx="285840" cy="18115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6" name=""/>
          <p:cNvSpPr/>
          <p:nvPr/>
        </p:nvSpPr>
        <p:spPr>
          <a:xfrm>
            <a:off x="7456320" y="3451320"/>
            <a:ext cx="285840" cy="19303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7" name=""/>
          <p:cNvSpPr/>
          <p:nvPr/>
        </p:nvSpPr>
        <p:spPr>
          <a:xfrm>
            <a:off x="8748720" y="2962440"/>
            <a:ext cx="287280" cy="241920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8" name=""/>
          <p:cNvSpPr/>
          <p:nvPr/>
        </p:nvSpPr>
        <p:spPr>
          <a:xfrm>
            <a:off x="1500120" y="2300400"/>
            <a:ext cx="1800" cy="308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9" name=""/>
          <p:cNvSpPr/>
          <p:nvPr/>
        </p:nvSpPr>
        <p:spPr>
          <a:xfrm>
            <a:off x="1432080" y="538164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0" name=""/>
          <p:cNvSpPr/>
          <p:nvPr/>
        </p:nvSpPr>
        <p:spPr>
          <a:xfrm>
            <a:off x="1432080" y="4869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1" name=""/>
          <p:cNvSpPr/>
          <p:nvPr/>
        </p:nvSpPr>
        <p:spPr>
          <a:xfrm>
            <a:off x="1432080" y="435456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2" name=""/>
          <p:cNvSpPr/>
          <p:nvPr/>
        </p:nvSpPr>
        <p:spPr>
          <a:xfrm>
            <a:off x="1432080" y="38419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3" name=""/>
          <p:cNvSpPr/>
          <p:nvPr/>
        </p:nvSpPr>
        <p:spPr>
          <a:xfrm>
            <a:off x="1432080" y="33274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4" name=""/>
          <p:cNvSpPr/>
          <p:nvPr/>
        </p:nvSpPr>
        <p:spPr>
          <a:xfrm>
            <a:off x="1432080" y="281448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5" name=""/>
          <p:cNvSpPr/>
          <p:nvPr/>
        </p:nvSpPr>
        <p:spPr>
          <a:xfrm>
            <a:off x="1432080" y="23004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6" name=""/>
          <p:cNvSpPr/>
          <p:nvPr/>
        </p:nvSpPr>
        <p:spPr>
          <a:xfrm>
            <a:off x="1500120" y="5381640"/>
            <a:ext cx="77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50012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9072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08456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376960" y="53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667560" y="53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5960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9252000" y="53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4" name=""/>
          <p:cNvSpPr/>
          <p:nvPr/>
        </p:nvSpPr>
        <p:spPr>
          <a:xfrm>
            <a:off x="1085400" y="5264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5" name=""/>
          <p:cNvSpPr/>
          <p:nvPr/>
        </p:nvSpPr>
        <p:spPr>
          <a:xfrm>
            <a:off x="1085400" y="475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6" name=""/>
          <p:cNvSpPr/>
          <p:nvPr/>
        </p:nvSpPr>
        <p:spPr>
          <a:xfrm>
            <a:off x="1085400" y="4237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7" name=""/>
          <p:cNvSpPr/>
          <p:nvPr/>
        </p:nvSpPr>
        <p:spPr>
          <a:xfrm>
            <a:off x="967680" y="3724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8" name=""/>
          <p:cNvSpPr/>
          <p:nvPr/>
        </p:nvSpPr>
        <p:spPr>
          <a:xfrm>
            <a:off x="967680" y="3209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9" name=""/>
          <p:cNvSpPr/>
          <p:nvPr/>
        </p:nvSpPr>
        <p:spPr>
          <a:xfrm>
            <a:off x="967680" y="26971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0" name=""/>
          <p:cNvSpPr/>
          <p:nvPr/>
        </p:nvSpPr>
        <p:spPr>
          <a:xfrm>
            <a:off x="967680" y="2182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1" name=""/>
          <p:cNvSpPr/>
          <p:nvPr/>
        </p:nvSpPr>
        <p:spPr>
          <a:xfrm>
            <a:off x="2082960" y="5557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2" name=""/>
          <p:cNvSpPr/>
          <p:nvPr/>
        </p:nvSpPr>
        <p:spPr>
          <a:xfrm>
            <a:off x="3374280" y="5557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b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3" name=""/>
          <p:cNvSpPr/>
          <p:nvPr/>
        </p:nvSpPr>
        <p:spPr>
          <a:xfrm>
            <a:off x="4638600" y="5557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a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4" name=""/>
          <p:cNvSpPr/>
          <p:nvPr/>
        </p:nvSpPr>
        <p:spPr>
          <a:xfrm>
            <a:off x="5929920" y="5557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b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5" name=""/>
          <p:cNvSpPr/>
          <p:nvPr/>
        </p:nvSpPr>
        <p:spPr>
          <a:xfrm>
            <a:off x="7195680" y="5557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a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6" name=""/>
          <p:cNvSpPr/>
          <p:nvPr/>
        </p:nvSpPr>
        <p:spPr>
          <a:xfrm>
            <a:off x="8487000" y="5557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b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44640" y="3653280"/>
            <a:ext cx="123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alenpunkte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1652760"/>
            <a:ext cx="7540560" cy="52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9" name=""/>
          <p:cNvSpPr/>
          <p:nvPr/>
        </p:nvSpPr>
        <p:spPr>
          <a:xfrm>
            <a:off x="1820880" y="1859040"/>
            <a:ext cx="123840" cy="114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0" name=""/>
          <p:cNvSpPr/>
          <p:nvPr/>
        </p:nvSpPr>
        <p:spPr>
          <a:xfrm>
            <a:off x="1991160" y="1811160"/>
            <a:ext cx="110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ste Schule</a:t>
            </a:r>
            <a:endParaRPr b="0" lang="en-US" sz="15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1" name=""/>
          <p:cNvSpPr/>
          <p:nvPr/>
        </p:nvSpPr>
        <p:spPr>
          <a:xfrm>
            <a:off x="3403440" y="1859040"/>
            <a:ext cx="122400" cy="112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2" name=""/>
          <p:cNvSpPr/>
          <p:nvPr/>
        </p:nvSpPr>
        <p:spPr>
          <a:xfrm>
            <a:off x="3403440" y="1859040"/>
            <a:ext cx="125640" cy="114120"/>
          </a:xfrm>
          <a:prstGeom prst="rect">
            <a:avLst/>
          </a:prstGeom>
          <a:solidFill>
            <a:srgbClr val="fd012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3" name=""/>
          <p:cNvSpPr/>
          <p:nvPr/>
        </p:nvSpPr>
        <p:spPr>
          <a:xfrm>
            <a:off x="3573000" y="1811160"/>
            <a:ext cx="189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Arial"/>
              </a:rPr>
              <a:t>vergleichbare Schulen</a:t>
            </a:r>
            <a:endParaRPr b="0" lang="en-US" sz="15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4" name=""/>
          <p:cNvSpPr/>
          <p:nvPr/>
        </p:nvSpPr>
        <p:spPr>
          <a:xfrm>
            <a:off x="5823000" y="1859040"/>
            <a:ext cx="125280" cy="1141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5" name=""/>
          <p:cNvSpPr/>
          <p:nvPr/>
        </p:nvSpPr>
        <p:spPr>
          <a:xfrm>
            <a:off x="5992200" y="1811160"/>
            <a:ext cx="249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le Schulen der Indexgruppe</a:t>
            </a:r>
            <a:endParaRPr b="0" lang="en-US" sz="15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6" name=""/>
          <p:cNvSpPr/>
          <p:nvPr/>
        </p:nvSpPr>
        <p:spPr>
          <a:xfrm>
            <a:off x="403200" y="1363680"/>
            <a:ext cx="9110520" cy="4592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49240" y="1844280"/>
            <a:ext cx="8064720" cy="2516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3896"/>
                </a:solidFill>
                <a:latin typeface="Arial"/>
              </a:rPr>
              <a:t>Schulleistungstests</a:t>
            </a:r>
            <a:endParaRPr b="0" lang="en-US" sz="5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als Grundlage für die Unterrichtsentwicklung 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880" y="527040"/>
            <a:ext cx="8282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Lesen: Mittelwerte nach Schulen und Schulformen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00" name=""/>
          <p:cNvSpPr/>
          <p:nvPr/>
        </p:nvSpPr>
        <p:spPr>
          <a:xfrm>
            <a:off x="776160" y="1413000"/>
            <a:ext cx="8348760" cy="424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52640"/>
          <a:ext cx="934560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3456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76160" y="3008160"/>
            <a:ext cx="8353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8120" y="422280"/>
            <a:ext cx="7016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Hamburger Längsschnittstudien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4" name=""/>
          <p:cNvSpPr/>
          <p:nvPr/>
        </p:nvSpPr>
        <p:spPr>
          <a:xfrm>
            <a:off x="627120" y="1125360"/>
            <a:ext cx="90057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PL</a:t>
            </a:r>
            <a:r>
              <a:rPr b="1" lang="de-DE" sz="2400" spc="-1" strike="noStrike">
                <a:solidFill>
                  <a:srgbClr val="386c3a"/>
                </a:solidFill>
                <a:latin typeface="Arial"/>
              </a:rPr>
              <a:t>U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Stone Sans Medium/SemiBold"/>
              </a:rPr>
              <a:t>–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P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jekt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en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86c3a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reiben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ür alle“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LAU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n</a:t>
            </a: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A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sgangslagen</a:t>
            </a: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tersuchung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enstufen 5, 7, 9, 11, 13  (= LAU 5, 7, 9, 11, 13)</a:t>
            </a: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ULM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Stone Sans Medium/SemiBold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Stone Sans Medium/SemiBold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Stone Sans Medium/SemiBold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tersuchung der 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stungen, 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M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tivati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ellungen zu Beginn der beruflich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bildung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KESS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mpetenzen und 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ellungen v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ülerinnen und 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üler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enstufen 4 und 7 (= KESS 4, 7)</a:t>
            </a: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Leistungsverteilung Mathematik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05" name=""/>
          <p:cNvSpPr/>
          <p:nvPr/>
        </p:nvSpPr>
        <p:spPr>
          <a:xfrm>
            <a:off x="704880" y="1341360"/>
            <a:ext cx="8493120" cy="475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31800" y="1268280"/>
          <a:ext cx="86425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268280"/>
                    <a:ext cx="86425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24160" y="6548400"/>
            <a:ext cx="144360" cy="14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09" name=""/>
          <p:cNvSpPr/>
          <p:nvPr/>
        </p:nvSpPr>
        <p:spPr>
          <a:xfrm>
            <a:off x="1712880" y="6548400"/>
            <a:ext cx="19796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erer Leistungsbereich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0" name=""/>
          <p:cNvSpPr/>
          <p:nvPr/>
        </p:nvSpPr>
        <p:spPr>
          <a:xfrm>
            <a:off x="3944880" y="6548400"/>
            <a:ext cx="144360" cy="144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1" name=""/>
          <p:cNvSpPr/>
          <p:nvPr/>
        </p:nvSpPr>
        <p:spPr>
          <a:xfrm>
            <a:off x="4268880" y="6548400"/>
            <a:ext cx="19796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tlerer Leistungsbereich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2" name=""/>
          <p:cNvSpPr/>
          <p:nvPr/>
        </p:nvSpPr>
        <p:spPr>
          <a:xfrm>
            <a:off x="6537240" y="6548400"/>
            <a:ext cx="14472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3" name=""/>
          <p:cNvSpPr/>
          <p:nvPr/>
        </p:nvSpPr>
        <p:spPr>
          <a:xfrm>
            <a:off x="6824520" y="6548400"/>
            <a:ext cx="19796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rer Leistungsbereich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52600" y="461880"/>
            <a:ext cx="82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Klasse 5a</a:t>
            </a:r>
            <a:endParaRPr b="0" lang="en-US" sz="28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63800" y="1130400"/>
          <a:ext cx="508644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3800" y="1130400"/>
                    <a:ext cx="508644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60520" y="461880"/>
            <a:ext cx="72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Klasse 5b</a:t>
            </a:r>
            <a:endParaRPr b="0" lang="en-US" sz="28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870280" y="1130400"/>
          <a:ext cx="4863960" cy="561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1130400"/>
                    <a:ext cx="486396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2d9a"/>
                </a:solidFill>
                <a:latin typeface="Arial"/>
              </a:rPr>
              <a:t>Schulleistungsstudien im Überblick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6" name=""/>
          <p:cNvSpPr/>
          <p:nvPr/>
        </p:nvSpPr>
        <p:spPr>
          <a:xfrm>
            <a:off x="187200" y="36360"/>
            <a:ext cx="11448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41280" y="1303200"/>
          <a:ext cx="9364680" cy="49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1303200"/>
                    <a:ext cx="936468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8720" y="1341360"/>
            <a:ext cx="9056520" cy="428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60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7200" spc="-1" strike="noStrike">
                <a:solidFill>
                  <a:srgbClr val="396b4d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Projekt „Lesen und Schreiben für alle“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1993 – 2000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0160" y="744480"/>
            <a:ext cx="719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9240" y="1557360"/>
            <a:ext cx="8064720" cy="44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d3896"/>
                </a:solidFill>
                <a:latin typeface="Arial"/>
              </a:rPr>
              <a:t>Ziele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Verbesserung schriftsprachlicher Leistungen aller Kinder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Verhinderung langanhaltenden Lernversagens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praktische Anwendung und Verbreitung neuer wissenschaftlicher Erkenntnisse und fach-didaktischer Modelle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Überprüfung der Wirksamkeit von Fördermaß-nahmen durch erfahrungsoffene Evaluation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49240" y="1645920"/>
            <a:ext cx="8064720" cy="33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22d9a"/>
                </a:solidFill>
                <a:latin typeface="Arial"/>
              </a:rPr>
              <a:t>Voruntersuchung:</a:t>
            </a:r>
            <a:r>
              <a:rPr b="1" i="1" lang="de-DE" sz="2800" spc="-1" strike="noStrike">
                <a:solidFill>
                  <a:srgbClr val="396b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repräsentative Erhebung der schriftsprachlichen Leistungen am Ende der Grundschule (Stichprobe: 4020 Schülerinnen und Schüler aus 190 vierten Klassen)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Lehrerfragebogen zur Unterrichts- und Förder-praxis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60160" y="744480"/>
            <a:ext cx="719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3400" y="74448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49240" y="1557000"/>
            <a:ext cx="8064720" cy="42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22d9a"/>
                </a:solidFill>
                <a:latin typeface="Arial"/>
              </a:rPr>
              <a:t>Maßnahmen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Qualifizierung von „Schriftsprachberaterinnen" in Jahresseminaren (insgesamt: 385 Grund- schullehrkräfte und 120 Lehrkräfte Jahrgangs-stufen 5 und 6)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Betreuung von regional organisierten „Praxis-begleitgruppen"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Herausgabe von Handreichungen für die praktische Förderarbeit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400" y="74448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682640"/>
            <a:ext cx="8064720" cy="33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2d9a"/>
                </a:solidFill>
                <a:latin typeface="Arial"/>
              </a:rPr>
              <a:t>Konsequenzen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veränderter Mitteleinsatz („Sozialindex")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neue Förderschwerpunkte: Frühförderung/Prävention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verstärkter Einsatz diagnostischer Verfahren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Kooperation mit lerntherapeutischen Praxen</a:t>
            </a:r>
            <a:r>
              <a:rPr b="1" lang="en-US" sz="2400" spc="-1" strike="noStrike">
                <a:solidFill>
                  <a:srgbClr val="396b4d"/>
                </a:solidFill>
                <a:latin typeface="StoneSans_Med_Semi"/>
              </a:rPr>
              <a:t>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0:24:35Z</dcterms:created>
  <dc:creator>Anna Rieger</dc:creator>
  <dc:description/>
  <dc:language>en-US</dc:language>
  <cp:lastModifiedBy>Ulrich Vieluf</cp:lastModifiedBy>
  <dcterms:modified xsi:type="dcterms:W3CDTF">2006-06-22T10:37:06Z</dcterms:modified>
  <cp:revision>76</cp:revision>
  <dc:subject/>
  <dc:title>Folie 1</dc:title>
</cp:coreProperties>
</file>