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D51-C6DC-4287-87BD-424CE4C6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033-2EB0-4503-AB85-25C65764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404-F0C8-4758-895C-3EA499F6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E20-0E2D-47AA-8452-096A09D5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6B5-BFA5-4EDB-A5C2-2228E646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783-4E6D-4541-A2B4-A5D2DF87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F59-BB75-4D26-A0F8-B0DAF3ED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F38-B77F-46F1-8973-6D5FBEFE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5E8-BDB8-4504-939C-937C102F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6AC-4EE9-41CD-8A0F-C87536E0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32B-4633-4048-9FB0-2CFDF9C3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239-BFD0-455F-9687-F8A5A580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F96D-75F2-41C1-9E4C-EF89FEA21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2120" y="5165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47680" y="5070600"/>
            <a:ext cx="4083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Prof. Dr. Olaf Kö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Institut zur Qualitäts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im Bild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iqboffice@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www.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62728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00"/>
                </a:solidFill>
                <a:latin typeface="Verdana"/>
              </a:rPr>
              <a:t>Stand der Planungen im IQB nach den Plöner Beschlü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22320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Derzeitiger Arbeitsstand am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Sekundarstuf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786040"/>
          <a:ext cx="8351640" cy="3754440"/>
        </p:xfrm>
        <a:graphic>
          <a:graphicData uri="http://schemas.openxmlformats.org/drawingml/2006/table">
            <a:tbl>
              <a:tblPr/>
              <a:tblGrid>
                <a:gridCol w="2879640"/>
                <a:gridCol w="1944720"/>
                <a:gridCol w="1728720"/>
                <a:gridCol w="17985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F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-ent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Pilot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Mathe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1. Fremdspr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-ent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Pilot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aturwissenschaf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-ent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Pilotieru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5258520" y="21798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2435"/>
                </a:solidFill>
                <a:latin typeface="Verdana"/>
              </a:rPr>
              <a:t>Ja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Derzeitiger Arbeitsstand am IQ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Technologiebasiertes Te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800" y="344016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s. Ausführungen Mech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95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Herausforderungen bei der Pil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tierung großer Itemme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Komplexe Multi-Matrix-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205000"/>
            <a:ext cx="871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Ausgangspunkt: Große Aufgabenmengen, die simultan pilotiert und gemeinsam skaliert werden müss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Herausforderung: Entwicklung eines Testdesigns, das die Schüler nicht überlastet, hinreichend hohe Schülerzahlen (zwischen 400 und 700) pro Aufgabe erlaubt und gleichzeitig eine Verlinkung zwischen den Aufgaben sich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Lösung: Komplexe Ankeritem-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395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Beispiel: Standardpilotierung 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Grundschulbereich: ca. 1.8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Deutsch- und Mathematiki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989000"/>
            <a:ext cx="87138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Stichprobe von rund 400 Schu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Jeweils eine dritte und eine vierte K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Gesamtstichprobe: ca. 18.000 K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Aufteilung der Schulen 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10000"/>
              </a:lnSpc>
              <a:spcBef>
                <a:spcPts val="675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Ein Drittel nur Mathemat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10000"/>
              </a:lnSpc>
              <a:spcBef>
                <a:spcPts val="675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Ein Drittel nur Deu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10000"/>
              </a:lnSpc>
              <a:spcBef>
                <a:spcPts val="675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Ein Drittel Mathematik und Deu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Testung in vier (bzw. zwei) aufeinander folgenden 20-Minuten-Testheftteilen á 2 10-Minuten-Blö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Verlinkung von dritter und vierter Jahrgangsst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Testdesign in Mathemat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Herausforderun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2193840"/>
            <a:ext cx="82803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von dritter und vierter Klassenst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von Deutsch und Mathema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der fünf inhaltlichen Kompetenzbereiche I-1 bis I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der Aufgaben innerhalb eines Kompetenzbereic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mit VERA- und IGLU- Auf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Rotation der Aufgaben innerhalb der Testhefte (Kontrolle von Positionseffek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Rotation verschiedener Testhefte innerhalb einer Klass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Testdesign in Mathemat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in Klasse 3 (18 Testversione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26920" y="1557360"/>
          <a:ext cx="7345440" cy="5187960"/>
        </p:xfrm>
        <a:graphic>
          <a:graphicData uri="http://schemas.openxmlformats.org/drawingml/2006/table">
            <a:tbl>
              <a:tblPr/>
              <a:tblGrid>
                <a:gridCol w="847800"/>
                <a:gridCol w="811440"/>
                <a:gridCol w="812520"/>
                <a:gridCol w="812880"/>
                <a:gridCol w="812880"/>
                <a:gridCol w="809640"/>
                <a:gridCol w="812880"/>
                <a:gridCol w="812520"/>
                <a:gridCol w="81288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2259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260280"/>
            <a:ext cx="82803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Probleme der engen Anbin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der Qualitätssicherung an inte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nationale Stud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773360"/>
            <a:ext cx="856944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15000"/>
              </a:lnSpc>
              <a:spcBef>
                <a:spcPts val="374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Design der Studien wird sehr stark durch internationale Vorgaben bestim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Instrumente sind nicht explizit auf Ziele des deutschen Systems abgestim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Bereiche decken sich nicht mit den Bildungs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5000"/>
              </a:lnSpc>
              <a:spcBef>
                <a:spcPts val="374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Zyklus nach internationalen Vor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Berichterstattung an internationale Vorgaben geb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Sehr später Bericht des nationalen Vergleic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In PISA zu kurze Intervalle zwischen den Erheb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26352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keine Zeit auf die Befunde angemessen (mit Reformen) reagieren zu kö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26352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Wissenschaftler haben wenig Zeit, Optimierungen auf der Basis der Befunde umzuset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26352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Effekte von Reformen bleiben unsicht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-2259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5382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Bildungsstandards in einer KMK-Gesamtstrategie der Qualitätssich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060640"/>
            <a:ext cx="856944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Beteiligung an internationalen Studien (internationales Benchmark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PISA in der Sekundarstuf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PIRLS und TIMSS in der Grundsch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Nationaler Vergleich (Ländervergleich) auf der Basis der länderübergreifenden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Dabei internationale Verankerung soweit wie mög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Rhythmisierung kompatibel zu den internationalen Stud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Flächendeckende Vergleichsarbeiten zum Zwecke der intermediären Feststellung von Leistungsständen; Anbindung an die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4046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Rhythmisierung des internation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und nationalen Vergleichs in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Grundsch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989000"/>
            <a:ext cx="835344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Problem: Fünf-Jahres-Zyklus von PIRLS, Vier-Jahres-Zyklus von TIM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Entscheidung: Generelle Anbindung des nationalen Vergleichs an den PIRLS-Zyk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Ländervergleich am Ende der 3. Jahrgangsstu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Folg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15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utomatische Verlinkung zwischen nationalen und internationalen Lese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15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Verlinkung der nationalen Mathematikitems über eine kleine Zusatzerhebung in TIM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15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Gemeinsamer Bericht des internationalen Vergleichs (PIRLS) mit dem Ländervergleich (Deutsch und Mathemati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4046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Rhythmisierung des internation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und nationalen Vergleichs in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Sekundarstuf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982880"/>
            <a:ext cx="88930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Problem: zu kurzer Drei-Jahres-Zyklus von P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Entscheid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Sechs-Jahres-Zyklus beim Ländervergleich auf der Basis der Bildungs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Ländervergleiche am Ende der 8. Jahrgangsstufe (Hauptschulabschluss) und der 9. Jahrgangsstufe (Mittlerer Schulabschlu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ufteilung in zwei Fächer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1080" indent="-18756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50021"/>
                </a:solidFill>
                <a:latin typeface="Verdana"/>
              </a:rPr>
              <a:t>Deutsch, Englisch, Französ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1080" indent="-18756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50021"/>
                </a:solidFill>
                <a:latin typeface="Verdana"/>
              </a:rPr>
              <a:t>Mathematik, Physik, Chemie, Bi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nbindung jeder Fächergruppe alle sechs Jahre an P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Folg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utomatische Verlinkung zwischen nationalen und internationalen Lese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utomatische Verlinkung zwischen nationalen und internationalen Mathematik- und Naturwissenschafts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716360" y="3816360"/>
            <a:ext cx="3600720" cy="30416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3527280"/>
            <a:ext cx="3600360" cy="3357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46120" y="1990800"/>
          <a:ext cx="8567640" cy="4956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6120" y="1990800"/>
                    <a:ext cx="856764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24000" y="187200"/>
            <a:ext cx="7127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Erhebungen und Berichterstattungen von 2006 bis 201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Verdana"/>
              </a:rPr>
              <a:t>Fünfjahresrhythmus in der Grundschule, Sechsjahresrhythmus in der Sekundarstufe I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Zukünftige Berichterstattung des Länderverglei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2205000"/>
            <a:ext cx="87138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Schlanker und Adressatengerech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Anlehnung an Formate, wie sie beispielsweise in NAEP verwendet werden (Hochglanzbroschü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Kernth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Länderunterschi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soziale und ethnische Disparitäten, Geschlechtsdifferenz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Differenzen zwischen Bildungsgängen, die denselben Bildungsabschluss vergeb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1052640"/>
            <a:ext cx="16444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5382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Konsequenzen für das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205000"/>
            <a:ext cx="871380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Zügige Bereitstellung von nationalen Skalen zu den Bildungsstanda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Fortentwicklung der Itemp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Übernahme des Ländervergleichs ab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Enge Abstimmung mit den Qualitätsagenturen der Länder und Herstellung von Synergien bei den flächendeckenden Vergleichsarb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Gemeinsame Pilotierung und Normierung der Aufgaben aus dem IQB und den Län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Derzeitiger Arbeitsstand am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Grundsch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8280" y="4062240"/>
            <a:ext cx="8748720" cy="576360"/>
          </a:xfrm>
          <a:prstGeom prst="rightArrow">
            <a:avLst>
              <a:gd name="adj1" fmla="val 50000"/>
              <a:gd name="adj2" fmla="val 379482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280" y="5254560"/>
            <a:ext cx="21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Juli 2005 b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Januar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Entwicklung von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900 Deutsch- 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900 Mathemati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7320" y="355932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08160" y="2000160"/>
            <a:ext cx="170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pril bis Ju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Pilotierung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gaben i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Rahmen v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PIRLS/IG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55800" y="5240160"/>
            <a:ext cx="212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Frühjahr 200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Normierung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Aufgaben; Bereit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stellung nationa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Ska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3480" y="355932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61320" y="2406600"/>
            <a:ext cx="187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Frühjahr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Ländervergle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 der Basis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451008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5200" y="451008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1:27:48Z</dcterms:created>
  <dc:creator>theband</dc:creator>
  <dc:description/>
  <dc:language>en-US</dc:language>
  <cp:lastModifiedBy>IQB</cp:lastModifiedBy>
  <dcterms:modified xsi:type="dcterms:W3CDTF">2006-06-22T16:55:37Z</dcterms:modified>
  <cp:revision>97</cp:revision>
  <dc:subject/>
  <dc:title>PowerPoint-Präsentation</dc:title>
</cp:coreProperties>
</file>