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BAC5-E526-45C2-A370-0B779C0D91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D33C-B8E4-4C04-893D-C840F04063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FC69-D2C4-4B7A-B0CF-4982B20F05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A32-9C60-4F00-AE2D-2CBC7FB1C9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EA43-C9A7-4931-BEB6-2CFCBEB4FE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1B1-8780-416E-A9DD-8367C9D40D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34E0-E9E1-4A6E-B1E0-5EB72105ACC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ADB2-2FC2-4056-A9CF-33DD69C4D9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1843-E721-4563-A0D6-A1EA84DC56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F004-45F7-4DE4-8561-F765FB2D92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7DE-8EAC-49F1-99E9-B49D3A84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DEC-A5AC-4127-8BF8-39C2E045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7E0-47E1-451E-A45A-A01FBD51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B50-48E6-4D52-9653-D82CA1D9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7AE-A4C9-4F56-9A08-7924D0B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DB1-958E-40DC-A4E7-252EA1AB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85B-C6F7-4493-863E-ACF63D93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FC0-F87B-4584-9685-718D50F6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62C-DB34-4AEC-983D-9C6023D4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3A5-4959-4379-A4AF-4542C252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E75-535F-4DCB-98D1-1BA19B40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C6A-7122-409A-9248-958952CF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fs.nrw.de/index.html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09EF-5BF6-45A5-A517-9942C4ED83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13387" t="11017" r="17657" b="84855"/>
          <a:stretch/>
        </p:blipFill>
        <p:spPr>
          <a:xfrm>
            <a:off x="396720" y="6259680"/>
            <a:ext cx="3167280" cy="446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Lf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6203880"/>
            <a:ext cx="2457360" cy="6098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203640" y="62229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8108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rnstandserhebungen in Nordrhein-Westf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rgebnisrückmeldung auf Individualeben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i den Lernstandserhebungen 9 im Schuljahr 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472428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ter Dobbels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. Rainer P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0705" t="22641" r="5537" b="19688"/>
          <a:stretch/>
        </p:blipFill>
        <p:spPr>
          <a:xfrm>
            <a:off x="0" y="1228680"/>
            <a:ext cx="9144000" cy="4721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260280"/>
            <a:ext cx="8425080" cy="530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 Der Test enthäl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erschiedlich schwere Aufgab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ie in den 6 getesteten Bereichen der Fächer Mathematik, Deutsch und Englis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unterschiedliche Niveaus eingetei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Tabellen zeigen Ihnen durch eine Markierung in der Zeile ,,Ergebnis Ihrer Tochter / Ihres Sohnes”, ob sie bzw. er bei den Lernstandserhebungen bere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gab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r anspruchsvollen Niveaus (z.B. 4 oder 5 in Deutsch-Leseverstehen), der erweiterten Niveaus oder des grundlegenden Niveau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löst 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aus lässt sich allerdings nicht eindeutig das Kompetenzniveau eines einzelnen Schülers bzw. einer einzelnen Schülerin abl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elle Stärken und Schwächen können mit solchen Testverfahren nicht umfassend und hinreichend präzise erfasst werden.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920" y="3284640"/>
            <a:ext cx="8893080" cy="129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0705" t="22641" r="5537" b="19688"/>
          <a:stretch/>
        </p:blipFill>
        <p:spPr>
          <a:xfrm>
            <a:off x="0" y="10843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260280"/>
            <a:ext cx="8425080" cy="57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 der Betrachtung der Ergebnisse Ihres Kindes sollten Sie …  beachten, dass die Lernstandserhebungen das Können von einzelnen Schülerinnen und Schülern nicht mit absoluter Sicherheit messen. So kann Ihre Tochter bzw. Ihr Sohn beispielsweise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tag einzelne Aufgaben missverstanden haben oder sie bzw. er war schlechter konzentriert als son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wohl bieten die Ergebnisse der Lernstandserhebungen eine wichtige Orientierung über den erreichten Lernstand, die Ausgangspunkt für weitere Klärungen zum Lern- und Förderbedarf sein kan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empfehlen Ihnen deshalb, über die Ergebnisse Ih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es mit den Lehrkräften der Schule zu spre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1075" t="21657" r="12182" b="13289"/>
          <a:stretch/>
        </p:blipFill>
        <p:spPr>
          <a:xfrm>
            <a:off x="250920" y="293760"/>
            <a:ext cx="878508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836640"/>
            <a:ext cx="813744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e Regelung zur Berücksichtigung von Lernstandserhebungen bei der Leistungsbewertu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 LSE 2006/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§ 48 des neuen Schulgesetzes wird gerege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entrale Lernstandserhebungen überprüfen, inwieweit in Kernlehrplänen enthaltene Kompetenzerwartungen von den Schülerinnen und Schülern erreicht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 sich die Anforderungen der Lernstandserhebungen nicht nur auf den vorhergehenden Unterricht beziehen, werden si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rgänzend bei der Leistungsbewertung herangez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480" y="9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80" y="987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25520"/>
            <a:ext cx="80773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entrale Zielsetzung der Lernstandserhebungen: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18184a"/>
              </a:buClr>
              <a:buFont typeface="Times New Roman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8184a"/>
                </a:solidFill>
                <a:latin typeface="Times New Roman"/>
              </a:rPr>
              <a:t>Professionalisierung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 des fachlichen Diskurses vor dem 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Hintergrund erreichter und erreichbarer Standards in der 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eigenen 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primäre Adressaten: 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Fachlehrkräfte</a:t>
            </a:r>
            <a:br>
              <a:rPr sz="2400"/>
            </a:b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Fachkonferenzen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0880" y="3860640"/>
            <a:ext cx="914400" cy="2082600"/>
            <a:chOff x="380880" y="3860640"/>
            <a:chExt cx="914400" cy="2082600"/>
          </a:xfrm>
        </p:grpSpPr>
        <p:sp>
          <p:nvSpPr>
            <p:cNvPr id="58" name=""/>
            <p:cNvSpPr/>
            <p:nvPr/>
          </p:nvSpPr>
          <p:spPr>
            <a:xfrm>
              <a:off x="380880" y="3860640"/>
              <a:ext cx="457200" cy="800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40040 h 800640"/>
                <a:gd name="textAreaBottom" fmla="*/ 580680 h 80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4100760"/>
              <a:ext cx="0" cy="1842480"/>
            </a:xfrm>
            <a:prstGeom prst="line">
              <a:avLst/>
            </a:prstGeom>
            <a:ln w="66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297080" y="40384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weise auf Stärken und Schwächen der eigenen Schule im fachlichen Ler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95288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ziertere Wahrnehmung von Schülerleistung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vergleichender Perspek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zogen auf Bezugsgruppen und Kriterien)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480" y="9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" y="987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04812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60280"/>
            <a:ext cx="856908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361800"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buClr>
                <a:srgbClr val="3333cc"/>
              </a:buClr>
              <a:buFont typeface="Wingdings" charset="2"/>
              <a:buChar char="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buClr>
                <a:srgbClr val="3333cc"/>
              </a:buClr>
              <a:buFont typeface="Wingdings" charset="2"/>
              <a:buChar char="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mittelbar nach dem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üler- und Klassenfeed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ür den Durchgang dur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 Aufgabenhefte in der Klasse / im K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saten: die Klassen/Kurse bzw. Schülerinnen und Schüler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ch der Datenauswertung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ca. 4 Monate nach dem Testter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mpetenzniveaubezogene Rückmeldung der Jahrgangsstufenergebni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 Vergleich zu Referenzgrupp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Klassen/Kurse, Schulform, Standorttyp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usätz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hliche Differenzierunge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orm ausgewählter Lösungsquoten und fachlicher Kommentierungen von Aufgab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üler- und Elterninformation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u individuellen Ergebnissen, Klassenergebnissen und Ergebnissen der Jahrgangsst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560000">
            <a:off x="6011280" y="811080"/>
            <a:ext cx="29527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1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05740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62064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entrale Lernstandserhebungen (Vergleichsarb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dErl. des Ministeriums für Schule und Weiterbildung in der bereinigten Fassung vom 17.9.2005 - 521-6.01.04-3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mgang mit den Ergeb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Fachlehrkräfte geben den einzelnen Schülerinnen u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ülern ihre Ergebnisse bekannt. Die Erziehungsberech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igten werden durch die Fachlehrkräfte mit einem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des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heitlich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mblatt über die Ergebnisse ihres Kindes, da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 der Klasse, die ihr Kind besucht, sowie das Ergebni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Schule informi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480" y="9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480" y="987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04812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60280"/>
            <a:ext cx="835164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208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  <a:tab algn="l" pos="486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hüler- / Klassenfeed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26208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  <a:tab algn="l" pos="486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rchgang durch die Aufgabenhefte in der Klasse unmittelbar nach 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Dateneingabe für eine Klasse / einen Kur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 Schüler/innen soll das Konzept des Tests transparent gemacht werden und si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len zeitnah eine erste Rückmeldung zum Test und zu ihren Ergebnissen erhalten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sgangspunkt dafür sind eigene Ergebnisse und fachliche Erläuterungen z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fgaben ausgewählter Testtei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3213000"/>
            <a:ext cx="75614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 Material für die Feedbackstunde umfas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- und das Aufgabenh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ür jede Schülerin und jeden Schü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ür jede Schülerin / jeden Schüler e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enblatt zu Ergebniss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ü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larische Aufga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lienvorlage für die Lehrkra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t einer Ergebnisübersicht für die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larischen Aufga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nweise für die Lehrkra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 (Vorschlag zur Gestaltung d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dbackstunde; fachliche Erläuterungen zu den ausgewählten Aufg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78508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tern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7080" y="114480"/>
            <a:ext cx="8837640" cy="66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0705" t="22641" r="5537" b="19688"/>
          <a:stretch/>
        </p:blipFill>
        <p:spPr>
          <a:xfrm>
            <a:off x="0" y="10843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60280"/>
            <a:ext cx="8425080" cy="530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 Der Test enthält unterschiedlich schwere Aufgaben, die in den 6 getesteten Bereichen der Fächer Mathematik, Deutsch und Englisch in unterschiedliche Niveaus eingeteilt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Tabellen zeigen Ihnen durch eine Markierung in der Zeile ,,Ergebnis Ihrer Tochter / Ihres Sohnes”, ob sie bzw. er bei den Lernstandserhebungen bereits Aufgaben der anspruchsvollen Niveaus (z.B. 4 oder 5 in Deutsch-Leseverstehen), der erweiterten Niveaus oder des grundlegenden Niveaus gelöst 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aus lässt sich allerdings nicht eindeutig das Kompetenzniveau eines einzelnen Schülers bzw. einer einzelnen Schülerin abl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elle Stärken und Schwächen können mit solchen Testverfahren nicht umfassend und hinreichend präzise erfasst werden.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4T21:26:11Z</dcterms:created>
  <dc:creator/>
  <dc:description/>
  <dc:language>en-US</dc:language>
  <cp:lastModifiedBy>Dobbelstein Peter</cp:lastModifiedBy>
  <dcterms:modified xsi:type="dcterms:W3CDTF">2006-06-21T15:04:33Z</dcterms:modified>
  <cp:revision>1302</cp:revision>
  <dc:subject/>
  <dc:title>Kein Folientitel</dc:title>
</cp:coreProperties>
</file>