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9A34-0F6A-4507-86E2-A232953C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CB41-6D8F-450D-B15B-5043DC20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36CD-9252-49FC-8D7B-C3E5A481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A51D-3DFE-4FA4-9164-F865F4EA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D514-C7E5-42DE-B1FF-B00980A8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CB64-2F01-4E0A-8196-A61DF7DC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59B1-A452-4B14-B166-F8A36A0A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601C-9517-45E0-8FAD-EF774927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D40E-1784-4F45-962B-AFD7C18B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220C-A87A-478E-B5E3-3CEED80B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7D7F-9C97-4891-B445-44B7C3A6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FABC-A149-4D61-BF34-54C66FA8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2a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42a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42a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42a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8141-B4CD-4DAB-871C-0DA6A75A7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934320" y="5877000"/>
            <a:ext cx="2212920" cy="71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66560" y="6453360"/>
            <a:ext cx="6553440" cy="0"/>
          </a:xfrm>
          <a:prstGeom prst="line">
            <a:avLst/>
          </a:prstGeom>
          <a:ln w="9360">
            <a:solidFill>
              <a:srgbClr val="f2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96720" y="6381720"/>
            <a:ext cx="71640" cy="71640"/>
          </a:xfrm>
          <a:prstGeom prst="flowChartMagneticTape">
            <a:avLst/>
          </a:prstGeom>
          <a:solidFill>
            <a:srgbClr val="f20062"/>
          </a:solidFill>
          <a:ln w="9360">
            <a:solidFill>
              <a:srgbClr val="f2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Lernstand 6 (VERA 6)</a:t>
            </a:r>
            <a:endParaRPr b="0" lang="en-US" sz="4800" spc="-1" strike="noStrike">
              <a:solidFill>
                <a:srgbClr val="0042a4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42a4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2a4"/>
                </a:solidFill>
                <a:latin typeface="Arial"/>
              </a:rPr>
              <a:t>Dr. Gesa Ramm</a:t>
            </a: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Institut für Qualitätsentwicklung an Schulen</a:t>
            </a:r>
            <a:endParaRPr b="0" lang="en-US" sz="1800" spc="-1" strike="noStrike">
              <a:solidFill>
                <a:srgbClr val="0042a4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Schleswig-Holstein</a:t>
            </a:r>
            <a:endParaRPr b="0" lang="en-US" sz="1800" spc="-1" strike="noStrike">
              <a:solidFill>
                <a:srgbClr val="0042a4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8FAE-D62D-47B1-B580-6BB2B73F13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Lernstand 6 (VERA 6)</a:t>
            </a:r>
            <a:endParaRPr b="0" lang="en-US" sz="36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63280" y="1998720"/>
            <a:ext cx="61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a4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Gliederung</a:t>
            </a: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42a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a4"/>
                </a:solidFill>
                <a:latin typeface="Arial"/>
              </a:rPr>
              <a:t>Beteiligte Länder</a:t>
            </a:r>
            <a:endParaRPr b="0" lang="en-US" sz="2400" spc="-1" strike="noStrike">
              <a:solidFill>
                <a:srgbClr val="0042a4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42a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a4"/>
                </a:solidFill>
                <a:latin typeface="Arial"/>
              </a:rPr>
              <a:t>Organigramm</a:t>
            </a:r>
            <a:endParaRPr b="0" lang="en-US" sz="2400" spc="-1" strike="noStrike">
              <a:solidFill>
                <a:srgbClr val="0042a4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42a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a4"/>
                </a:solidFill>
                <a:latin typeface="Arial"/>
              </a:rPr>
              <a:t>Inhaltsbereiche </a:t>
            </a:r>
            <a:endParaRPr b="0" lang="en-US" sz="2400" spc="-1" strike="noStrike">
              <a:solidFill>
                <a:srgbClr val="0042a4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42a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a4"/>
                </a:solidFill>
                <a:latin typeface="Arial"/>
              </a:rPr>
              <a:t>Zeitplan/ Stand der Arbeit</a:t>
            </a:r>
            <a:endParaRPr b="0" lang="en-US" sz="2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216000" y="6473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286E-E92C-4381-B707-393E35679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04B6-B217-4404-8646-73B22D7348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Beteiligte Länder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8748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Schleswig-Holstein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Hamburg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Mecklenburg-Vorpommern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Thüringen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Sachsen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0880" y="2324160"/>
            <a:ext cx="374760" cy="419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35280" y="4653000"/>
            <a:ext cx="382320" cy="431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835280" y="3502080"/>
            <a:ext cx="401400" cy="43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1844640" y="2905200"/>
            <a:ext cx="351000" cy="452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841400" y="4035600"/>
            <a:ext cx="426960" cy="473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1825560" y="4052880"/>
            <a:ext cx="426960" cy="47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1354-9207-4005-A89A-DA15870529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Organigramm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95280" y="1341000"/>
            <a:ext cx="4321080" cy="676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2a4"/>
                </a:solidFill>
                <a:latin typeface="Arial"/>
              </a:rPr>
              <a:t>Koordinierungsgruppe</a:t>
            </a:r>
            <a:endParaRPr b="0" lang="en-US" sz="2000" spc="-1" strike="noStrike">
              <a:solidFill>
                <a:srgbClr val="0042a4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4"/>
                </a:solidFill>
                <a:latin typeface="Arial"/>
              </a:rPr>
              <a:t>(Vertreter aus den Ländern)</a:t>
            </a:r>
            <a:endParaRPr b="0" lang="en-US" sz="2000" spc="-1" strike="noStrike">
              <a:solidFill>
                <a:srgbClr val="0042a4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3640" y="2205000"/>
            <a:ext cx="2449440" cy="1334160"/>
          </a:xfrm>
          <a:prstGeom prst="rect">
            <a:avLst/>
          </a:prstGeom>
          <a:blipFill rotWithShape="0">
            <a:blip r:embed="rId1">
              <a:alphaModFix amt="2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ordination der Aufgabenentwicklung 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uts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  (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133720"/>
            <a:ext cx="2449440" cy="1334160"/>
          </a:xfrm>
          <a:prstGeom prst="rect">
            <a:avLst/>
          </a:prstGeom>
          <a:blipFill rotWithShape="0">
            <a:blip r:embed="rId2">
              <a:alphaModFix amt="4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ordination der Aufgabenentwicklung 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hemat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 (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erw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3933720"/>
            <a:ext cx="734364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fgabenentwickler/i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zwei Lehrkräfte pro Fach aus den Ländern (TH, SH, MV, HH, S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4720" y="4869000"/>
            <a:ext cx="6048360" cy="1465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chexperten/i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utsc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Dr. Blatt, Prof. Kö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thematik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Prof. Reiss, Frau Dr. Neubrand, Herr Lei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glisc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Dr. Siebold, Claudia Har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mpiri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Dr. Nachtig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156360" y="35733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427640" y="4581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012000" y="2205000"/>
            <a:ext cx="2809800" cy="1334160"/>
            <a:chOff x="6012000" y="2205000"/>
            <a:chExt cx="2809800" cy="1334160"/>
          </a:xfrm>
        </p:grpSpPr>
        <p:sp>
          <p:nvSpPr>
            <p:cNvPr id="66" name=""/>
            <p:cNvSpPr/>
            <p:nvPr/>
          </p:nvSpPr>
          <p:spPr>
            <a:xfrm>
              <a:off x="6012000" y="2205000"/>
              <a:ext cx="1225800" cy="1334160"/>
            </a:xfrm>
            <a:prstGeom prst="rect">
              <a:avLst/>
            </a:prstGeom>
            <a:blipFill rotWithShape="0">
              <a:blip r:embed="rId3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Koordina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ufgabene „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Englisch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err Hyatt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237800" y="2205000"/>
              <a:ext cx="1584000" cy="1334160"/>
            </a:xfrm>
            <a:prstGeom prst="rect">
              <a:avLst/>
            </a:prstGeom>
            <a:blipFill rotWithShape="0">
              <a:blip r:embed="rId4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ion der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ntwicklung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MV, H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rau Fraedri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-216000" y="6473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056E-1396-43D5-B8AB-5A44A93FF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3573360"/>
            <a:ext cx="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2875-F61C-483F-B5A1-41B49F7E31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Inhalte</a:t>
            </a:r>
            <a:endParaRPr b="0" lang="en-US" sz="3600" spc="-1" strike="noStrike">
              <a:solidFill>
                <a:srgbClr val="0042a4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68360" y="1700280"/>
          <a:ext cx="8229600" cy="4532400"/>
        </p:xfrm>
        <a:graphic>
          <a:graphicData uri="http://schemas.openxmlformats.org/drawingml/2006/table">
            <a:tbl>
              <a:tblPr/>
              <a:tblGrid>
                <a:gridCol w="2087640"/>
                <a:gridCol w="6141960"/>
              </a:tblGrid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42a4"/>
                          </a:solidFill>
                          <a:latin typeface="Arial"/>
                        </a:rPr>
                        <a:t>F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42a4"/>
                          </a:solidFill>
                          <a:latin typeface="Arial"/>
                        </a:rPr>
                        <a:t>Inhaltsbereiche für 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Mathemati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. Zah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2. Messen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3. Raum und For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4. In geringerem Umfang: Funktiona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Zusammenhang, Daten und Zuf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Deuts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. Leseverständn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. Sprache und Sprachgebrauc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. Zur Erprobung: Schreib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Englis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1. Leseverständn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. Hörverste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. Schreib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539640" y="2205000"/>
            <a:ext cx="8136000" cy="0"/>
          </a:xfrm>
          <a:prstGeom prst="line">
            <a:avLst/>
          </a:prstGeom>
          <a:ln w="9360">
            <a:solidFill>
              <a:srgbClr val="004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216000" y="6473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7D76-6BC5-44D2-A690-5CB16BDFC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DE35-7585-4FA0-968E-2A55C233B0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Zeitplan</a:t>
            </a:r>
            <a:endParaRPr b="0" lang="en-US" sz="36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1125360"/>
            <a:ext cx="79236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1628640"/>
            <a:ext cx="0" cy="4753080"/>
          </a:xfrm>
          <a:prstGeom prst="line">
            <a:avLst/>
          </a:prstGeom>
          <a:ln w="19080">
            <a:solidFill>
              <a:srgbClr val="0042a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9640" y="1557360"/>
            <a:ext cx="640872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Konstitution der Koordinierungsgru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Festlegung der Projektverantwortli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Gewinnung der Expert/innen und Aufgabenentwickler/i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9999"/>
                </a:solidFill>
                <a:latin typeface="Arial"/>
              </a:rPr>
              <a:t>8./9.05.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9999"/>
                </a:solidFill>
                <a:latin typeface="Arial"/>
              </a:rPr>
              <a:t>Auftaktveranstalt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Beginn der Aufgabenentwick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Abschluss der Aufgabenentwicklung (30.10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Abschluss der Aufgabenbewert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Gewinnung der Testleiter (Pilotier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Ziehung der Stichprobe zur Pilot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216000" y="6473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8F7C-4A2C-4E03-A7FC-A24307A59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8360" y="364500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4F67-2837-4A4C-978D-1ED045C0ED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Zeitplan</a:t>
            </a:r>
            <a:endParaRPr b="0" lang="en-US" sz="36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79640" y="1557360"/>
            <a:ext cx="66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Erstellung der Testmanu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Schulung der Testl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Erstellen der Testmanuale, Druck  u. Vers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9933ff"/>
                </a:solidFill>
                <a:latin typeface="Arial"/>
              </a:rPr>
              <a:t>18.-28.2. Pilotierung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(3 Tage jeweils 90 min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Marking der Testhef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Dateneing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Übergabe der Daten zur Analy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Datenanalyse und Itemauswa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Entwicklung eines Kontextfragebo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ggf. Nachpilotierung veränderter Testaufg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Information der Schulen </a:t>
            </a:r>
            <a:br>
              <a:rPr sz="1800"/>
            </a:b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1125360"/>
            <a:ext cx="79236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1628640"/>
            <a:ext cx="0" cy="4753080"/>
          </a:xfrm>
          <a:prstGeom prst="line">
            <a:avLst/>
          </a:prstGeom>
          <a:ln w="19080">
            <a:solidFill>
              <a:srgbClr val="0042a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216000" y="6473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16A9-FD7A-47D9-9009-C9891BBE4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A7FB-510B-4103-9D1C-D2CCF57D8C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Zeitplan</a:t>
            </a:r>
            <a:endParaRPr b="0" lang="en-US" sz="36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1557360"/>
            <a:ext cx="590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Erstellen der Druckvorlagen (Testhef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Erstellen der Eingabemas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0.-28.2. Haupttest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(3 Tage jeweils 90 min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Eingabe der Schülerergebnisse durch Lehrkräfte auf </a:t>
            </a:r>
            <a:br>
              <a:rPr sz="1800"/>
            </a:b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dem Internet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Schulrückmeld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Datenanaly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Abschlussber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1125360"/>
            <a:ext cx="79236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1628640"/>
            <a:ext cx="0" cy="4753080"/>
          </a:xfrm>
          <a:prstGeom prst="line">
            <a:avLst/>
          </a:prstGeom>
          <a:ln w="19080">
            <a:solidFill>
              <a:srgbClr val="0042a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216000" y="6473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143D-6DD5-4AE1-B9E6-1ADA9F1D0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2023-9386-48B0-A454-19CF4DDFD9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627280" y="2637000"/>
            <a:ext cx="3527280" cy="229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FA6D-0066-40FA-953B-C739C73F7F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0:01:49Z</dcterms:created>
  <dc:creator>Gesa Ramm</dc:creator>
  <dc:description/>
  <dc:language>en-US</dc:language>
  <cp:lastModifiedBy>Gesa Ramm</cp:lastModifiedBy>
  <dcterms:modified xsi:type="dcterms:W3CDTF">2006-06-22T08:39:44Z</dcterms:modified>
  <cp:revision>42</cp:revision>
  <dc:subject/>
  <dc:title>VERA</dc:title>
</cp:coreProperties>
</file>