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582-1727-4273-9F9F-123FCA45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BA4-54D5-4629-933C-C6F6AD73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E92-CE38-4517-875F-E54F6B6A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DF3-27FD-4683-93E8-D64DCA10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E02-6A83-4436-A643-2F208130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9BE-A61E-4B83-8BCA-EA131FD1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AC0-CBB2-4B49-A7DD-BD834080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435-4CD3-4861-90D0-2049F02E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268-EB9A-4825-B9BA-2885D384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A7A-3D3B-458B-991E-9E4910DB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372-2F9F-448C-8D90-1F1FDF4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899-E11A-460C-97A0-88213EBD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6171-0A12-4DAA-89EB-6DD706F731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611360"/>
            <a:ext cx="7632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Zum Verhältnis von Lernstandserhebungen / Vergleichsarbeiten und zentr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schlussprüfung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rste These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27640" y="4149720"/>
            <a:ext cx="280836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.12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reas Büch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ter Dobbelst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iner P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42920" y="1557360"/>
            <a:ext cx="763272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tion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gabenfor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prüche an Fairness / Gerecht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bewer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richts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ächer und Domänen / curriculare Anbi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k und Förder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620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920" y="18900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ienen primär der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Unterrichtsentwicklung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ndem längerfristig erworbene Kompetenzen, wie sie in den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ildungsstandards der KMK bzw. entsprechenden länderbezogenen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Umsetzungen definiert sind, überprüft werden,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ie Ergebnisse für Lerngruppen in vergleichender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erspektive (norm- und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kriterienbezogen)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ückgemeldet werden,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ie externen Evaluationsdaten für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chulinterne fachliche Diskurse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und die Weiterentwicklung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es Unterrichts genutzt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115920"/>
            <a:ext cx="5976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tion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50560" y="1052640"/>
            <a:ext cx="8858520" cy="4502160"/>
            <a:chOff x="250560" y="1052640"/>
            <a:chExt cx="8858520" cy="4502160"/>
          </a:xfrm>
        </p:grpSpPr>
        <p:sp>
          <p:nvSpPr>
            <p:cNvPr id="48" name=""/>
            <p:cNvSpPr/>
            <p:nvPr/>
          </p:nvSpPr>
          <p:spPr>
            <a:xfrm>
              <a:off x="2050920" y="3357720"/>
              <a:ext cx="7058160" cy="21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39"/>
                </a:spcBef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dienen primär der </a:t>
              </a:r>
              <a:r>
                <a:rPr b="1" lang="de-DE" sz="1800" spc="-1" strike="noStrike">
                  <a:solidFill>
                    <a:srgbClr val="003300"/>
                  </a:solidFill>
                  <a:latin typeface="Times New Roman"/>
                </a:rPr>
                <a:t>Zertifizierung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 von individuellen Schüler-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leistungen, </a:t>
              </a:r>
              <a:br>
                <a:rPr sz="1800"/>
              </a:b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indem - orientiert an curricular gesetzten Anforderungen - Aufgaben 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(und Bewertungsinstrumente) eingesetzt werden</a:t>
              </a:r>
              <a:br>
                <a:rPr sz="1800"/>
              </a:b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und die Schülerleistungen an a priori gesetzten Benchmarks bewertet 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werd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50560" y="1341360"/>
              <a:ext cx="6769080" cy="38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20000" y="105264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2360" y="61272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generieren Ergebnisse auf der Grundlage von Testaufgaben,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die im Sinne der „PISA-Methodologie“ skalierbar sind und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empirisch fundierte Kompetenzniveaumodelle formulieren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lassen.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Diese unterscheiden sich in der Regel von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Aufgabenformaten, die traditionell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in Klassenarbeiten verwendet werden –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vor allem bezüglich ihrer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Komplexität.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115920"/>
            <a:ext cx="597672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gabenfor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9001080" cy="4463640"/>
            <a:chOff x="250920" y="1125360"/>
            <a:chExt cx="9001080" cy="4463640"/>
          </a:xfrm>
        </p:grpSpPr>
        <p:sp>
          <p:nvSpPr>
            <p:cNvPr id="54" name=""/>
            <p:cNvSpPr/>
            <p:nvPr/>
          </p:nvSpPr>
          <p:spPr>
            <a:xfrm>
              <a:off x="2050920" y="3654360"/>
              <a:ext cx="720108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39"/>
                </a:spcBef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streben zurzeit keine Skalierbarkeit an und sind damit in den 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Aufgabenformaten flexibler. Sie können damit eher Unterrichts- und Klassenarbeitsformaten aufgreifen. 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50920" y="1125360"/>
              <a:ext cx="6481440" cy="4463640"/>
              <a:chOff x="250920" y="1125360"/>
              <a:chExt cx="6481440" cy="44636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250920" y="1468080"/>
                <a:ext cx="6481440" cy="41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32360" y="1125360"/>
                <a:ext cx="0" cy="34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2360" y="892080"/>
            <a:ext cx="53276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berücksichtigen Schulausgangslagen (Standorttypen /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Kontextgruppen / Sozialindex) bei der Ergebnisrück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meldung, damit die Schulen  bei der Auswertung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der Schülerergebnisse eine Abschätzung ihres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Beitrags vornehmen können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(value added approach)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115920"/>
            <a:ext cx="31687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prüche 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ness 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echt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9280" y="1052640"/>
            <a:ext cx="8640720" cy="4752360"/>
            <a:chOff x="179280" y="1052640"/>
            <a:chExt cx="8640720" cy="4752360"/>
          </a:xfrm>
        </p:grpSpPr>
        <p:sp>
          <p:nvSpPr>
            <p:cNvPr id="61" name=""/>
            <p:cNvSpPr/>
            <p:nvPr/>
          </p:nvSpPr>
          <p:spPr>
            <a:xfrm>
              <a:off x="2374920" y="3860640"/>
              <a:ext cx="6445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39"/>
                </a:spcBef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zielen durch zentral vorgegebene Aufgabenstellungen 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und Bewertungsschlüssel auf ein Verfahren der Abschlussvergabe, dessen zentraler Anteil – also die zentralen Prüfungen – landesweit vergleichbar ist</a:t>
              </a:r>
              <a:br>
                <a:rPr sz="1800"/>
              </a:b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(Vergleichbarkeit des zertifizierten Leistungsstandes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79280" y="1052640"/>
              <a:ext cx="6876720" cy="4752360"/>
              <a:chOff x="179280" y="1052640"/>
              <a:chExt cx="6876720" cy="4752360"/>
            </a:xfrm>
          </p:grpSpPr>
          <p:sp>
            <p:nvSpPr>
              <p:cNvPr id="63" name=""/>
              <p:cNvSpPr/>
              <p:nvPr/>
            </p:nvSpPr>
            <p:spPr>
              <a:xfrm flipH="1">
                <a:off x="179280" y="1417680"/>
                <a:ext cx="6876720" cy="43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056000" y="1052640"/>
                <a:ext cx="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2360" y="1173240"/>
            <a:ext cx="5327640" cy="22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sind im Hinblick auf die Bewertung individueller Schülerleistungen ein Screening-Instrument.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Die Ergebnisse haben im Kontext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diagnostischer Verfahren ihren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Stellenwert (Hinweischarakter)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5920"/>
            <a:ext cx="3168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bewertu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50920" y="1052640"/>
            <a:ext cx="8534160" cy="4176360"/>
            <a:chOff x="250920" y="1052640"/>
            <a:chExt cx="8534160" cy="4176360"/>
          </a:xfrm>
        </p:grpSpPr>
        <p:sp>
          <p:nvSpPr>
            <p:cNvPr id="68" name=""/>
            <p:cNvSpPr/>
            <p:nvPr/>
          </p:nvSpPr>
          <p:spPr>
            <a:xfrm>
              <a:off x="2340000" y="3068640"/>
              <a:ext cx="6445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39"/>
                </a:spcBef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zielen auf Individualbewertung. Die punktuelle 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Leistungsüberprüfung mit zentral vorgegebenen Bewertungsschlüsseln wird ergänzt um weitere Leistungsaspekte (pädagogische Bewertung, Vornoten …) – hat aber ein großes Gewicht und muss daher individuell möglichst verlässlich sei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50920" y="1052640"/>
              <a:ext cx="5941440" cy="4176360"/>
              <a:chOff x="250920" y="1052640"/>
              <a:chExt cx="5941440" cy="4176360"/>
            </a:xfrm>
          </p:grpSpPr>
          <p:sp>
            <p:nvSpPr>
              <p:cNvPr id="70" name=""/>
              <p:cNvSpPr/>
              <p:nvPr/>
            </p:nvSpPr>
            <p:spPr>
              <a:xfrm flipH="1">
                <a:off x="250920" y="1373400"/>
                <a:ext cx="5941440" cy="385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192360" y="1052640"/>
                <a:ext cx="0" cy="32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2360" y="907920"/>
            <a:ext cx="53276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zielen auf standardorientierte Unterrichtsentwicklung im Kontext einer Professionalisierung des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achlichen Diskurse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115920"/>
            <a:ext cx="3672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richtsentwickl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3151080"/>
            <a:ext cx="680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ZP</a:t>
            </a:r>
            <a:br>
              <a:rPr sz="2400"/>
            </a:b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verfolgen zunehmend auch das Ziel im 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Zusammenhang eines Qualitätssicherungssystems Beiträge 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zur Unterrichtsentwicklung zu leisten (kriterienorientierte Auswertung, Bereitstellung von Benchmarks …) 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74560" y="1052640"/>
            <a:ext cx="5292720" cy="3742920"/>
            <a:chOff x="574560" y="1052640"/>
            <a:chExt cx="5292720" cy="3742920"/>
          </a:xfrm>
        </p:grpSpPr>
        <p:sp>
          <p:nvSpPr>
            <p:cNvPr id="76" name=""/>
            <p:cNvSpPr/>
            <p:nvPr/>
          </p:nvSpPr>
          <p:spPr>
            <a:xfrm flipH="1">
              <a:off x="574560" y="1339920"/>
              <a:ext cx="5292720" cy="34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7280" y="105264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2360" y="907920"/>
            <a:ext cx="5327640" cy="25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okussieren auf einzelne Domänen ausgewählter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ächer, wobei perspektivisch der Anspruch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esteht, die Breite der Testfächer abzubilden.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s besteht eine enge Anbindung an Kompetenzerwartungen der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ildungsstandard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64000" y="115920"/>
            <a:ext cx="36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ächer und Domänen / curriculare Anbi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9280" y="1052640"/>
            <a:ext cx="8640720" cy="4844160"/>
            <a:chOff x="179280" y="1052640"/>
            <a:chExt cx="8640720" cy="4844160"/>
          </a:xfrm>
        </p:grpSpPr>
        <p:sp>
          <p:nvSpPr>
            <p:cNvPr id="81" name=""/>
            <p:cNvSpPr/>
            <p:nvPr/>
          </p:nvSpPr>
          <p:spPr>
            <a:xfrm>
              <a:off x="2016000" y="3151080"/>
              <a:ext cx="6804000" cy="27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012"/>
                </a:spcBef>
                <a:tabLst>
                  <a:tab algn="l" pos="0"/>
                  <a:tab algn="l" pos="322200"/>
                  <a:tab algn="l" pos="644400"/>
                  <a:tab algn="l" pos="966960"/>
                  <a:tab algn="l" pos="1289160"/>
                  <a:tab algn="l" pos="1611360"/>
                  <a:tab algn="l" pos="1933560"/>
                  <a:tab algn="l" pos="2255760"/>
                  <a:tab algn="l" pos="2577960"/>
                  <a:tab algn="l" pos="2900520"/>
                  <a:tab algn="l" pos="3222720"/>
                  <a:tab algn="l" pos="3544920"/>
                  <a:tab algn="l" pos="3867120"/>
                  <a:tab algn="l" pos="4189320"/>
                  <a:tab algn="l" pos="4511520"/>
                  <a:tab algn="l" pos="4834080"/>
                  <a:tab algn="l" pos="5156280"/>
                  <a:tab algn="l" pos="5478480"/>
                  <a:tab algn="l" pos="5800680"/>
                  <a:tab algn="l" pos="6122880"/>
                  <a:tab algn="l" pos="6445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müssen sich in enger Anbindung an die curricularen </a:t>
              </a:r>
              <a:br>
                <a:rPr sz="1800"/>
              </a:b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Vorgaben des jeweiligen Bundeslandes auf zentrale Bereiche 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der Fächer beziehen und die Breite des jeweiligen Fachs bestmöglich berücksichtigen, um individuellen Leistungsprofilen gerecht zu werden. Angesichts eher outputorientierter Lehrpläne bedarf es zur Orientierung der Schulen weitergehender inhaltlicher Konkretisierungen ( z.B. Unterrichtsvorgaben in NRW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79280" y="1052640"/>
              <a:ext cx="5868720" cy="4104720"/>
              <a:chOff x="179280" y="1052640"/>
              <a:chExt cx="5868720" cy="4104720"/>
            </a:xfrm>
          </p:grpSpPr>
          <p:sp>
            <p:nvSpPr>
              <p:cNvPr id="83" name=""/>
              <p:cNvSpPr/>
              <p:nvPr/>
            </p:nvSpPr>
            <p:spPr>
              <a:xfrm flipH="1">
                <a:off x="179280" y="1368000"/>
                <a:ext cx="5868720" cy="378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48000" y="1052640"/>
                <a:ext cx="0" cy="31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2360" y="476280"/>
            <a:ext cx="532764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geben Hinweise auf Stärken und Schwächen von Lerngruppen und indizieren Förderbedarfe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(fachliche Schwerpunktsetzungen über die Jahrgangsstufen hinweg)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örderperspektiven für die getesteten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Gruppen sind aus schulischer Sicht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esonders dann evident, wenn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ie Testbereiche gut mit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enen der ZP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abgestimmt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i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115920"/>
            <a:ext cx="36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k u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ör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1049400"/>
            <a:ext cx="8785440" cy="4683960"/>
            <a:chOff x="179280" y="1049400"/>
            <a:chExt cx="8785440" cy="4683960"/>
          </a:xfrm>
        </p:grpSpPr>
        <p:sp>
          <p:nvSpPr>
            <p:cNvPr id="88" name=""/>
            <p:cNvSpPr/>
            <p:nvPr/>
          </p:nvSpPr>
          <p:spPr>
            <a:xfrm>
              <a:off x="2160720" y="3570120"/>
              <a:ext cx="680400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012"/>
                </a:spcBef>
                <a:tabLst>
                  <a:tab algn="l" pos="0"/>
                  <a:tab algn="l" pos="322200"/>
                  <a:tab algn="l" pos="644400"/>
                  <a:tab algn="l" pos="966960"/>
                  <a:tab algn="l" pos="1289160"/>
                  <a:tab algn="l" pos="1611360"/>
                  <a:tab algn="l" pos="1933560"/>
                  <a:tab algn="l" pos="2255760"/>
                  <a:tab algn="l" pos="2577960"/>
                  <a:tab algn="l" pos="2900520"/>
                  <a:tab algn="l" pos="3222720"/>
                  <a:tab algn="l" pos="3544920"/>
                  <a:tab algn="l" pos="3867120"/>
                  <a:tab algn="l" pos="4189320"/>
                  <a:tab algn="l" pos="4511520"/>
                  <a:tab algn="l" pos="4834080"/>
                  <a:tab algn="l" pos="5156280"/>
                  <a:tab algn="l" pos="5478480"/>
                  <a:tab algn="l" pos="5800680"/>
                  <a:tab algn="l" pos="6122880"/>
                  <a:tab algn="l" pos="64450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zertifizieren Leistungs am Ende von Bildungsabschnitten 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und enthalten somit keine individuelle Perspektive von 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„Diagnose und Fördern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79280" y="1049400"/>
              <a:ext cx="6768720" cy="4683960"/>
              <a:chOff x="179280" y="1049400"/>
              <a:chExt cx="6768720" cy="468396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179280" y="1409040"/>
                <a:ext cx="6768720" cy="432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48000" y="1049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8:31:11Z</dcterms:created>
  <dc:creator>bonsen</dc:creator>
  <dc:description/>
  <dc:language>en-US</dc:language>
  <cp:lastModifiedBy>Christiane Roks</cp:lastModifiedBy>
  <dcterms:modified xsi:type="dcterms:W3CDTF">2006-12-18T12:50:26Z</dcterms:modified>
  <cp:revision>502</cp:revision>
  <dc:subject/>
  <dc:title>PowerPoint-Präsentation</dc:title>
</cp:coreProperties>
</file>