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9907588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907200" cy="67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926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5611680" y="-360"/>
            <a:ext cx="42926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3267000" y="506520"/>
            <a:ext cx="3371760" cy="25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90360" y="3203280"/>
            <a:ext cx="7924680" cy="30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6405120"/>
            <a:ext cx="42926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5611680" y="6405120"/>
            <a:ext cx="42926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F133-4F5B-4901-8B51-62312996DA5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3267000" y="506520"/>
            <a:ext cx="3370320" cy="25272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90360" y="3201840"/>
            <a:ext cx="7924680" cy="30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e schon erwähnt, liegen den Schulen seit August die Ergebnisberichte vor. Diese enthalten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spielhaft komme ich jetzt auf einige Grafiken zu sprech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3267000" y="506520"/>
            <a:ext cx="3370320" cy="25272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90360" y="3201840"/>
            <a:ext cx="7924680" cy="30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e schon erwähnt, liegen den Schulen seit August die Ergebnisberichte vor. Diese enthalten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spielhaft komme ich jetzt auf einige Grafiken zu sprech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3267000" y="506520"/>
            <a:ext cx="3370320" cy="25272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90360" y="3201840"/>
            <a:ext cx="7924680" cy="30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e schon erwähnt, liegen den Schulen seit August die Ergebnisberichte vor. Diese enthalten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spielhaft komme ich jetzt auf einige Grafiken zu sprech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3267000" y="506520"/>
            <a:ext cx="3370320" cy="25272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90360" y="3201840"/>
            <a:ext cx="7924680" cy="30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e schon erwähnt, liegen den Schulen seit August die Ergebnisberichte vor. Diese enthalten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spielhaft komme ich jetzt auf einige Grafiken zu sprech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3267000" y="506520"/>
            <a:ext cx="3370320" cy="25272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90360" y="3201840"/>
            <a:ext cx="7924680" cy="30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e schon erwähnt, liegen den Schulen seit August die Ergebnisberichte vor. Diese enthalten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spielhaft komme ich jetzt auf einige Grafiken zu sprech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3267000" y="506520"/>
            <a:ext cx="3370320" cy="25272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90360" y="3201840"/>
            <a:ext cx="7924680" cy="30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e schon erwähnt, liegen den Schulen seit August die Ergebnisberichte vor. Diese enthalten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spielhaft komme ich jetzt auf einige Grafiken zu sprech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7770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73850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4372920"/>
            <a:ext cx="73850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7770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3603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3960" y="2492280"/>
            <a:ext cx="3603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4372920"/>
            <a:ext cx="3603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323960" y="4372920"/>
            <a:ext cx="3603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7770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2377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36600" y="2492280"/>
            <a:ext cx="2377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33920" y="2492280"/>
            <a:ext cx="2377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4372920"/>
            <a:ext cx="2377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36600" y="4372920"/>
            <a:ext cx="2377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33920" y="4372920"/>
            <a:ext cx="2377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7770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2492280"/>
            <a:ext cx="738504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7770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73850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7770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36036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23960" y="2492280"/>
            <a:ext cx="36036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7770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5640" y="836280"/>
            <a:ext cx="777708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7770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3603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23960" y="2492280"/>
            <a:ext cx="36036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4372920"/>
            <a:ext cx="3603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7770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36036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23960" y="2492280"/>
            <a:ext cx="3603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323960" y="4372920"/>
            <a:ext cx="3603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7770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3603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23960" y="2492280"/>
            <a:ext cx="3603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4372920"/>
            <a:ext cx="73850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53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7770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"/>
          <p:cNvSpPr/>
          <p:nvPr/>
        </p:nvSpPr>
        <p:spPr>
          <a:xfrm>
            <a:off x="5951520" y="3144960"/>
            <a:ext cx="3036960" cy="2997000"/>
          </a:xfrm>
          <a:custGeom>
            <a:avLst/>
            <a:gdLst/>
            <a:ahLst/>
            <a:rect l="l" t="t" r="r" b="b"/>
            <a:pathLst>
              <a:path w="831" h="820">
                <a:moveTo>
                  <a:pt x="29" y="378"/>
                </a:moveTo>
                <a:cubicBezTo>
                  <a:pt x="46" y="379"/>
                  <a:pt x="55" y="388"/>
                  <a:pt x="57" y="406"/>
                </a:cubicBezTo>
                <a:cubicBezTo>
                  <a:pt x="57" y="412"/>
                  <a:pt x="53" y="419"/>
                  <a:pt x="47" y="424"/>
                </a:cubicBezTo>
                <a:cubicBezTo>
                  <a:pt x="41" y="430"/>
                  <a:pt x="34" y="432"/>
                  <a:pt x="26" y="432"/>
                </a:cubicBezTo>
                <a:cubicBezTo>
                  <a:pt x="8" y="429"/>
                  <a:pt x="0" y="419"/>
                  <a:pt x="1" y="404"/>
                </a:cubicBezTo>
                <a:cubicBezTo>
                  <a:pt x="1" y="396"/>
                  <a:pt x="4" y="390"/>
                  <a:pt x="10" y="384"/>
                </a:cubicBezTo>
                <a:cubicBezTo>
                  <a:pt x="16" y="379"/>
                  <a:pt x="22" y="377"/>
                  <a:pt x="29" y="378"/>
                </a:cubicBezTo>
                <a:close/>
                <a:moveTo>
                  <a:pt x="99" y="272"/>
                </a:moveTo>
                <a:cubicBezTo>
                  <a:pt x="99" y="283"/>
                  <a:pt x="95" y="292"/>
                  <a:pt x="87" y="299"/>
                </a:cubicBezTo>
                <a:cubicBezTo>
                  <a:pt x="80" y="307"/>
                  <a:pt x="71" y="310"/>
                  <a:pt x="60" y="310"/>
                </a:cubicBezTo>
                <a:cubicBezTo>
                  <a:pt x="49" y="310"/>
                  <a:pt x="39" y="306"/>
                  <a:pt x="31" y="299"/>
                </a:cubicBezTo>
                <a:cubicBezTo>
                  <a:pt x="24" y="291"/>
                  <a:pt x="20" y="281"/>
                  <a:pt x="20" y="270"/>
                </a:cubicBezTo>
                <a:cubicBezTo>
                  <a:pt x="20" y="260"/>
                  <a:pt x="24" y="252"/>
                  <a:pt x="31" y="245"/>
                </a:cubicBezTo>
                <a:cubicBezTo>
                  <a:pt x="39" y="238"/>
                  <a:pt x="48" y="235"/>
                  <a:pt x="59" y="235"/>
                </a:cubicBezTo>
                <a:cubicBezTo>
                  <a:pt x="70" y="235"/>
                  <a:pt x="79" y="238"/>
                  <a:pt x="87" y="245"/>
                </a:cubicBezTo>
                <a:cubicBezTo>
                  <a:pt x="95" y="253"/>
                  <a:pt x="99" y="262"/>
                  <a:pt x="99" y="272"/>
                </a:cubicBezTo>
                <a:close/>
                <a:moveTo>
                  <a:pt x="64" y="537"/>
                </a:moveTo>
                <a:cubicBezTo>
                  <a:pt x="66" y="543"/>
                  <a:pt x="63" y="549"/>
                  <a:pt x="55" y="555"/>
                </a:cubicBezTo>
                <a:cubicBezTo>
                  <a:pt x="47" y="560"/>
                  <a:pt x="40" y="557"/>
                  <a:pt x="34" y="546"/>
                </a:cubicBezTo>
                <a:cubicBezTo>
                  <a:pt x="30" y="534"/>
                  <a:pt x="33" y="527"/>
                  <a:pt x="43" y="527"/>
                </a:cubicBezTo>
                <a:cubicBezTo>
                  <a:pt x="48" y="525"/>
                  <a:pt x="52" y="525"/>
                  <a:pt x="57" y="527"/>
                </a:cubicBezTo>
                <a:cubicBezTo>
                  <a:pt x="61" y="530"/>
                  <a:pt x="64" y="533"/>
                  <a:pt x="64" y="537"/>
                </a:cubicBezTo>
                <a:close/>
                <a:moveTo>
                  <a:pt x="183" y="129"/>
                </a:moveTo>
                <a:cubicBezTo>
                  <a:pt x="193" y="140"/>
                  <a:pt x="198" y="153"/>
                  <a:pt x="198" y="167"/>
                </a:cubicBezTo>
                <a:cubicBezTo>
                  <a:pt x="198" y="181"/>
                  <a:pt x="193" y="193"/>
                  <a:pt x="183" y="203"/>
                </a:cubicBezTo>
                <a:cubicBezTo>
                  <a:pt x="173" y="213"/>
                  <a:pt x="161" y="218"/>
                  <a:pt x="147" y="218"/>
                </a:cubicBezTo>
                <a:cubicBezTo>
                  <a:pt x="130" y="218"/>
                  <a:pt x="115" y="212"/>
                  <a:pt x="102" y="200"/>
                </a:cubicBezTo>
                <a:cubicBezTo>
                  <a:pt x="92" y="190"/>
                  <a:pt x="87" y="178"/>
                  <a:pt x="87" y="164"/>
                </a:cubicBezTo>
                <a:cubicBezTo>
                  <a:pt x="87" y="149"/>
                  <a:pt x="93" y="136"/>
                  <a:pt x="104" y="127"/>
                </a:cubicBezTo>
                <a:cubicBezTo>
                  <a:pt x="115" y="117"/>
                  <a:pt x="128" y="112"/>
                  <a:pt x="143" y="112"/>
                </a:cubicBezTo>
                <a:cubicBezTo>
                  <a:pt x="159" y="112"/>
                  <a:pt x="172" y="117"/>
                  <a:pt x="183" y="129"/>
                </a:cubicBezTo>
                <a:close/>
                <a:moveTo>
                  <a:pt x="141" y="637"/>
                </a:moveTo>
                <a:cubicBezTo>
                  <a:pt x="146" y="642"/>
                  <a:pt x="149" y="648"/>
                  <a:pt x="149" y="655"/>
                </a:cubicBezTo>
                <a:cubicBezTo>
                  <a:pt x="149" y="664"/>
                  <a:pt x="146" y="670"/>
                  <a:pt x="140" y="675"/>
                </a:cubicBezTo>
                <a:cubicBezTo>
                  <a:pt x="134" y="680"/>
                  <a:pt x="128" y="682"/>
                  <a:pt x="121" y="682"/>
                </a:cubicBezTo>
                <a:cubicBezTo>
                  <a:pt x="103" y="682"/>
                  <a:pt x="93" y="673"/>
                  <a:pt x="93" y="654"/>
                </a:cubicBezTo>
                <a:cubicBezTo>
                  <a:pt x="93" y="646"/>
                  <a:pt x="96" y="640"/>
                  <a:pt x="102" y="634"/>
                </a:cubicBezTo>
                <a:cubicBezTo>
                  <a:pt x="107" y="629"/>
                  <a:pt x="114" y="627"/>
                  <a:pt x="121" y="628"/>
                </a:cubicBezTo>
                <a:cubicBezTo>
                  <a:pt x="129" y="628"/>
                  <a:pt x="135" y="631"/>
                  <a:pt x="141" y="637"/>
                </a:cubicBezTo>
                <a:close/>
                <a:moveTo>
                  <a:pt x="257" y="346"/>
                </a:moveTo>
                <a:cubicBezTo>
                  <a:pt x="257" y="356"/>
                  <a:pt x="254" y="365"/>
                  <a:pt x="246" y="373"/>
                </a:cubicBezTo>
                <a:cubicBezTo>
                  <a:pt x="239" y="380"/>
                  <a:pt x="230" y="384"/>
                  <a:pt x="219" y="384"/>
                </a:cubicBezTo>
                <a:cubicBezTo>
                  <a:pt x="208" y="384"/>
                  <a:pt x="199" y="380"/>
                  <a:pt x="192" y="373"/>
                </a:cubicBezTo>
                <a:cubicBezTo>
                  <a:pt x="185" y="365"/>
                  <a:pt x="182" y="356"/>
                  <a:pt x="182" y="346"/>
                </a:cubicBezTo>
                <a:cubicBezTo>
                  <a:pt x="182" y="335"/>
                  <a:pt x="185" y="326"/>
                  <a:pt x="193" y="319"/>
                </a:cubicBezTo>
                <a:cubicBezTo>
                  <a:pt x="200" y="312"/>
                  <a:pt x="209" y="308"/>
                  <a:pt x="219" y="308"/>
                </a:cubicBezTo>
                <a:cubicBezTo>
                  <a:pt x="230" y="308"/>
                  <a:pt x="239" y="312"/>
                  <a:pt x="247" y="320"/>
                </a:cubicBezTo>
                <a:cubicBezTo>
                  <a:pt x="254" y="327"/>
                  <a:pt x="257" y="336"/>
                  <a:pt x="257" y="346"/>
                </a:cubicBezTo>
                <a:close/>
                <a:moveTo>
                  <a:pt x="243" y="471"/>
                </a:moveTo>
                <a:cubicBezTo>
                  <a:pt x="244" y="474"/>
                  <a:pt x="245" y="477"/>
                  <a:pt x="245" y="479"/>
                </a:cubicBezTo>
                <a:cubicBezTo>
                  <a:pt x="245" y="492"/>
                  <a:pt x="239" y="502"/>
                  <a:pt x="227" y="507"/>
                </a:cubicBezTo>
                <a:cubicBezTo>
                  <a:pt x="208" y="510"/>
                  <a:pt x="196" y="505"/>
                  <a:pt x="189" y="490"/>
                </a:cubicBezTo>
                <a:cubicBezTo>
                  <a:pt x="186" y="480"/>
                  <a:pt x="187" y="471"/>
                  <a:pt x="192" y="463"/>
                </a:cubicBezTo>
                <a:cubicBezTo>
                  <a:pt x="197" y="456"/>
                  <a:pt x="205" y="452"/>
                  <a:pt x="214" y="452"/>
                </a:cubicBezTo>
                <a:cubicBezTo>
                  <a:pt x="227" y="452"/>
                  <a:pt x="236" y="458"/>
                  <a:pt x="243" y="471"/>
                </a:cubicBezTo>
                <a:close/>
                <a:moveTo>
                  <a:pt x="268" y="731"/>
                </a:moveTo>
                <a:cubicBezTo>
                  <a:pt x="268" y="742"/>
                  <a:pt x="264" y="752"/>
                  <a:pt x="256" y="759"/>
                </a:cubicBezTo>
                <a:cubicBezTo>
                  <a:pt x="248" y="767"/>
                  <a:pt x="239" y="771"/>
                  <a:pt x="229" y="771"/>
                </a:cubicBezTo>
                <a:cubicBezTo>
                  <a:pt x="218" y="771"/>
                  <a:pt x="209" y="767"/>
                  <a:pt x="201" y="760"/>
                </a:cubicBezTo>
                <a:cubicBezTo>
                  <a:pt x="194" y="752"/>
                  <a:pt x="191" y="743"/>
                  <a:pt x="191" y="732"/>
                </a:cubicBezTo>
                <a:cubicBezTo>
                  <a:pt x="191" y="722"/>
                  <a:pt x="194" y="713"/>
                  <a:pt x="202" y="706"/>
                </a:cubicBezTo>
                <a:cubicBezTo>
                  <a:pt x="209" y="698"/>
                  <a:pt x="219" y="694"/>
                  <a:pt x="230" y="694"/>
                </a:cubicBezTo>
                <a:cubicBezTo>
                  <a:pt x="240" y="694"/>
                  <a:pt x="249" y="698"/>
                  <a:pt x="256" y="705"/>
                </a:cubicBezTo>
                <a:cubicBezTo>
                  <a:pt x="264" y="712"/>
                  <a:pt x="268" y="721"/>
                  <a:pt x="268" y="731"/>
                </a:cubicBezTo>
                <a:close/>
                <a:moveTo>
                  <a:pt x="387" y="264"/>
                </a:moveTo>
                <a:cubicBezTo>
                  <a:pt x="387" y="247"/>
                  <a:pt x="394" y="231"/>
                  <a:pt x="407" y="218"/>
                </a:cubicBezTo>
                <a:cubicBezTo>
                  <a:pt x="420" y="205"/>
                  <a:pt x="435" y="199"/>
                  <a:pt x="453" y="199"/>
                </a:cubicBezTo>
                <a:cubicBezTo>
                  <a:pt x="471" y="199"/>
                  <a:pt x="487" y="205"/>
                  <a:pt x="500" y="218"/>
                </a:cubicBezTo>
                <a:cubicBezTo>
                  <a:pt x="513" y="231"/>
                  <a:pt x="519" y="247"/>
                  <a:pt x="519" y="264"/>
                </a:cubicBezTo>
                <a:cubicBezTo>
                  <a:pt x="519" y="276"/>
                  <a:pt x="517" y="286"/>
                  <a:pt x="511" y="296"/>
                </a:cubicBezTo>
                <a:cubicBezTo>
                  <a:pt x="522" y="290"/>
                  <a:pt x="534" y="287"/>
                  <a:pt x="546" y="287"/>
                </a:cubicBezTo>
                <a:cubicBezTo>
                  <a:pt x="570" y="287"/>
                  <a:pt x="589" y="296"/>
                  <a:pt x="604" y="314"/>
                </a:cubicBezTo>
                <a:cubicBezTo>
                  <a:pt x="604" y="310"/>
                  <a:pt x="603" y="306"/>
                  <a:pt x="603" y="302"/>
                </a:cubicBezTo>
                <a:cubicBezTo>
                  <a:pt x="603" y="293"/>
                  <a:pt x="604" y="284"/>
                  <a:pt x="606" y="276"/>
                </a:cubicBezTo>
                <a:cubicBezTo>
                  <a:pt x="568" y="261"/>
                  <a:pt x="547" y="232"/>
                  <a:pt x="544" y="191"/>
                </a:cubicBezTo>
                <a:cubicBezTo>
                  <a:pt x="539" y="192"/>
                  <a:pt x="534" y="193"/>
                  <a:pt x="529" y="193"/>
                </a:cubicBezTo>
                <a:cubicBezTo>
                  <a:pt x="509" y="193"/>
                  <a:pt x="491" y="186"/>
                  <a:pt x="476" y="174"/>
                </a:cubicBezTo>
                <a:cubicBezTo>
                  <a:pt x="461" y="162"/>
                  <a:pt x="450" y="147"/>
                  <a:pt x="445" y="128"/>
                </a:cubicBezTo>
                <a:cubicBezTo>
                  <a:pt x="430" y="142"/>
                  <a:pt x="413" y="149"/>
                  <a:pt x="393" y="149"/>
                </a:cubicBezTo>
                <a:cubicBezTo>
                  <a:pt x="357" y="149"/>
                  <a:pt x="333" y="131"/>
                  <a:pt x="322" y="96"/>
                </a:cubicBezTo>
                <a:cubicBezTo>
                  <a:pt x="321" y="113"/>
                  <a:pt x="315" y="128"/>
                  <a:pt x="302" y="140"/>
                </a:cubicBezTo>
                <a:cubicBezTo>
                  <a:pt x="290" y="152"/>
                  <a:pt x="275" y="158"/>
                  <a:pt x="258" y="158"/>
                </a:cubicBezTo>
                <a:cubicBezTo>
                  <a:pt x="241" y="158"/>
                  <a:pt x="226" y="152"/>
                  <a:pt x="214" y="139"/>
                </a:cubicBezTo>
                <a:cubicBezTo>
                  <a:pt x="201" y="127"/>
                  <a:pt x="195" y="112"/>
                  <a:pt x="195" y="94"/>
                </a:cubicBezTo>
                <a:cubicBezTo>
                  <a:pt x="195" y="77"/>
                  <a:pt x="201" y="62"/>
                  <a:pt x="214" y="49"/>
                </a:cubicBezTo>
                <a:cubicBezTo>
                  <a:pt x="226" y="37"/>
                  <a:pt x="241" y="31"/>
                  <a:pt x="258" y="31"/>
                </a:cubicBezTo>
                <a:cubicBezTo>
                  <a:pt x="289" y="31"/>
                  <a:pt x="309" y="45"/>
                  <a:pt x="319" y="74"/>
                </a:cubicBezTo>
                <a:cubicBezTo>
                  <a:pt x="319" y="53"/>
                  <a:pt x="326" y="36"/>
                  <a:pt x="341" y="22"/>
                </a:cubicBezTo>
                <a:cubicBezTo>
                  <a:pt x="355" y="7"/>
                  <a:pt x="373" y="0"/>
                  <a:pt x="393" y="0"/>
                </a:cubicBezTo>
                <a:cubicBezTo>
                  <a:pt x="428" y="0"/>
                  <a:pt x="451" y="16"/>
                  <a:pt x="463" y="48"/>
                </a:cubicBezTo>
                <a:cubicBezTo>
                  <a:pt x="480" y="28"/>
                  <a:pt x="502" y="19"/>
                  <a:pt x="529" y="19"/>
                </a:cubicBezTo>
                <a:cubicBezTo>
                  <a:pt x="550" y="19"/>
                  <a:pt x="569" y="25"/>
                  <a:pt x="585" y="39"/>
                </a:cubicBezTo>
                <a:cubicBezTo>
                  <a:pt x="601" y="53"/>
                  <a:pt x="611" y="70"/>
                  <a:pt x="615" y="91"/>
                </a:cubicBezTo>
                <a:cubicBezTo>
                  <a:pt x="624" y="89"/>
                  <a:pt x="632" y="87"/>
                  <a:pt x="641" y="87"/>
                </a:cubicBezTo>
                <a:cubicBezTo>
                  <a:pt x="669" y="87"/>
                  <a:pt x="692" y="97"/>
                  <a:pt x="711" y="116"/>
                </a:cubicBezTo>
                <a:cubicBezTo>
                  <a:pt x="730" y="135"/>
                  <a:pt x="740" y="158"/>
                  <a:pt x="740" y="184"/>
                </a:cubicBezTo>
                <a:cubicBezTo>
                  <a:pt x="740" y="189"/>
                  <a:pt x="739" y="194"/>
                  <a:pt x="739" y="198"/>
                </a:cubicBezTo>
                <a:cubicBezTo>
                  <a:pt x="762" y="204"/>
                  <a:pt x="781" y="217"/>
                  <a:pt x="796" y="236"/>
                </a:cubicBezTo>
                <a:cubicBezTo>
                  <a:pt x="811" y="256"/>
                  <a:pt x="818" y="278"/>
                  <a:pt x="818" y="302"/>
                </a:cubicBezTo>
                <a:cubicBezTo>
                  <a:pt x="818" y="325"/>
                  <a:pt x="812" y="346"/>
                  <a:pt x="798" y="365"/>
                </a:cubicBezTo>
                <a:cubicBezTo>
                  <a:pt x="820" y="384"/>
                  <a:pt x="831" y="409"/>
                  <a:pt x="831" y="437"/>
                </a:cubicBezTo>
                <a:cubicBezTo>
                  <a:pt x="831" y="477"/>
                  <a:pt x="813" y="506"/>
                  <a:pt x="777" y="524"/>
                </a:cubicBezTo>
                <a:cubicBezTo>
                  <a:pt x="784" y="537"/>
                  <a:pt x="788" y="551"/>
                  <a:pt x="788" y="566"/>
                </a:cubicBezTo>
                <a:cubicBezTo>
                  <a:pt x="788" y="590"/>
                  <a:pt x="779" y="611"/>
                  <a:pt x="763" y="628"/>
                </a:cubicBezTo>
                <a:cubicBezTo>
                  <a:pt x="746" y="645"/>
                  <a:pt x="725" y="653"/>
                  <a:pt x="701" y="653"/>
                </a:cubicBezTo>
                <a:cubicBezTo>
                  <a:pt x="698" y="653"/>
                  <a:pt x="695" y="653"/>
                  <a:pt x="691" y="652"/>
                </a:cubicBezTo>
                <a:cubicBezTo>
                  <a:pt x="694" y="659"/>
                  <a:pt x="695" y="666"/>
                  <a:pt x="695" y="674"/>
                </a:cubicBezTo>
                <a:cubicBezTo>
                  <a:pt x="695" y="694"/>
                  <a:pt x="687" y="712"/>
                  <a:pt x="673" y="727"/>
                </a:cubicBezTo>
                <a:cubicBezTo>
                  <a:pt x="658" y="741"/>
                  <a:pt x="640" y="749"/>
                  <a:pt x="620" y="749"/>
                </a:cubicBezTo>
                <a:cubicBezTo>
                  <a:pt x="599" y="749"/>
                  <a:pt x="582" y="741"/>
                  <a:pt x="568" y="727"/>
                </a:cubicBezTo>
                <a:cubicBezTo>
                  <a:pt x="553" y="712"/>
                  <a:pt x="546" y="694"/>
                  <a:pt x="546" y="674"/>
                </a:cubicBezTo>
                <a:cubicBezTo>
                  <a:pt x="546" y="653"/>
                  <a:pt x="553" y="636"/>
                  <a:pt x="568" y="621"/>
                </a:cubicBezTo>
                <a:cubicBezTo>
                  <a:pt x="582" y="606"/>
                  <a:pt x="599" y="599"/>
                  <a:pt x="620" y="599"/>
                </a:cubicBezTo>
                <a:cubicBezTo>
                  <a:pt x="616" y="588"/>
                  <a:pt x="614" y="577"/>
                  <a:pt x="614" y="566"/>
                </a:cubicBezTo>
                <a:cubicBezTo>
                  <a:pt x="614" y="535"/>
                  <a:pt x="627" y="511"/>
                  <a:pt x="653" y="494"/>
                </a:cubicBezTo>
                <a:cubicBezTo>
                  <a:pt x="641" y="477"/>
                  <a:pt x="635" y="459"/>
                  <a:pt x="635" y="437"/>
                </a:cubicBezTo>
                <a:cubicBezTo>
                  <a:pt x="635" y="420"/>
                  <a:pt x="640" y="404"/>
                  <a:pt x="648" y="389"/>
                </a:cubicBezTo>
                <a:cubicBezTo>
                  <a:pt x="638" y="381"/>
                  <a:pt x="628" y="371"/>
                  <a:pt x="621" y="361"/>
                </a:cubicBezTo>
                <a:cubicBezTo>
                  <a:pt x="621" y="362"/>
                  <a:pt x="621" y="362"/>
                  <a:pt x="621" y="362"/>
                </a:cubicBezTo>
                <a:cubicBezTo>
                  <a:pt x="621" y="398"/>
                  <a:pt x="603" y="422"/>
                  <a:pt x="568" y="432"/>
                </a:cubicBezTo>
                <a:cubicBezTo>
                  <a:pt x="592" y="445"/>
                  <a:pt x="604" y="464"/>
                  <a:pt x="604" y="492"/>
                </a:cubicBezTo>
                <a:cubicBezTo>
                  <a:pt x="604" y="509"/>
                  <a:pt x="598" y="525"/>
                  <a:pt x="585" y="538"/>
                </a:cubicBezTo>
                <a:cubicBezTo>
                  <a:pt x="572" y="551"/>
                  <a:pt x="557" y="557"/>
                  <a:pt x="539" y="557"/>
                </a:cubicBezTo>
                <a:cubicBezTo>
                  <a:pt x="520" y="557"/>
                  <a:pt x="505" y="551"/>
                  <a:pt x="492" y="538"/>
                </a:cubicBezTo>
                <a:cubicBezTo>
                  <a:pt x="479" y="525"/>
                  <a:pt x="472" y="509"/>
                  <a:pt x="472" y="492"/>
                </a:cubicBezTo>
                <a:cubicBezTo>
                  <a:pt x="472" y="460"/>
                  <a:pt x="487" y="439"/>
                  <a:pt x="517" y="429"/>
                </a:cubicBezTo>
                <a:cubicBezTo>
                  <a:pt x="487" y="416"/>
                  <a:pt x="472" y="394"/>
                  <a:pt x="472" y="362"/>
                </a:cubicBezTo>
                <a:cubicBezTo>
                  <a:pt x="472" y="348"/>
                  <a:pt x="476" y="335"/>
                  <a:pt x="484" y="323"/>
                </a:cubicBezTo>
                <a:cubicBezTo>
                  <a:pt x="474" y="328"/>
                  <a:pt x="464" y="331"/>
                  <a:pt x="453" y="331"/>
                </a:cubicBezTo>
                <a:cubicBezTo>
                  <a:pt x="435" y="331"/>
                  <a:pt x="420" y="324"/>
                  <a:pt x="407" y="311"/>
                </a:cubicBezTo>
                <a:cubicBezTo>
                  <a:pt x="394" y="298"/>
                  <a:pt x="387" y="283"/>
                  <a:pt x="387" y="264"/>
                </a:cubicBezTo>
                <a:close/>
                <a:moveTo>
                  <a:pt x="376" y="257"/>
                </a:moveTo>
                <a:cubicBezTo>
                  <a:pt x="376" y="272"/>
                  <a:pt x="371" y="285"/>
                  <a:pt x="361" y="295"/>
                </a:cubicBezTo>
                <a:cubicBezTo>
                  <a:pt x="351" y="305"/>
                  <a:pt x="339" y="310"/>
                  <a:pt x="324" y="310"/>
                </a:cubicBezTo>
                <a:cubicBezTo>
                  <a:pt x="309" y="310"/>
                  <a:pt x="295" y="305"/>
                  <a:pt x="283" y="294"/>
                </a:cubicBezTo>
                <a:cubicBezTo>
                  <a:pt x="271" y="284"/>
                  <a:pt x="265" y="271"/>
                  <a:pt x="265" y="256"/>
                </a:cubicBezTo>
                <a:cubicBezTo>
                  <a:pt x="265" y="241"/>
                  <a:pt x="271" y="228"/>
                  <a:pt x="282" y="218"/>
                </a:cubicBezTo>
                <a:cubicBezTo>
                  <a:pt x="294" y="208"/>
                  <a:pt x="307" y="203"/>
                  <a:pt x="322" y="203"/>
                </a:cubicBezTo>
                <a:cubicBezTo>
                  <a:pt x="337" y="203"/>
                  <a:pt x="350" y="208"/>
                  <a:pt x="360" y="219"/>
                </a:cubicBezTo>
                <a:cubicBezTo>
                  <a:pt x="371" y="229"/>
                  <a:pt x="376" y="242"/>
                  <a:pt x="376" y="257"/>
                </a:cubicBezTo>
                <a:close/>
                <a:moveTo>
                  <a:pt x="342" y="575"/>
                </a:moveTo>
                <a:cubicBezTo>
                  <a:pt x="342" y="585"/>
                  <a:pt x="339" y="594"/>
                  <a:pt x="332" y="602"/>
                </a:cubicBezTo>
                <a:cubicBezTo>
                  <a:pt x="324" y="610"/>
                  <a:pt x="316" y="613"/>
                  <a:pt x="305" y="613"/>
                </a:cubicBezTo>
                <a:cubicBezTo>
                  <a:pt x="294" y="613"/>
                  <a:pt x="285" y="610"/>
                  <a:pt x="277" y="602"/>
                </a:cubicBezTo>
                <a:cubicBezTo>
                  <a:pt x="269" y="595"/>
                  <a:pt x="265" y="586"/>
                  <a:pt x="265" y="576"/>
                </a:cubicBezTo>
                <a:cubicBezTo>
                  <a:pt x="265" y="565"/>
                  <a:pt x="269" y="555"/>
                  <a:pt x="277" y="548"/>
                </a:cubicBezTo>
                <a:cubicBezTo>
                  <a:pt x="284" y="540"/>
                  <a:pt x="293" y="537"/>
                  <a:pt x="304" y="537"/>
                </a:cubicBezTo>
                <a:cubicBezTo>
                  <a:pt x="315" y="537"/>
                  <a:pt x="324" y="540"/>
                  <a:pt x="331" y="547"/>
                </a:cubicBezTo>
                <a:cubicBezTo>
                  <a:pt x="339" y="555"/>
                  <a:pt x="342" y="564"/>
                  <a:pt x="342" y="575"/>
                </a:cubicBezTo>
                <a:close/>
                <a:moveTo>
                  <a:pt x="363" y="710"/>
                </a:moveTo>
                <a:cubicBezTo>
                  <a:pt x="381" y="711"/>
                  <a:pt x="394" y="717"/>
                  <a:pt x="405" y="729"/>
                </a:cubicBezTo>
                <a:cubicBezTo>
                  <a:pt x="415" y="740"/>
                  <a:pt x="420" y="753"/>
                  <a:pt x="419" y="768"/>
                </a:cubicBezTo>
                <a:cubicBezTo>
                  <a:pt x="418" y="783"/>
                  <a:pt x="412" y="796"/>
                  <a:pt x="401" y="805"/>
                </a:cubicBezTo>
                <a:cubicBezTo>
                  <a:pt x="390" y="815"/>
                  <a:pt x="377" y="820"/>
                  <a:pt x="362" y="819"/>
                </a:cubicBezTo>
                <a:cubicBezTo>
                  <a:pt x="329" y="819"/>
                  <a:pt x="312" y="800"/>
                  <a:pt x="311" y="764"/>
                </a:cubicBezTo>
                <a:cubicBezTo>
                  <a:pt x="312" y="749"/>
                  <a:pt x="318" y="736"/>
                  <a:pt x="329" y="726"/>
                </a:cubicBezTo>
                <a:cubicBezTo>
                  <a:pt x="340" y="716"/>
                  <a:pt x="351" y="710"/>
                  <a:pt x="363" y="710"/>
                </a:cubicBezTo>
                <a:close/>
                <a:moveTo>
                  <a:pt x="419" y="421"/>
                </a:moveTo>
                <a:cubicBezTo>
                  <a:pt x="419" y="431"/>
                  <a:pt x="415" y="440"/>
                  <a:pt x="408" y="447"/>
                </a:cubicBezTo>
                <a:cubicBezTo>
                  <a:pt x="400" y="454"/>
                  <a:pt x="391" y="458"/>
                  <a:pt x="381" y="458"/>
                </a:cubicBezTo>
                <a:cubicBezTo>
                  <a:pt x="370" y="458"/>
                  <a:pt x="361" y="454"/>
                  <a:pt x="353" y="446"/>
                </a:cubicBezTo>
                <a:cubicBezTo>
                  <a:pt x="344" y="437"/>
                  <a:pt x="340" y="428"/>
                  <a:pt x="340" y="417"/>
                </a:cubicBezTo>
                <a:cubicBezTo>
                  <a:pt x="340" y="394"/>
                  <a:pt x="353" y="382"/>
                  <a:pt x="378" y="382"/>
                </a:cubicBezTo>
                <a:cubicBezTo>
                  <a:pt x="390" y="382"/>
                  <a:pt x="399" y="386"/>
                  <a:pt x="407" y="393"/>
                </a:cubicBezTo>
                <a:cubicBezTo>
                  <a:pt x="415" y="400"/>
                  <a:pt x="419" y="409"/>
                  <a:pt x="419" y="421"/>
                </a:cubicBezTo>
                <a:close/>
                <a:moveTo>
                  <a:pt x="496" y="583"/>
                </a:moveTo>
                <a:cubicBezTo>
                  <a:pt x="496" y="597"/>
                  <a:pt x="490" y="610"/>
                  <a:pt x="479" y="620"/>
                </a:cubicBezTo>
                <a:cubicBezTo>
                  <a:pt x="469" y="631"/>
                  <a:pt x="456" y="636"/>
                  <a:pt x="442" y="636"/>
                </a:cubicBezTo>
                <a:cubicBezTo>
                  <a:pt x="427" y="636"/>
                  <a:pt x="414" y="631"/>
                  <a:pt x="404" y="620"/>
                </a:cubicBezTo>
                <a:cubicBezTo>
                  <a:pt x="393" y="610"/>
                  <a:pt x="388" y="597"/>
                  <a:pt x="388" y="582"/>
                </a:cubicBezTo>
                <a:cubicBezTo>
                  <a:pt x="388" y="567"/>
                  <a:pt x="393" y="555"/>
                  <a:pt x="404" y="545"/>
                </a:cubicBezTo>
                <a:cubicBezTo>
                  <a:pt x="414" y="535"/>
                  <a:pt x="426" y="531"/>
                  <a:pt x="441" y="531"/>
                </a:cubicBezTo>
                <a:cubicBezTo>
                  <a:pt x="455" y="531"/>
                  <a:pt x="468" y="535"/>
                  <a:pt x="479" y="545"/>
                </a:cubicBezTo>
                <a:cubicBezTo>
                  <a:pt x="490" y="555"/>
                  <a:pt x="496" y="568"/>
                  <a:pt x="496" y="583"/>
                </a:cubicBezTo>
                <a:close/>
                <a:moveTo>
                  <a:pt x="434" y="745"/>
                </a:moveTo>
                <a:cubicBezTo>
                  <a:pt x="434" y="727"/>
                  <a:pt x="441" y="712"/>
                  <a:pt x="453" y="699"/>
                </a:cubicBezTo>
                <a:cubicBezTo>
                  <a:pt x="465" y="687"/>
                  <a:pt x="480" y="681"/>
                  <a:pt x="498" y="681"/>
                </a:cubicBezTo>
                <a:cubicBezTo>
                  <a:pt x="515" y="681"/>
                  <a:pt x="530" y="687"/>
                  <a:pt x="542" y="699"/>
                </a:cubicBezTo>
                <a:cubicBezTo>
                  <a:pt x="555" y="712"/>
                  <a:pt x="561" y="727"/>
                  <a:pt x="561" y="745"/>
                </a:cubicBezTo>
                <a:cubicBezTo>
                  <a:pt x="561" y="762"/>
                  <a:pt x="555" y="776"/>
                  <a:pt x="542" y="789"/>
                </a:cubicBezTo>
                <a:cubicBezTo>
                  <a:pt x="530" y="802"/>
                  <a:pt x="515" y="808"/>
                  <a:pt x="498" y="808"/>
                </a:cubicBezTo>
                <a:cubicBezTo>
                  <a:pt x="480" y="808"/>
                  <a:pt x="465" y="802"/>
                  <a:pt x="453" y="789"/>
                </a:cubicBezTo>
                <a:cubicBezTo>
                  <a:pt x="441" y="776"/>
                  <a:pt x="434" y="762"/>
                  <a:pt x="434" y="745"/>
                </a:cubicBezTo>
                <a:close/>
              </a:path>
            </a:pathLst>
          </a:custGeom>
          <a:solidFill>
            <a:srgbClr val="e5d8a7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39640" y="2492280"/>
            <a:ext cx="73850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8000"/>
              </a:buClr>
              <a:buSzPct val="70000"/>
              <a:buFont typeface="Kompetenztest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00"/>
              </a:spcBef>
              <a:buClr>
                <a:srgbClr val="008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"/>
          <p:cNvSpPr/>
          <p:nvPr/>
        </p:nvSpPr>
        <p:spPr>
          <a:xfrm>
            <a:off x="101520" y="6419880"/>
            <a:ext cx="88632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d0bb64"/>
                </a:solidFill>
                <a:latin typeface="Trebuchet MS"/>
              </a:rPr>
              <a:t>Fachtagung EMSE, Berlin, 2006</a:t>
            </a:r>
            <a:r>
              <a:rPr b="1" lang="de-DE" sz="1200" spc="-1" strike="noStrike">
                <a:solidFill>
                  <a:srgbClr val="d0bb64"/>
                </a:solidFill>
                <a:latin typeface="Trebuchet MS"/>
              </a:rPr>
              <a:t>	</a:t>
            </a:r>
            <a:r>
              <a:rPr b="1" lang="de-DE" sz="1200" spc="-1" strike="noStrike">
                <a:solidFill>
                  <a:srgbClr val="d0bb64"/>
                </a:solidFill>
                <a:latin typeface="Trebuchet MS"/>
              </a:rPr>
              <a:t>	</a:t>
            </a:r>
            <a:r>
              <a:rPr b="1" lang="de-DE" sz="1200" spc="-1" strike="noStrike">
                <a:solidFill>
                  <a:srgbClr val="d0bb64"/>
                </a:solidFill>
                <a:latin typeface="Trebuchet MS"/>
              </a:rPr>
              <a:t>	</a:t>
            </a:r>
            <a:r>
              <a:rPr b="1" lang="de-DE" sz="1200" spc="-1" strike="noStrike">
                <a:solidFill>
                  <a:srgbClr val="d0bb64"/>
                </a:solidFill>
                <a:latin typeface="Trebuchet MS"/>
              </a:rPr>
              <a:t>	</a:t>
            </a:r>
            <a:r>
              <a:rPr b="1" lang="de-DE" sz="1200" spc="-1" strike="noStrike">
                <a:solidFill>
                  <a:srgbClr val="d0bb64"/>
                </a:solidFill>
                <a:latin typeface="Trebuchet MS"/>
              </a:rPr>
              <a:t>	</a:t>
            </a:r>
            <a:r>
              <a:rPr b="1" lang="de-DE" sz="1200" spc="-1" strike="noStrike">
                <a:solidFill>
                  <a:srgbClr val="d0bb64"/>
                </a:solidFill>
                <a:latin typeface="Trebuchet MS"/>
              </a:rPr>
              <a:t>	</a:t>
            </a:r>
            <a:r>
              <a:rPr b="1" lang="de-DE" sz="1200" spc="-1" strike="noStrike">
                <a:solidFill>
                  <a:srgbClr val="d0bb64"/>
                </a:solidFill>
                <a:latin typeface="Trebuchet MS"/>
              </a:rPr>
              <a:t>	</a:t>
            </a:r>
            <a:fld id="{5C7F476E-6441-468B-A342-3CFA7A462ED9}" type="slidenum">
              <a:rPr b="1" lang="de-DE" sz="1200" spc="-1" strike="noStrike">
                <a:solidFill>
                  <a:srgbClr val="d0bb64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123840" y="6342120"/>
            <a:ext cx="8964720" cy="0"/>
          </a:xfrm>
          <a:prstGeom prst="line">
            <a:avLst/>
          </a:prstGeom>
          <a:ln w="19080">
            <a:solidFill>
              <a:srgbClr val="d0b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920" y="1844640"/>
            <a:ext cx="7777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aire Vergleiche bei den Thüringer Kompetenztests </a:t>
            </a:r>
            <a:br>
              <a:rPr sz="3200"/>
            </a:br>
            <a:br>
              <a:rPr sz="1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640" y="3357360"/>
            <a:ext cx="79200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rebuchet MS"/>
              </a:rPr>
              <a:t>EMSE –Fachtagu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rebuchet MS"/>
              </a:rPr>
              <a:t>Berlin 7.12.2006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rebuchet MS"/>
              </a:rPr>
              <a:t>Christof Nachtigal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rebuchet MS"/>
              </a:rPr>
              <a:t>Universität Jena / Freie Universität Berli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7770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Konsequenzen (II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36165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26560" y="2420640"/>
            <a:ext cx="77756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Ziel:   Faire Schulvergleiche, d.h. Unterschiede kausal </a:t>
            </a: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als Effekte von Unterricht und Schule </a:t>
            </a: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interpretierba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Einbeziehung kausaltheoretischer Konzepte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- Durchschnittliche kausale Effek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- Konfundierende Variabl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(Rubin 1976, Steyer et al. 2002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"/>
          <p:cNvSpPr/>
          <p:nvPr/>
        </p:nvSpPr>
        <p:spPr>
          <a:xfrm>
            <a:off x="993600" y="4143240"/>
            <a:ext cx="554040" cy="293760"/>
          </a:xfrm>
          <a:prstGeom prst="rightArrow">
            <a:avLst>
              <a:gd name="adj1" fmla="val 50000"/>
              <a:gd name="adj2" fmla="val 47151"/>
            </a:avLst>
          </a:prstGeom>
          <a:solidFill>
            <a:srgbClr val="ff0000"/>
          </a:solidFill>
          <a:ln w="19080">
            <a:solidFill>
              <a:srgbClr val="d0b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9280" y="1483920"/>
            <a:ext cx="84250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rebuchet MS"/>
              </a:rPr>
              <a:t>Kriterien zur Bewertung von Adjustierungsmethod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1. Kausaltheoretische Fundieru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2. Praktikabilität (z.B. Erhebungsmöglichkeit, </a:t>
            </a: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Schätzalgorithmen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3. Rezepierbarkeit / Nutzen an Schulen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9640" y="5445000"/>
            <a:ext cx="5400720" cy="432000"/>
          </a:xfrm>
          <a:prstGeom prst="rect">
            <a:avLst/>
          </a:prstGeom>
          <a:solidFill>
            <a:srgbClr val="bbe0e3"/>
          </a:solidFill>
          <a:ln w="19080">
            <a:solidFill>
              <a:srgbClr val="d0b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39640" y="2492280"/>
            <a:ext cx="36165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539640" y="2362320"/>
          <a:ext cx="8317080" cy="374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362320"/>
                    <a:ext cx="8317080" cy="37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1115640" y="1044360"/>
            <a:ext cx="77770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. Kausaltheoretische Fundierung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2800"/>
            </a:br>
            <a:br>
              <a:rPr sz="1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Berechnung des durchschnittlichen kausalen Effekts durch Adjustierung hinsichtlich aller „Störvariablen“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39280" y="1484280"/>
            <a:ext cx="860436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70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. Praktikabilitä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704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04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reites Wissen über relevante Kontextmerkmale verfügbar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704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rhebung sehr aufwendi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z.B. Schüler-, Eltern und Lehrerfragebögen, nicht für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ollerhebungen im Routineeinsatz geeignet)</a:t>
            </a:r>
            <a:br>
              <a:rPr sz="2400"/>
            </a:br>
            <a:br>
              <a:rPr sz="1400"/>
            </a:b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704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Nu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 Praktikable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Annäherung an faire Vergleiche möglich und notwendig</a:t>
            </a:r>
            <a:br>
              <a:rPr sz="20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4076640"/>
            <a:ext cx="431640" cy="27000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ff0000"/>
          </a:solidFill>
          <a:ln w="19080">
            <a:solidFill>
              <a:srgbClr val="d0b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39280" y="1484280"/>
            <a:ext cx="860436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. Rezep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nditio sine qua non: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Erhebungen und Ergebnisrückmeldungen müssen von den Schulen als nützlich wahrgenommen wer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sp. aus 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Schuleiterinterviews: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Beklagt werden Mangel an:  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-711360">
              <a:lnSpc>
                <a:spcPct val="90000"/>
              </a:lnSpc>
              <a:buClr>
                <a:srgbClr val="000000"/>
              </a:buClr>
              <a:buSzPct val="7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Gesamtstrategie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-711360">
              <a:lnSpc>
                <a:spcPct val="90000"/>
              </a:lnSpc>
              <a:buClr>
                <a:srgbClr val="000000"/>
              </a:buClr>
              <a:buSzPct val="7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Nachhaltigkeit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-711360">
              <a:lnSpc>
                <a:spcPct val="90000"/>
              </a:lnSpc>
              <a:buClr>
                <a:srgbClr val="000000"/>
              </a:buClr>
              <a:buSzPct val="7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Praxisnähe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-711360">
              <a:lnSpc>
                <a:spcPct val="90000"/>
              </a:lnSpc>
              <a:buClr>
                <a:srgbClr val="000000"/>
              </a:buClr>
              <a:buSzPct val="7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(„…immer wieder werden neue Säue durchs Dorf getrieben“)</a:t>
            </a: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9280" y="1483920"/>
            <a:ext cx="86043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rebuchet MS"/>
              </a:rPr>
              <a:t>Typen von Adjustierungsmethoden (I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-711360">
              <a:buClr>
                <a:srgbClr val="000000"/>
              </a:buClr>
              <a:buSzPct val="70000"/>
              <a:buFont typeface="Trebuchet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Vergleiche mit (Sub-)Populationsmittelwert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Nachteile: Fairneßprobleme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Vorteile: Einfache Kommunizierbarkeit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Einfache Berechenbarkei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Relativ hohe Akzeptanz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9280" y="1483920"/>
            <a:ext cx="86043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ypen von Adjustierungsmethoden (II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I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ergleich mit „ähnlichen“ Klassen / Schul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eispiel: PIRLS/IGLU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orteile: Einfache Kommunizierbarkeit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ittlere Akzeptanz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achteil: Ergebnisse nicht notwendig ranginvaria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9280" y="1483920"/>
            <a:ext cx="86043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ypen von Adjustierungsmethoden (III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II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ergleiche mit Erwartungswert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ängige Praxis bei PISA, MARKUS, DESI, verschiedenen regionalen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Vergleichsarbeiten wie den Thüringer Kompetenztes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orteile: Kausaltheoretische Basi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achteile: Schwer zu Kommunizieren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nterschiedliche Modell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9280" y="1483920"/>
            <a:ext cx="86043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rebuchet MS"/>
              </a:rPr>
              <a:t>Typen von Adjustierungsmethoden (IV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IV.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Propensity  based matching und Gewichtu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(Zukunftsweisende ?) Kombination aus Strategie II und III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9280" y="1483920"/>
            <a:ext cx="86043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rebuchet MS"/>
              </a:rPr>
              <a:t>Beispiele für Adjustierungsmethode III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PISA: Lineares Regressionsmodell auf Schülereben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MARKUS: Lineares Regressionsmodell auf Klassenebene mit Kovariatenbereinigu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Thüringer Kompetenztests: Saturiertes Regressionsmodell auf Schülerebene (ANOVA-Typ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9640" y="1483920"/>
            <a:ext cx="79200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hal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SzPct val="7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blemfeld Schulleistungsuntersuchung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SzPct val="7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aire Schulvergleiche und kausale Effek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SzPct val="7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riterien für Adjustierungsmethoden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SzPct val="7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justierung bei den Thüringer Kompetenztes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9280" y="1483920"/>
            <a:ext cx="86043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djustierung bei den Thüringer Kompetenztests (I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dee des Vorgehen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Beispiel: In einer Klasse sind 40% Mädchen und 60% Jung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Vergleichswert wird berechnet aus: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- Landesmittelwert Mädchen  (gewichtet mit 40%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- Landesmittelwert Jungen     (gewichtet mit 60%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9280" y="1483920"/>
            <a:ext cx="86043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Verfahren wird für alle Kombinationen von (diskreten) Kontextvariablen durchgefüh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- Geschlech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- Schula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- SES (operationalisiert über Bücherfrage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- Muttersprach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- Klassenwiederhol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- Besondere Lernschwierigkeiten / Sonderpädagogischer Förderbedarf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5715000" cy="5178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248520" y="2857680"/>
            <a:ext cx="2644560" cy="307080"/>
          </a:xfrm>
          <a:prstGeom prst="rect">
            <a:avLst/>
          </a:prstGeom>
          <a:solidFill>
            <a:srgbClr val="f4efc6"/>
          </a:solidFill>
          <a:ln w="25560">
            <a:solidFill>
              <a:srgbClr val="2a9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ul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2209680"/>
            <a:ext cx="2230560" cy="70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rebuchet MS"/>
              </a:rPr>
              <a:t>KLassenergeb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86400" y="2209680"/>
            <a:ext cx="243828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Vergleichsw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4581360"/>
            <a:ext cx="2644560" cy="307080"/>
          </a:xfrm>
          <a:prstGeom prst="rect">
            <a:avLst/>
          </a:prstGeom>
          <a:solidFill>
            <a:srgbClr val="f4efc6"/>
          </a:solidFill>
          <a:ln w="25560">
            <a:solidFill>
              <a:srgbClr val="2a9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hre des Schulbesuc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27640" y="4149720"/>
            <a:ext cx="2644920" cy="307080"/>
          </a:xfrm>
          <a:prstGeom prst="rect">
            <a:avLst/>
          </a:prstGeom>
          <a:solidFill>
            <a:srgbClr val="f4efc6"/>
          </a:solidFill>
          <a:ln w="25560">
            <a:solidFill>
              <a:srgbClr val="2a9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tterspr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3284640"/>
            <a:ext cx="2644560" cy="307080"/>
          </a:xfrm>
          <a:prstGeom prst="rect">
            <a:avLst/>
          </a:prstGeom>
          <a:solidFill>
            <a:srgbClr val="f4efc6"/>
          </a:solidFill>
          <a:ln w="25560">
            <a:solidFill>
              <a:srgbClr val="2a9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ozio-ökonomischer 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48520" y="3716280"/>
            <a:ext cx="2644560" cy="307080"/>
          </a:xfrm>
          <a:prstGeom prst="rect">
            <a:avLst/>
          </a:prstGeom>
          <a:solidFill>
            <a:srgbClr val="f4efc6"/>
          </a:solidFill>
          <a:ln w="25560">
            <a:solidFill>
              <a:srgbClr val="2a9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schlec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5013360"/>
            <a:ext cx="2644560" cy="307080"/>
          </a:xfrm>
          <a:prstGeom prst="rect">
            <a:avLst/>
          </a:prstGeom>
          <a:solidFill>
            <a:srgbClr val="f4efc6"/>
          </a:solidFill>
          <a:ln w="25560">
            <a:solidFill>
              <a:srgbClr val="2a9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esond. Lernschwierigk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62520" y="1295280"/>
            <a:ext cx="144756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Differ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67160" y="2662560"/>
            <a:ext cx="915840" cy="1023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050800" y="2700720"/>
            <a:ext cx="1145160" cy="72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190512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227640" y="2781000"/>
            <a:ext cx="2737080" cy="2592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6360" y="2852640"/>
            <a:ext cx="2736720" cy="2521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500"/>
                            </p:stCondLst>
                            <p:childTnLst>
                              <p:par>
                                <p:cTn id="5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500"/>
                            </p:stCondLst>
                            <p:childTnLst>
                              <p:par>
                                <p:cTn id="5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9280" y="1483920"/>
            <a:ext cx="86043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89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djustierung bei den Thüringer Kompetenztests (III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89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68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8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Varianzaufklärung durch berücksichtigte Kontextmerkmale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68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8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utsch: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²=.24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8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thematik: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²=.20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8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8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(Klasse 6, auf Schülerebene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8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hne das Merkmal Schulart, sonst R²=.40 bzw. .43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8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39280" y="1484280"/>
            <a:ext cx="86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69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rebuchet MS"/>
              </a:rPr>
              <a:t>Adjustierung bei den Thüringer Kompetenztests (II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9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696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Vor- und Nachteile des Verfahre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96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96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Kausaltheoretische Fundieru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96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Präzision durch Kontextbedingungen auf Schülereben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96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rebuchet MS"/>
            </a:endParaRPr>
          </a:p>
          <a:p>
            <a:pPr marL="696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Einbeziehung aller Interaktionen (auf Variablenebene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96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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Fortbildungsbedarf bei den Adressaten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96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rebuchet MS"/>
            </a:endParaRPr>
          </a:p>
          <a:p>
            <a:pPr marL="696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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Verfahren von PISA liefert sehr ähnliche Ergebnis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96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rebuchet MS"/>
            </a:endParaRPr>
          </a:p>
          <a:p>
            <a:pPr marL="696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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(K)eine Restriktion auf diskrete Variabl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96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rebuchet MS"/>
            </a:endParaRPr>
          </a:p>
          <a:p>
            <a:pPr marL="696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Erfordert Daten auf Schülerebene (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Datenschutzprobleme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96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rebuchet MS"/>
            </a:endParaRPr>
          </a:p>
          <a:p>
            <a:pPr marL="696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Nur angenäherte Fairness praktisch möglich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96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→ Vorwissen entscheidender Fairnessfaktor)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96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96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1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1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1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1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9280" y="1483920"/>
            <a:ext cx="8604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rebuchet MS"/>
              </a:rPr>
              <a:t>Zusammenfassung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Adjustierung bei Thüringer Kompetenztests is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- eine pragmatische Lösu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- kausaltheoretisch fundie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- unter bestimmten Rahmenbedingungen praktikabel, effizient und      gut rezipierbar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Wissenschaftlicher gesicherte vergleichende Bewertung der verschiedenen Adjustierungsverfahren steht noch au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920" y="1844640"/>
            <a:ext cx="7777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aire Vergleiche bei den Thüringer Kompetenztests </a:t>
            </a:r>
            <a:br>
              <a:rPr sz="3200"/>
            </a:br>
            <a:br>
              <a:rPr sz="1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640" y="3357360"/>
            <a:ext cx="79200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rebuchet MS"/>
              </a:rPr>
              <a:t>EMSE – Fachtagu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rebuchet MS"/>
              </a:rPr>
              <a:t>Berlin 7.12.2006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rebuchet MS"/>
              </a:rPr>
              <a:t>Christof Nachtigal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rebuchet MS"/>
              </a:rPr>
              <a:t>Universität Jena / Freie Universität Berli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1483920"/>
            <a:ext cx="79200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oblemfeld Schulleistungsuntersuchung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Wird die Leistung der Schule oder der Schüler gemessen?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8000"/>
              </a:buClr>
              <a:buSzPct val="7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t: 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essung von Schülerleistung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8000"/>
              </a:buClr>
              <a:buSzPct val="7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oll: Aussagen über die Effekte von Schule und Unterricht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sollen ableitbar sei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aire Vergleiche notwendig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"/>
          <p:cNvSpPr/>
          <p:nvPr/>
        </p:nvSpPr>
        <p:spPr>
          <a:xfrm>
            <a:off x="938160" y="4437000"/>
            <a:ext cx="503280" cy="287280"/>
          </a:xfrm>
          <a:prstGeom prst="rightArrow">
            <a:avLst>
              <a:gd name="adj1" fmla="val 50000"/>
              <a:gd name="adj2" fmla="val 43797"/>
            </a:avLst>
          </a:prstGeom>
          <a:solidFill>
            <a:srgbClr val="ff0000"/>
          </a:solidFill>
          <a:ln w="19080">
            <a:solidFill>
              <a:srgbClr val="d0b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9640" y="1483920"/>
            <a:ext cx="79200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airness als Testgütekriterium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Ein Test (oder Item) ist fair, wenn sein Ergebnis nur systematisch von der zu messenden Größe beeinflusst wird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chlechtes Beispiel (aus ‚Wer wird Millionär‘):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Wer begleitet Edmund Hillary bei der Erstbesteigung auf den Gipfel des Mount Everest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tem ungeeignet für ‚Weltwissenstest‘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4683240"/>
            <a:ext cx="503280" cy="287280"/>
          </a:xfrm>
          <a:prstGeom prst="rightArrow">
            <a:avLst>
              <a:gd name="adj1" fmla="val 50000"/>
              <a:gd name="adj2" fmla="val 43797"/>
            </a:avLst>
          </a:prstGeom>
          <a:solidFill>
            <a:srgbClr val="ff0000"/>
          </a:solidFill>
          <a:ln w="19080">
            <a:solidFill>
              <a:srgbClr val="d0b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9640" y="1483920"/>
            <a:ext cx="79200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airness als Testgütekriterium (II)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m Kontext Schulleistungsuntersuchungen: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Soll die Wirkung von Schule und Unterricht gemessen werden, so dürfen die Testwerte nur systematisch durch diese Größe beeinflusst werden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airness liefert kausale Interpretierbarkei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149720"/>
            <a:ext cx="503280" cy="287280"/>
          </a:xfrm>
          <a:prstGeom prst="rightArrow">
            <a:avLst>
              <a:gd name="adj1" fmla="val 50000"/>
              <a:gd name="adj2" fmla="val 43797"/>
            </a:avLst>
          </a:prstGeom>
          <a:solidFill>
            <a:srgbClr val="ff0000"/>
          </a:solidFill>
          <a:ln w="19080">
            <a:solidFill>
              <a:srgbClr val="d0b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6560" y="907920"/>
            <a:ext cx="7777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Zum Problem fairer Vergleich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36165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4000" y="1859040"/>
          <a:ext cx="8316720" cy="374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59040"/>
                    <a:ext cx="8316720" cy="37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7770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ie „vollständigen“ Daten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36165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89040" y="1814400"/>
          <a:ext cx="8316720" cy="374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814400"/>
                    <a:ext cx="8316720" cy="37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7770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Konsequenzen (I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36165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99640" y="2492280"/>
            <a:ext cx="77756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aive Vergleiche können völlig unfair sei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nur Vergleichbares vergleichen: Adjustierung 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notwendig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"/>
          <p:cNvSpPr/>
          <p:nvPr/>
        </p:nvSpPr>
        <p:spPr>
          <a:xfrm>
            <a:off x="1076400" y="3024360"/>
            <a:ext cx="554040" cy="293400"/>
          </a:xfrm>
          <a:prstGeom prst="rightArrow">
            <a:avLst>
              <a:gd name="adj1" fmla="val 50000"/>
              <a:gd name="adj2" fmla="val 47209"/>
            </a:avLst>
          </a:prstGeom>
          <a:solidFill>
            <a:srgbClr val="ff0000"/>
          </a:solidFill>
          <a:ln w="19080">
            <a:solidFill>
              <a:srgbClr val="d0b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236000" y="2421000"/>
            <a:ext cx="936360" cy="107928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d0b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7770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airness durch Adjustierung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36165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96960" y="1819440"/>
          <a:ext cx="8316720" cy="375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6960" y="1819440"/>
                    <a:ext cx="8316720" cy="37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4T09:03:41Z</dcterms:created>
  <dc:creator>Fiedler</dc:creator>
  <dc:description/>
  <dc:language>en-US</dc:language>
  <cp:lastModifiedBy>Christiane Roks</cp:lastModifiedBy>
  <dcterms:modified xsi:type="dcterms:W3CDTF">2006-12-18T12:50:54Z</dcterms:modified>
  <cp:revision>149</cp:revision>
  <dc:subject/>
  <dc:title>Folie 1</dc:title>
</cp:coreProperties>
</file>