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13.wmf" ContentType="image/x-wmf"/>
  <Override PartName="/ppt/media/image8.wmf" ContentType="image/x-wmf"/>
  <Override PartName="/ppt/media/image18.jpeg" ContentType="image/jpeg"/>
  <Override PartName="/ppt/media/image16.wmf" ContentType="image/x-wmf"/>
  <Override PartName="/ppt/media/image10.wmf" ContentType="image/x-wmf"/>
  <Override PartName="/ppt/media/image4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FD66-A70F-45BB-875D-EF66D9CDE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C0EF-8708-4F26-BA02-128A0C37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60FF-4CCE-4931-8076-3988F790C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4ABB-387F-4187-BAD1-9C10D5A26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CE82-8470-43F5-BEA3-19B0D674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EA2F-FD7A-4672-8BC8-236DABE5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C565-E398-4C50-9A79-BE4AAC9B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A254-D31B-47D1-A8CB-976D1B8F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9E89-6EC1-401F-813D-E5D92293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B5CD-919F-4A8C-A5ED-4956E7F8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FE0C-B0B2-4F34-A221-F605B41D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04A9-BDD9-4EED-B159-2960C9F9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3A6F-48E0-4765-AC48-B95942C33F5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package" Target="../embeddings/oleObject1.xlsx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2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16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package" Target="../embeddings/oleObject1.xlsx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package" Target="../embeddings/oleObject1.xlsx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62120" y="55990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574560" y="533520"/>
            <a:ext cx="293076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4000" y="191628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Normierung der Bildungs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Stand und Perspektiven für 2007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Bericht aus dem IQ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877080" y="1440"/>
            <a:ext cx="2232000" cy="1468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747680" y="4821120"/>
            <a:ext cx="4083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a50021"/>
                </a:solidFill>
                <a:latin typeface="Verdana"/>
              </a:rPr>
              <a:t>Prof. Dr. Olaf Kö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a50021"/>
                </a:solidFill>
                <a:latin typeface="Verdana"/>
              </a:rPr>
              <a:t>Humboldt-Universität zu Ber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a50021"/>
                </a:solidFill>
                <a:latin typeface="Verdana"/>
              </a:rPr>
              <a:t>Institut zur Qualitätsentwick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a50021"/>
                </a:solidFill>
                <a:latin typeface="Verdana"/>
              </a:rPr>
              <a:t>im Bildungswe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Verdana"/>
              </a:rPr>
              <a:t>iqboffice@iqb.hu-berlin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Verdana"/>
              </a:rPr>
              <a:t>www.iqb.hu-berlin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252360" y="0"/>
            <a:ext cx="7777080" cy="16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90000" tIns="3600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Erste vorläufige IRT-Analy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Conquest-Lauf zur Leitidee Muster und Struk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79280" y="2133720"/>
            <a:ext cx="856944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116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94 Items mit akzeptablen Fit (infit &lt; 1.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a50021"/>
                </a:solidFill>
                <a:latin typeface="Verdana"/>
              </a:rPr>
              <a:t>N</a:t>
            </a: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 = 56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Bestimmung v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Itemschwierigkeiten (logits; </a:t>
            </a:r>
            <a:r>
              <a:rPr b="1" i="1" lang="de-DE" sz="1800" spc="-1" strike="noStrike">
                <a:solidFill>
                  <a:srgbClr val="a50021"/>
                </a:solidFill>
                <a:latin typeface="Verdana"/>
              </a:rPr>
              <a:t>M</a:t>
            </a: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 =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Warm-Estimates für die Personen (</a:t>
            </a:r>
            <a:r>
              <a:rPr b="1" i="1" lang="de-DE" sz="1800" spc="-1" strike="noStrike">
                <a:solidFill>
                  <a:srgbClr val="a50021"/>
                </a:solidFill>
                <a:latin typeface="Verdana"/>
              </a:rPr>
              <a:t>M</a:t>
            </a: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 = -0.9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22880" y="2050920"/>
            <a:ext cx="344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Itemschwierigkeiten: </a:t>
            </a:r>
            <a:r>
              <a:rPr b="0" i="1" lang="en-US" sz="2000" spc="-1" strike="noStrike">
                <a:solidFill>
                  <a:srgbClr val="a50021"/>
                </a:solidFill>
                <a:latin typeface="Verdana"/>
              </a:rPr>
              <a:t>M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 =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-252360" y="0"/>
            <a:ext cx="7777080" cy="16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90000" tIns="3600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Erste vorläufige IRT-Analy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Conquest-Lauf zur Leitidee Muster und Struk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55640" y="2708280"/>
          <a:ext cx="7345440" cy="40338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5640" y="2708280"/>
                    <a:ext cx="7345440" cy="40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758960" y="1260360"/>
            <a:ext cx="5624640" cy="5624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252360" y="-316080"/>
            <a:ext cx="7777080" cy="11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90000" tIns="3600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Verdana"/>
              </a:rPr>
              <a:t>Conquest-Lauf zur Leitidee Muster und Struktur; Verteilung der Schülerfähig-k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V="1">
            <a:off x="4067280" y="2204640"/>
            <a:ext cx="0" cy="410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492360" y="2204640"/>
            <a:ext cx="0" cy="410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-252360" y="219240"/>
            <a:ext cx="77770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90000" tIns="3600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Fazit der ersten Analy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79280" y="2408400"/>
            <a:ext cx="856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Hoffnungsvolle Befu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Gute Reliabilitä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Guter Itemf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Genügend leichte Item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-252360" y="219240"/>
            <a:ext cx="77770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90000" tIns="3600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Nächste Schri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79280" y="2408400"/>
            <a:ext cx="856944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Weitere IRT-Analy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DIF-Analy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3. vs. 4. Jahrgangsstu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Jungen vs. Mädc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Migranten vs. Nicht-Migran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Starke vs. schwache Lä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Dimensionsanaly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Itemselektion auf der Basis der IRT- und DIF-Analy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-252360" y="0"/>
            <a:ext cx="77770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90000" tIns="3600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Ausblick: Normierung 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Aufgaben in TIMSS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79280" y="2408400"/>
            <a:ext cx="8569440" cy="24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3. und 4. Jahrgangsstu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Verlinkung mit TIMSS-Aufga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Stichprobe: 250 Schulen, aus denen jeweils eine 3. und eine 4. Klasse gezogen wi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Zusätzlich: 32 4. Klassen aus Schulen mit hohem Migrantenante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252360" y="0"/>
            <a:ext cx="77770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90000" tIns="3600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Akzeptanz der Bildungstandar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in deutschen Grundschu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5280" y="1836720"/>
            <a:ext cx="840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a50021"/>
                </a:solidFill>
                <a:latin typeface="Verdana"/>
              </a:rPr>
              <a:t>Typische Profile der Auseinandersetzung mit einer Innovation (SoC-Pro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rcRect l="4042" t="0" r="51341" b="17224"/>
          <a:stretch/>
        </p:blipFill>
        <p:spPr>
          <a:xfrm>
            <a:off x="647640" y="3502080"/>
            <a:ext cx="2384640" cy="1900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rcRect l="57282" t="0" r="0" b="17224"/>
          <a:stretch/>
        </p:blipFill>
        <p:spPr>
          <a:xfrm>
            <a:off x="3384720" y="3502080"/>
            <a:ext cx="2282760" cy="1900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rcRect l="7486" t="0" r="0" b="17224"/>
          <a:stretch/>
        </p:blipFill>
        <p:spPr>
          <a:xfrm>
            <a:off x="5977080" y="3502080"/>
            <a:ext cx="2238120" cy="1900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13160" y="5337000"/>
            <a:ext cx="2207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627120"/>
                <a:tab algn="l" pos="900000"/>
                <a:tab algn="l" pos="1160640"/>
                <a:tab algn="l" pos="143352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a50021"/>
                </a:solidFill>
                <a:latin typeface="Arial"/>
              </a:rPr>
              <a:t>0    1    2    3    4    5    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627120"/>
                <a:tab algn="l" pos="900000"/>
                <a:tab algn="l" pos="1160640"/>
                <a:tab algn="l" pos="143352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a50021"/>
                </a:solidFill>
                <a:latin typeface="Arial"/>
              </a:rPr>
              <a:t>SoC-Stuf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45200" y="5337000"/>
            <a:ext cx="2207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627120"/>
                <a:tab algn="l" pos="900000"/>
                <a:tab algn="l" pos="1160640"/>
                <a:tab algn="l" pos="143352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a50021"/>
                </a:solidFill>
                <a:latin typeface="Arial"/>
              </a:rPr>
              <a:t>0    1    2    3    4    5    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627120"/>
                <a:tab algn="l" pos="900000"/>
                <a:tab algn="l" pos="1160640"/>
                <a:tab algn="l" pos="143352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a50021"/>
                </a:solidFill>
                <a:latin typeface="Arial"/>
              </a:rPr>
              <a:t>SoC-Stuf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01200" y="5337000"/>
            <a:ext cx="2207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627120"/>
                <a:tab algn="l" pos="900000"/>
                <a:tab algn="l" pos="1160640"/>
                <a:tab algn="l" pos="143352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a50021"/>
                </a:solidFill>
                <a:latin typeface="Arial"/>
              </a:rPr>
              <a:t>0    1    2    3    4    5    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627120"/>
                <a:tab algn="l" pos="900000"/>
                <a:tab algn="l" pos="1160640"/>
                <a:tab algn="l" pos="143352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a50021"/>
                </a:solidFill>
                <a:latin typeface="Arial"/>
              </a:rPr>
              <a:t>SoC-Stuf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7480" y="5942160"/>
            <a:ext cx="475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Verdana"/>
              </a:rPr>
              <a:t>0 - Kein oder geringes Bewusstse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Verdana"/>
              </a:rPr>
              <a:t>1 - Fokus Information </a:t>
            </a:r>
            <a:r>
              <a:rPr b="0" lang="en-US" sz="1400" spc="-1" strike="noStrike">
                <a:solidFill>
                  <a:srgbClr val="a50021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a50021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Verdana"/>
              </a:rPr>
              <a:t>2 - Fokus persönliche Betroffenh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Verdana"/>
              </a:rPr>
              <a:t>3 – Fokus Aufgaben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17840" y="5942160"/>
            <a:ext cx="403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Verdana"/>
              </a:rPr>
              <a:t>4 - Fokus Auswirkungen auf Lerne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Verdana"/>
              </a:rPr>
              <a:t>5 – Fokus Kooperationsmöglichkei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Verdana"/>
              </a:rPr>
              <a:t>6 – Fokus Revision/ Optimie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-252360" y="0"/>
            <a:ext cx="77770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90000" tIns="3600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Akzeptanz der Bildungstandar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Befu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rcRect l="7486" t="0" r="0" b="17286"/>
          <a:stretch/>
        </p:blipFill>
        <p:spPr>
          <a:xfrm>
            <a:off x="5435640" y="3546360"/>
            <a:ext cx="2419200" cy="18986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076720" y="1628640"/>
            <a:ext cx="3888000" cy="15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=1068 Grundschullehrerinnen und -leh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3720" y="5907240"/>
            <a:ext cx="3860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Verdana"/>
              </a:rPr>
              <a:t>0 - Kein oder geringes Bewusstse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Verdana"/>
              </a:rPr>
              <a:t>1 - Fokus Information </a:t>
            </a:r>
            <a:r>
              <a:rPr b="0" lang="en-US" sz="1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Verdana"/>
              </a:rPr>
              <a:t>2 - Fokus persönliche Betroffenh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Verdana"/>
              </a:rPr>
              <a:t>3 – Fokus Aufgaben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59280" y="5907240"/>
            <a:ext cx="403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Verdana"/>
              </a:rPr>
              <a:t>4 - Fokus Auswirkungen auf Lerne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Verdana"/>
              </a:rPr>
              <a:t>5 – Fokus Kooperationsmöglichkei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Verdana"/>
              </a:rPr>
              <a:t>6 – Fokus Revision/ Optimie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395280" y="1341360"/>
            <a:ext cx="4608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-252360" y="0"/>
            <a:ext cx="7777080" cy="15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90000" tIns="3600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Akzeptanz der Bildungstandar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50021"/>
                </a:solidFill>
                <a:latin typeface="Verdana"/>
              </a:rPr>
              <a:t>Clusterprofile für SoC Skalenmittel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50021"/>
                </a:solidFill>
                <a:latin typeface="Verdana"/>
              </a:rPr>
              <a:t>werte (N=106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150920" y="5726160"/>
            <a:ext cx="475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Verdana"/>
              </a:rPr>
              <a:t>0 - Kein oder geringes Bewusstse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Verdana"/>
              </a:rPr>
              <a:t>1 - Fokus Information </a:t>
            </a:r>
            <a:r>
              <a:rPr b="0" lang="en-US" sz="1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Verdana"/>
              </a:rPr>
              <a:t>2 - Fokus persönliche Betroffenh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Verdana"/>
              </a:rPr>
              <a:t>3 – Fokus Aufgaben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51280" y="5726160"/>
            <a:ext cx="403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Verdana"/>
              </a:rPr>
              <a:t>4 - Fokus Auswirkungen auf Lerne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Verdana"/>
              </a:rPr>
              <a:t>5 – Fokus Kooperationsmöglichkei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Verdana"/>
              </a:rPr>
              <a:t>6 – Fokus Revision/ Optimie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900000" y="1631880"/>
            <a:ext cx="6301080" cy="4145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rcRect l="7486" t="0" r="0" b="17286"/>
          <a:stretch/>
        </p:blipFill>
        <p:spPr>
          <a:xfrm>
            <a:off x="6443640" y="1197000"/>
            <a:ext cx="241920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95280" y="549360"/>
            <a:ext cx="654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  <a:ea typeface="Times New Roman"/>
              </a:rPr>
              <a:t>Arbeitsstand und Planung für die Sekundarstufe I: Über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25440" y="2570040"/>
          <a:ext cx="8567640" cy="3946680"/>
        </p:xfrm>
        <a:graphic>
          <a:graphicData uri="http://schemas.openxmlformats.org/drawingml/2006/table">
            <a:tbl>
              <a:tblPr/>
              <a:tblGrid>
                <a:gridCol w="2467080"/>
                <a:gridCol w="2543040"/>
                <a:gridCol w="1900440"/>
                <a:gridCol w="1657080"/>
              </a:tblGrid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Fa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Deuts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Aufgaben-entwickl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Pilotier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Normie-r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Mathemat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Normierung 9. J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(PISA-Konsort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Nachnor-mierung 8. und 10. J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1. Fremdspr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Aufgabenent-wickl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Pilotier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Normie-r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Naturwissen-schaf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Aufgaben-entwickl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4574520" y="196380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Ja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605720" y="5381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74560" y="533520"/>
            <a:ext cx="2930760" cy="1334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4000" y="1844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Über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2711520"/>
            <a:ext cx="8569440" cy="25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Arbeitsstand und Ausblick in der Grundsch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Akzeptanz der Bildungsstandards in der Grundsch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Arbeitsstand und Ausblick in der Sekundarstufe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Arbeitsstand im Bereich der Illustration und Implementation der Bildungs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Arbeitsstand Technology-based 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95280" y="333360"/>
            <a:ext cx="6545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  <a:ea typeface="Times New Roman"/>
              </a:rPr>
              <a:t>Arbeitsstand und Planung für die Sekundarstufe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  <a:ea typeface="Times New Roman"/>
              </a:rPr>
              <a:t>Agenda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1989000"/>
            <a:ext cx="8569440" cy="44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1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Nachnormierung Mathematik Sekundarstufe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1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Ende April bis Anfang Ju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1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200 – 250 Aufgaben für die 8. und 10. J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1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a50021"/>
                </a:solidFill>
                <a:latin typeface="Verdana"/>
              </a:rPr>
              <a:t>N</a:t>
            </a: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 ~ 5.000 (200 Schulen) aus 8., 9. und 10. Klas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1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Pilotierung Englisch und Französis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1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Ende April bis Anfang Ju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1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Jeweils ca. 450 Items aus den Bereichen Lesen, Hören und Schreiben für die 8./9. Jg. (HS) und 9./10. Jg. (MS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1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a50021"/>
                </a:solidFill>
                <a:latin typeface="Verdana"/>
              </a:rPr>
              <a:t>N</a:t>
            </a: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 ~ 3.000 (120 Schul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1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Deutsch: Aufgabenentwicklung und Präpilotier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1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Naturwissenschaften: Vorbereitung der Aufgabenent-wicklung und ersten Aufgabengenerier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50920" y="39528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50021"/>
                </a:solidFill>
                <a:latin typeface="Verdana"/>
              </a:rPr>
              <a:t>Arbeitsstand im Bereich 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50021"/>
                </a:solidFill>
                <a:latin typeface="Verdana"/>
              </a:rPr>
              <a:t>Implementation: Handbücher zum kompetenzorientierten Unterr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9280" y="2408400"/>
            <a:ext cx="8569440" cy="34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Mathematik Sekundarstufe I: Reader im Herbst 2006 erschienen (Blum u. a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Mathematik Grundschule: Herbst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Deutsch Grundschule: Frühjahr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Französisch: Herbst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Englisch: o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Deutsch: off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Naturwissenschaften: o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79280" y="404640"/>
            <a:ext cx="82296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990000"/>
                </a:solidFill>
                <a:latin typeface="Verdana"/>
              </a:rPr>
              <a:t>Arbeitsstand Technology-based Assess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0920" y="2205000"/>
            <a:ext cx="8066160" cy="28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5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Entwicklung eines Itembanking-Systems weitgehend abgeschloss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05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Seit September 2006: W2-Professur (S) für Technology-based Assessment and 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05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Vorbereitung einer Forschungs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05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Schwerpunkt in 2007: Machbarkeitsstudien in Hinblick auf Computer-based Assessment in der Grundschule (Mathematik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1752480"/>
            <a:ext cx="327672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90000" tIns="288000" bIns="46800" anchor="t">
            <a:spAutoFit/>
          </a:bodyPr>
          <a:p>
            <a:pPr marL="18900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999999"/>
                </a:solidFill>
                <a:latin typeface="MetaBoldLF-Caps"/>
                <a:ea typeface="Arial"/>
              </a:rPr>
              <a:t>Telefon</a:t>
            </a:r>
            <a:r>
              <a:rPr b="0" lang="de-DE" sz="1100" spc="-1" strike="noStrike">
                <a:solidFill>
                  <a:srgbClr val="666666"/>
                </a:solidFill>
                <a:latin typeface="MetaBoldLF-Caps"/>
                <a:ea typeface="Arial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Arial"/>
              </a:rPr>
              <a:t> +49[30]2093-533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999999"/>
                </a:solidFill>
                <a:latin typeface="MetaBoldLF-Caps"/>
                <a:ea typeface="Arial"/>
              </a:rPr>
              <a:t>Telefax</a:t>
            </a:r>
            <a:r>
              <a:rPr b="0" lang="de-DE" sz="1100" spc="-1" strike="noStrike">
                <a:solidFill>
                  <a:srgbClr val="000000"/>
                </a:solidFill>
                <a:latin typeface="MetaBoldLF-Caps"/>
                <a:ea typeface="Arial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Arial"/>
              </a:rPr>
              <a:t>  +49[30]2093-533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Arial"/>
              </a:rPr>
              <a:t>IQBoffice@IQB.hu-berlin.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Times New Roman"/>
              </a:rPr>
              <a:t>www.IQB.hu-berlin.de</a:t>
            </a:r>
            <a:r>
              <a:rPr b="0" lang="de-DE" sz="1600" spc="-1" strike="noStrike">
                <a:solidFill>
                  <a:srgbClr val="000000"/>
                </a:solidFill>
                <a:latin typeface="MetaBook-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999999"/>
                </a:solidFill>
                <a:latin typeface="MetaBoldLF-Caps"/>
                <a:ea typeface="Arial"/>
              </a:rPr>
              <a:t>P</a:t>
            </a:r>
            <a:r>
              <a:rPr b="1" lang="en-US" sz="1100" spc="-1" strike="noStrike">
                <a:solidFill>
                  <a:srgbClr val="999999"/>
                </a:solidFill>
                <a:latin typeface="MetaBoldLF-Caps"/>
                <a:ea typeface="Arial"/>
              </a:rPr>
              <a:t>ostadres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Times New Roman"/>
              </a:rPr>
              <a:t>Humboldt-Universität zu Berl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Times New Roman"/>
              </a:rPr>
              <a:t>Unter den Linden 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Times New Roman"/>
              </a:rPr>
              <a:t>10099 Berl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999999"/>
                </a:solidFill>
                <a:latin typeface="MetaBoldLF-Caps"/>
                <a:ea typeface="Arial"/>
              </a:rPr>
              <a:t>Sit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Times New Roman"/>
              </a:rPr>
              <a:t>Jägerstraße 10- 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Times New Roman"/>
              </a:rPr>
              <a:t>10117 Berl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74560" y="533520"/>
            <a:ext cx="2930760" cy="13348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638680" y="5867280"/>
            <a:ext cx="350532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288000" tIns="288000" bIns="46800" anchor="t">
            <a:spAutoFit/>
          </a:bodyPr>
          <a:p>
            <a:pPr marL="189000">
              <a:lnSpc>
                <a:spcPct val="100000"/>
              </a:lnSpc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99999"/>
                </a:solidFill>
                <a:latin typeface="MetaBoldLF-Caps"/>
                <a:ea typeface="Arial"/>
              </a:rPr>
              <a:t>Ansprechpartner -&gt;</a:t>
            </a:r>
            <a:r>
              <a:rPr b="1" lang="en-US" sz="1100" spc="-1" strike="noStrike">
                <a:solidFill>
                  <a:srgbClr val="999999"/>
                </a:solidFill>
                <a:latin typeface="MetaBoldLF-Caps"/>
                <a:ea typeface="Arial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MetaBold-Roman"/>
                <a:ea typeface="Times New Roman"/>
              </a:rPr>
              <a:t>Prof. Dr. Olaf Köll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Bold-Roman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MetaBook-Roman"/>
                <a:ea typeface="Times New Roman"/>
              </a:rPr>
              <a:t>Direk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685800" y="3772080"/>
            <a:ext cx="1676520" cy="531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685800" y="3200400"/>
            <a:ext cx="2895480" cy="5716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825440" y="4643280"/>
            <a:ext cx="410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Vielen Dank fü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Ihre Aufmerksamkei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181080" y="0"/>
            <a:ext cx="7086600" cy="16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90000" tIns="360000" bIns="46800" anchor="t">
            <a:spAutoFit/>
          </a:bodyPr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Stand der Arbeiten in 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Grundschule: Über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04640" y="4062240"/>
            <a:ext cx="8748720" cy="576360"/>
          </a:xfrm>
          <a:prstGeom prst="rightArrow">
            <a:avLst>
              <a:gd name="adj1" fmla="val 50000"/>
              <a:gd name="adj2" fmla="val 379482"/>
            </a:avLst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1080" y="5254560"/>
            <a:ext cx="2344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Juli 2005 b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Januar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Entwicklung v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ca. 900 Deutsch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und 900 Mathematik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aufgab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94040" y="3559320"/>
            <a:ext cx="0" cy="647640"/>
          </a:xfrm>
          <a:prstGeom prst="line">
            <a:avLst/>
          </a:prstGeom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44520" y="2000160"/>
            <a:ext cx="1707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April bis Jun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Pilotierung 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Aufgaben i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Rahmen v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PIRLS/IGL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69480" y="5240160"/>
            <a:ext cx="1821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Frühjahr 2007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Normierung 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Aufgab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48560" y="5238720"/>
            <a:ext cx="1873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Frühjahr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Ländervergle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auf der Basis 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79640" y="4510080"/>
            <a:ext cx="0" cy="647640"/>
          </a:xfrm>
          <a:prstGeom prst="line">
            <a:avLst/>
          </a:prstGeom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71920" y="4510080"/>
            <a:ext cx="0" cy="647640"/>
          </a:xfrm>
          <a:prstGeom prst="line">
            <a:avLst/>
          </a:prstGeom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58040" y="4510080"/>
            <a:ext cx="0" cy="647640"/>
          </a:xfrm>
          <a:prstGeom prst="line">
            <a:avLst/>
          </a:prstGeom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29320" y="2492280"/>
            <a:ext cx="2318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Sommer 200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Berichterstattu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über die Normi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der Aufgab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59200" y="3573360"/>
            <a:ext cx="0" cy="647640"/>
          </a:xfrm>
          <a:prstGeom prst="line">
            <a:avLst/>
          </a:prstGeom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324000" y="223920"/>
            <a:ext cx="7560000" cy="16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90000" tIns="360000" bIns="46800" anchor="t">
            <a:spAutoFit/>
          </a:bodyPr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Arbeitsstand: Pilotierung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IGLU/PIRLS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9280" y="2266920"/>
            <a:ext cx="8569440" cy="31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390 Schulen mit je einer 3. und einer 4. Kla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In beiden Klassenstu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130 Klassen nur Deutsch (Lesen, Hören, Sprachbetrachtung, Orthografie, freies Schreib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130 Klassen nur Mathematik (alle Leitideen und allgemeinen Kompetenz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130 Klassen Deutsch und Mathematik gemis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80 Minuten Testzeit (2 Schulstund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324000" y="19080"/>
            <a:ext cx="7560000" cy="16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90000" tIns="360000" bIns="46800" anchor="t">
            <a:spAutoFit/>
          </a:bodyPr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Arbeitsstand Mathematik: Pilotierte Aufgaben in IGLU/ PIRLS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9280" y="2266920"/>
            <a:ext cx="8569440" cy="33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478 Aufgaben mit 872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Zahl der berücksichtigten Items: 7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Klasse 3: </a:t>
            </a: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2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Klasse 4: </a:t>
            </a: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4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Klasse 3 u. 4: </a:t>
            </a: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Ein Teil der Items aus V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Ein weiterer Teil der Items aus IGLU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In 2007 werden zusätzliche Items aus TIMSS verfügbar s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-252360" y="0"/>
            <a:ext cx="7777080" cy="16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90000" tIns="3600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Erste vorläufige IRT-Analy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Conquest-Lauf zur Leitidee Daten, Häufigkeit und Zuf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79280" y="2133720"/>
            <a:ext cx="8569440" cy="24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40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a50021"/>
                </a:solidFill>
                <a:latin typeface="Verdana"/>
              </a:rPr>
              <a:t>N</a:t>
            </a: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 = 34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Bestimmung v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Itemschwierigkeiten (logits; </a:t>
            </a:r>
            <a:r>
              <a:rPr b="1" i="1" lang="de-DE" sz="1800" spc="-1" strike="noStrike">
                <a:solidFill>
                  <a:srgbClr val="a50021"/>
                </a:solidFill>
                <a:latin typeface="Verdana"/>
              </a:rPr>
              <a:t>M</a:t>
            </a: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 =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Itemfit-Statisti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Warm-Estimates für die Personen (</a:t>
            </a:r>
            <a:r>
              <a:rPr b="1" i="1" lang="de-DE" sz="1800" spc="-1" strike="noStrike">
                <a:solidFill>
                  <a:srgbClr val="a50021"/>
                </a:solidFill>
                <a:latin typeface="Verdana"/>
              </a:rPr>
              <a:t>M</a:t>
            </a: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 = .3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826920" y="2770200"/>
          <a:ext cx="7490160" cy="41148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6920" y="2770200"/>
                    <a:ext cx="74901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405720" y="2050920"/>
            <a:ext cx="17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a50021"/>
                </a:solidFill>
                <a:latin typeface="Verdana"/>
              </a:rPr>
              <a:t>Itemfitmaß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2360" y="4941720"/>
            <a:ext cx="1439640" cy="14400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252360" y="0"/>
            <a:ext cx="7777080" cy="16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90000" tIns="3600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Erste vorläufige IRT-Analy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Conquest-Lauf zur Leitidee Daten, Häufigkeit und Zuf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22880" y="2050920"/>
            <a:ext cx="344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Itemschwierigkeiten: </a:t>
            </a:r>
            <a:r>
              <a:rPr b="0" i="1" lang="en-US" sz="2000" spc="-1" strike="noStrike">
                <a:solidFill>
                  <a:srgbClr val="a50021"/>
                </a:solidFill>
                <a:latin typeface="Verdana"/>
              </a:rPr>
              <a:t>M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 =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898560" y="2666880"/>
          <a:ext cx="6797520" cy="40687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98560" y="2666880"/>
                    <a:ext cx="679752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-252360" y="0"/>
            <a:ext cx="7777080" cy="16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90000" tIns="3600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Erste vorläufige IRT-Analy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Conquest-Lauf zur Leitidee Daten, Häufigkeit und Zuf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-252360" y="-316080"/>
            <a:ext cx="7777080" cy="11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90000" tIns="3600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Verdana"/>
              </a:rPr>
              <a:t>Conquest-Lauf zur Leitidee Daten, Häufigkeit und Zufall; Verteilung der Schülerfähigk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835280" y="1233360"/>
            <a:ext cx="5624280" cy="5624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284720" y="2060640"/>
            <a:ext cx="0" cy="41767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11:27:48Z</dcterms:created>
  <dc:creator>theband</dc:creator>
  <dc:description/>
  <dc:language>en-US</dc:language>
  <cp:lastModifiedBy>Christiane Roks</cp:lastModifiedBy>
  <dcterms:modified xsi:type="dcterms:W3CDTF">2006-12-18T12:49:08Z</dcterms:modified>
  <cp:revision>69</cp:revision>
  <dc:subject/>
  <dc:title>PowerPoint-Präsentation</dc:title>
</cp:coreProperties>
</file>