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907588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647280" y="746280"/>
            <a:ext cx="5373720" cy="371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1314"/>
                </a:solidFill>
                <a:latin typeface="Arial"/>
              </a:rPr>
              <a:t>Click to move the slide</a:t>
            </a:r>
            <a:endParaRPr b="1" lang="en-US" sz="1400" spc="-1" strike="noStrike">
              <a:solidFill>
                <a:srgbClr val="101314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8840" y="4714560"/>
            <a:ext cx="496584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35E5-A663-4010-A4C9-965DA086BE1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647640" y="746280"/>
            <a:ext cx="5373720" cy="37195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888840" y="4714560"/>
            <a:ext cx="496584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öchte nicht die Diskussion wiederholen, was eine gute Aufgabe is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 „gute Aufgabe“ an sich gibt es nicht. Lege den Fokus auf „CAS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rdings keine akademische Diskussion: Hintergrund NRW Abit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647640" y="746280"/>
            <a:ext cx="5373720" cy="37195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88840" y="4714560"/>
            <a:ext cx="496584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öchte nicht die Diskussion wiederholen, was eine gute Aufgabe is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 „gute Aufgabe“ an sich gibt es nicht. Lege den Fokus auf „CAS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rdings keine akademische Diskussion: Hintergrund NRW Abit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647640" y="746280"/>
            <a:ext cx="5373720" cy="37195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88840" y="4714560"/>
            <a:ext cx="496584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öchte nicht die Diskussion wiederholen, was eine gute Aufgabe is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 „gute Aufgabe“ an sich gibt es nicht. Lege den Fokus auf „CAS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rdings keine akademische Diskussion: Hintergrund NRW Abit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6560" y="3505320"/>
            <a:ext cx="71978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0131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6560" y="3505320"/>
            <a:ext cx="71978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013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6560" y="3505320"/>
            <a:ext cx="71978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0131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6560" y="3505320"/>
            <a:ext cx="71978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0131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6560" y="3505320"/>
            <a:ext cx="71978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0131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6560" y="3505320"/>
            <a:ext cx="71978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0131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6560" y="3505320"/>
            <a:ext cx="71978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0131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6560" y="3505320"/>
            <a:ext cx="7197840" cy="8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6560" y="3505320"/>
            <a:ext cx="71978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0131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6560" y="3505320"/>
            <a:ext cx="71978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0131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6560" y="3505320"/>
            <a:ext cx="71978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0131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6560" y="3505320"/>
            <a:ext cx="71978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0131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6560" y="3505320"/>
            <a:ext cx="71978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0131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6560" y="3505320"/>
            <a:ext cx="71978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0131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6560" y="3505320"/>
            <a:ext cx="71978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0131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6560" y="3505320"/>
            <a:ext cx="71978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0131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6560" y="3505320"/>
            <a:ext cx="71978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0131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6560" y="3505320"/>
            <a:ext cx="71978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0131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6560" y="3505320"/>
            <a:ext cx="7197840" cy="8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6560" y="3505320"/>
            <a:ext cx="71978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0131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6560" y="3505320"/>
            <a:ext cx="71978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0131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6560" y="3505320"/>
            <a:ext cx="71978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0131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-360" y="609480"/>
            <a:ext cx="9906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435040" y="3691080"/>
            <a:ext cx="635148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 algn="just">
              <a:lnSpc>
                <a:spcPts val="1599"/>
              </a:lnSpc>
              <a:buClr>
                <a:srgbClr val="be1d0c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385920" indent="-193680" algn="just">
              <a:lnSpc>
                <a:spcPts val="1599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978200" indent="-228600" algn="just">
              <a:lnSpc>
                <a:spcPts val="1599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2397240" indent="-228600" algn="just">
              <a:lnSpc>
                <a:spcPts val="1599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2397240" indent="-228600" algn="just">
              <a:lnSpc>
                <a:spcPts val="1599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2397240" indent="-228600" algn="just">
              <a:lnSpc>
                <a:spcPts val="1599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-360" y="1676520"/>
            <a:ext cx="9906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5400" y="2154240"/>
            <a:ext cx="4268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1314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101314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502920" y="3733920"/>
            <a:ext cx="196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F814-4DA6-4EF8-824C-C27FAAFF272F}" type="slidenum">
              <a:rPr b="1" lang="en-US" sz="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1" lang="en-US" sz="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15840" y="3429000"/>
            <a:ext cx="9906120" cy="34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be1d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6560" y="3505320"/>
            <a:ext cx="71978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1314"/>
                </a:solidFill>
                <a:latin typeface="Arial"/>
              </a:rPr>
              <a:t>Click to edit the title text format</a:t>
            </a:r>
            <a:endParaRPr b="1" lang="en-US" sz="1400" spc="-1" strike="noStrike">
              <a:solidFill>
                <a:srgbClr val="101314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906120" cy="3452760"/>
          </a:xfrm>
          <a:prstGeom prst="rect">
            <a:avLst/>
          </a:prstGeom>
          <a:solidFill>
            <a:srgbClr val="000080"/>
          </a:solidFill>
          <a:ln w="9360">
            <a:solidFill>
              <a:srgbClr val="be1d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385320" y="6308640"/>
            <a:ext cx="312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. EMSE Tagung, Berlin </a:t>
            </a:r>
            <a:r>
              <a:rPr b="1" lang="en-US" sz="1400" spc="-1" strike="noStrike">
                <a:solidFill>
                  <a:srgbClr val="101314"/>
                </a:solidFill>
                <a:latin typeface="Arial"/>
              </a:rPr>
              <a:t>07.06.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1314"/>
                </a:solidFill>
                <a:latin typeface="Arial"/>
              </a:rPr>
              <a:t>Dobbelste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92240" algn="ctr">
              <a:lnSpc>
                <a:spcPts val="1599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378000" algn="ctr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339840" algn="ctr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33984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33984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8520" y="2506680"/>
            <a:ext cx="9777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rnstandserhebungen / Vergleichsarbei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240" y="3500280"/>
            <a:ext cx="92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 Spannungsfeld von Fachdidaktik und Psychometr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909800" y="286920"/>
            <a:ext cx="6162480" cy="6426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ernstandserhebungen/Vergleichsarbeiten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m Spannungsfeld Fachdidaktik und Psychometri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800520" y="1125360"/>
            <a:ext cx="2172960" cy="2303640"/>
            <a:chOff x="3800520" y="1125360"/>
            <a:chExt cx="2172960" cy="2303640"/>
          </a:xfrm>
        </p:grpSpPr>
        <p:sp>
          <p:nvSpPr>
            <p:cNvPr id="93" name="_s130053"/>
            <p:cNvSpPr/>
            <p:nvPr/>
          </p:nvSpPr>
          <p:spPr>
            <a:xfrm flipV="1">
              <a:off x="4553640" y="1989000"/>
              <a:ext cx="249840" cy="1440000"/>
            </a:xfrm>
            <a:prstGeom prst="line">
              <a:avLst/>
            </a:prstGeom>
            <a:ln w="28440">
              <a:solidFill>
                <a:srgbClr val="303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_s130056"/>
            <p:cNvSpPr/>
            <p:nvPr/>
          </p:nvSpPr>
          <p:spPr>
            <a:xfrm>
              <a:off x="3800520" y="1125360"/>
              <a:ext cx="2172960" cy="887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69696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cc"/>
                  </a:solidFill>
                  <a:latin typeface="Arial"/>
                </a:rPr>
                <a:t>Skalierungs-</a:t>
              </a:r>
              <a:br>
                <a:rPr sz="1400"/>
              </a:br>
              <a:r>
                <a:rPr b="1" lang="de-DE" sz="1400" spc="-1" strike="noStrike">
                  <a:solidFill>
                    <a:srgbClr val="0033cc"/>
                  </a:solidFill>
                  <a:latin typeface="Arial"/>
                </a:rPr>
                <a:t>probleme in bestimmten </a:t>
              </a:r>
              <a:br>
                <a:rPr sz="1400"/>
              </a:br>
              <a:r>
                <a:rPr b="1" lang="de-DE" sz="1400" spc="-1" strike="noStrike">
                  <a:solidFill>
                    <a:srgbClr val="0033cc"/>
                  </a:solidFill>
                  <a:latin typeface="Arial"/>
                </a:rPr>
                <a:t>Domänen des Fa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 rot="10800000">
            <a:off x="8618040" y="1411200"/>
            <a:ext cx="312840" cy="3889440"/>
          </a:xfrm>
          <a:custGeom>
            <a:avLst/>
            <a:gdLst>
              <a:gd name="textAreaLeft" fmla="*/ 199800 w 312840"/>
              <a:gd name="textAreaRight" fmla="*/ 313200 w 312840"/>
              <a:gd name="textAreaTop" fmla="*/ 101160 h 3889440"/>
              <a:gd name="textAreaBottom" fmla="*/ 3788280 h 388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36"/>
                </a:lnTo>
                <a:cubicBezTo>
                  <a:pt x="10800" y="9636"/>
                  <a:pt x="5400" y="10536"/>
                  <a:pt x="0" y="10536"/>
                </a:cubicBezTo>
                <a:cubicBezTo>
                  <a:pt x="5400" y="10536"/>
                  <a:pt x="10800" y="11436"/>
                  <a:pt x="10800" y="1233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4652280" y="3409200"/>
            <a:ext cx="288720" cy="4214880"/>
          </a:xfrm>
          <a:custGeom>
            <a:avLst/>
            <a:gdLst>
              <a:gd name="textAreaLeft" fmla="*/ 184680 w 288720"/>
              <a:gd name="textAreaRight" fmla="*/ 289080 w 288720"/>
              <a:gd name="textAreaTop" fmla="*/ 109800 h 4214880"/>
              <a:gd name="textAreaBottom" fmla="*/ 4105080 h 4214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36600" y="1413000"/>
            <a:ext cx="608040" cy="3889080"/>
            <a:chOff x="336600" y="1413000"/>
            <a:chExt cx="608040" cy="3889080"/>
          </a:xfrm>
        </p:grpSpPr>
        <p:sp>
          <p:nvSpPr>
            <p:cNvPr id="98" name=""/>
            <p:cNvSpPr/>
            <p:nvPr/>
          </p:nvSpPr>
          <p:spPr>
            <a:xfrm>
              <a:off x="631800" y="1413000"/>
              <a:ext cx="312840" cy="3889080"/>
            </a:xfrm>
            <a:custGeom>
              <a:avLst/>
              <a:gdLst>
                <a:gd name="textAreaLeft" fmla="*/ 199800 w 312840"/>
                <a:gd name="textAreaRight" fmla="*/ 313200 w 312840"/>
                <a:gd name="textAreaTop" fmla="*/ 101160 h 3889080"/>
                <a:gd name="textAreaBottom" fmla="*/ 3787920 h 38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6200000">
              <a:off x="-1385640" y="3278160"/>
              <a:ext cx="3673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Testmethodische Standard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 rot="5400000">
            <a:off x="7292880" y="3349440"/>
            <a:ext cx="3673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achdidaktische Standard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46520" y="5734080"/>
            <a:ext cx="397980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chul- und Unterrichtsentwicklung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und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en für Systemsteueru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186520" y="2254320"/>
            <a:ext cx="3433680" cy="1029960"/>
            <a:chOff x="5186520" y="2254320"/>
            <a:chExt cx="3433680" cy="1029960"/>
          </a:xfrm>
        </p:grpSpPr>
        <p:sp>
          <p:nvSpPr>
            <p:cNvPr id="103" name="_s130055"/>
            <p:cNvSpPr/>
            <p:nvPr/>
          </p:nvSpPr>
          <p:spPr>
            <a:xfrm flipV="1">
              <a:off x="5186520" y="2707920"/>
              <a:ext cx="1404720" cy="576360"/>
            </a:xfrm>
            <a:prstGeom prst="line">
              <a:avLst/>
            </a:prstGeom>
            <a:ln w="28440">
              <a:solidFill>
                <a:srgbClr val="303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_s130056"/>
            <p:cNvSpPr/>
            <p:nvPr/>
          </p:nvSpPr>
          <p:spPr>
            <a:xfrm>
              <a:off x="6589800" y="2254320"/>
              <a:ext cx="2030400" cy="887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69696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cc"/>
                  </a:solidFill>
                  <a:latin typeface="Arial"/>
                </a:rPr>
                <a:t>fachl. Gehalt und </a:t>
              </a:r>
              <a:br>
                <a:rPr sz="1400"/>
              </a:br>
              <a:r>
                <a:rPr b="1" lang="de-DE" sz="1400" spc="-1" strike="noStrike">
                  <a:solidFill>
                    <a:srgbClr val="0033cc"/>
                  </a:solidFill>
                  <a:latin typeface="Arial"/>
                </a:rPr>
                <a:t>Anregungspotential </a:t>
              </a:r>
              <a:br>
                <a:rPr sz="1400"/>
              </a:br>
              <a:r>
                <a:rPr b="1" lang="de-DE" sz="1400" spc="-1" strike="noStrike">
                  <a:solidFill>
                    <a:srgbClr val="0033cc"/>
                  </a:solidFill>
                  <a:latin typeface="Arial"/>
                </a:rPr>
                <a:t>von Kompetenzniveau-</a:t>
              </a:r>
              <a:br>
                <a:rPr sz="1400"/>
              </a:br>
              <a:r>
                <a:rPr b="1" lang="de-DE" sz="1400" spc="-1" strike="noStrike">
                  <a:solidFill>
                    <a:srgbClr val="0033cc"/>
                  </a:solidFill>
                  <a:latin typeface="Arial"/>
                </a:rPr>
                <a:t>beschreibung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5030640" y="3500280"/>
            <a:ext cx="3041640" cy="1801800"/>
            <a:chOff x="5030640" y="3500280"/>
            <a:chExt cx="3041640" cy="1801800"/>
          </a:xfrm>
        </p:grpSpPr>
        <p:sp>
          <p:nvSpPr>
            <p:cNvPr id="106" name="_s130057"/>
            <p:cNvSpPr/>
            <p:nvPr/>
          </p:nvSpPr>
          <p:spPr>
            <a:xfrm>
              <a:off x="5030640" y="3500280"/>
              <a:ext cx="1716120" cy="865440"/>
            </a:xfrm>
            <a:prstGeom prst="line">
              <a:avLst/>
            </a:prstGeom>
            <a:ln w="28440">
              <a:solidFill>
                <a:srgbClr val="303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_s130056"/>
            <p:cNvSpPr/>
            <p:nvPr/>
          </p:nvSpPr>
          <p:spPr>
            <a:xfrm>
              <a:off x="5888160" y="4365720"/>
              <a:ext cx="2184120" cy="9363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69696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fachdidaktische </a:t>
              </a:r>
              <a:br>
                <a:rPr sz="1400"/>
              </a:b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Konsensbildu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911240" y="3429000"/>
            <a:ext cx="2730240" cy="1871640"/>
            <a:chOff x="1911240" y="3429000"/>
            <a:chExt cx="2730240" cy="1871640"/>
          </a:xfrm>
        </p:grpSpPr>
        <p:sp>
          <p:nvSpPr>
            <p:cNvPr id="109" name="_s130061"/>
            <p:cNvSpPr/>
            <p:nvPr/>
          </p:nvSpPr>
          <p:spPr>
            <a:xfrm flipH="1">
              <a:off x="3079440" y="3429000"/>
              <a:ext cx="1562040" cy="1035000"/>
            </a:xfrm>
            <a:prstGeom prst="line">
              <a:avLst/>
            </a:prstGeom>
            <a:ln w="28440">
              <a:solidFill>
                <a:srgbClr val="303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_s130056"/>
            <p:cNvSpPr/>
            <p:nvPr/>
          </p:nvSpPr>
          <p:spPr>
            <a:xfrm>
              <a:off x="1911240" y="4363920"/>
              <a:ext cx="2183040" cy="9367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69696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Umgang mit </a:t>
              </a:r>
              <a:br>
                <a:rPr sz="1400"/>
              </a:b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problematischen Items</a:t>
              </a:r>
              <a:br>
                <a:rPr sz="1400"/>
              </a:b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Fachdidaktik: +</a:t>
              </a:r>
              <a:br>
                <a:rPr sz="1400"/>
              </a:b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Psychometrie: 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974880" y="2205000"/>
            <a:ext cx="3666600" cy="1152360"/>
            <a:chOff x="974880" y="2205000"/>
            <a:chExt cx="3666600" cy="1152360"/>
          </a:xfrm>
        </p:grpSpPr>
        <p:sp>
          <p:nvSpPr>
            <p:cNvPr id="112" name="_s130063"/>
            <p:cNvSpPr/>
            <p:nvPr/>
          </p:nvSpPr>
          <p:spPr>
            <a:xfrm flipH="1" flipV="1">
              <a:off x="3079440" y="2997000"/>
              <a:ext cx="1562040" cy="360360"/>
            </a:xfrm>
            <a:prstGeom prst="line">
              <a:avLst/>
            </a:prstGeom>
            <a:ln w="28440">
              <a:solidFill>
                <a:srgbClr val="303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_s130056"/>
            <p:cNvSpPr/>
            <p:nvPr/>
          </p:nvSpPr>
          <p:spPr>
            <a:xfrm>
              <a:off x="974880" y="2205000"/>
              <a:ext cx="2184120" cy="9367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69696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Verständlichkeit und </a:t>
              </a:r>
              <a:br>
                <a:rPr sz="1400"/>
              </a:b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Interpretierbarkeit von </a:t>
              </a:r>
              <a:br>
                <a:rPr sz="1400"/>
              </a:b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Daten in den Kollegi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_s130058"/>
          <p:cNvSpPr/>
          <p:nvPr/>
        </p:nvSpPr>
        <p:spPr>
          <a:xfrm>
            <a:off x="3390840" y="2276640"/>
            <a:ext cx="2965680" cy="165708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be1d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stentwickl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nauswertung/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kalie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ommentierung von Ergebnisse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nweise zum schulische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Umgang mit Ergebnisse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00160" y="404640"/>
            <a:ext cx="9361440" cy="19335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entwickl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enauswertung / Skali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mmentierung von Ergebnissen / Hinweise zum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schulischen Umgang mit Ergebniss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451320"/>
            <a:ext cx="99061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0160" y="3860640"/>
            <a:ext cx="8929440" cy="24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he Rolle spielen jeweils die Fachdidaktik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 die Psychometri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 liegen Konflikte bzw. Problem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he Erfahrungen gibt e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sind die Perspektiv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00160" y="189000"/>
            <a:ext cx="9361440" cy="31759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blau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1 – Input aus Projek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Katrin Böhme – Deutsch, Grundschule, Bildungsstandards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Jana Groß-Ophoff – Deutsch, Vera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Miriam Vock – Englisch, Sek. I, Bildungs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hristoph Nachtigall – Thüringer Kompetenz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ndreas Pallack – Mathematik, LSE 8 (NR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451320"/>
            <a:ext cx="99061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0160" y="3860640"/>
            <a:ext cx="89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Diskussion und Erörterung im Plen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6T20:19:23Z</dcterms:created>
  <dc:creator>Olaf Lensch</dc:creator>
  <dc:description/>
  <dc:language>en-US</dc:language>
  <cp:lastModifiedBy>peter.dobbelstein</cp:lastModifiedBy>
  <cp:lastPrinted>2002-12-10T13:57:30Z</cp:lastPrinted>
  <dcterms:modified xsi:type="dcterms:W3CDTF">2009-10-21T07:15:25Z</dcterms:modified>
  <cp:revision>415</cp:revision>
  <dc:subject/>
  <dc:title>Kein Folientitel</dc:title>
</cp:coreProperties>
</file>